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1B0-E2FD-499E-961A-AFA356F7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C64-8E77-40FF-A165-19C76D8B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490-CA13-4364-A822-036640D3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198-3C5D-4042-8C62-C6FCA0D7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77C-80A7-40A4-BDE8-CC1289B7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62B-F85E-4C78-BC28-198AB929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79D-2A95-477F-8ECB-8D7F87FD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EFF-0DB9-4A84-A85D-42F06B37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38E-A002-408E-8DD6-7D2E2927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A18-E7FD-4312-836C-6A55EB70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607-C6D2-44B9-884E-B5102155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1F1-7588-494E-8251-906A0A4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7F5A-AE1E-4FAD-9065-0A427DD3399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OS Y FORWAR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46120" y="758880"/>
          <a:ext cx="5186520" cy="546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758880"/>
                    <a:ext cx="5186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399960"/>
          <a:ext cx="5599080" cy="645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99960"/>
                    <a:ext cx="55990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43120" y="1440000"/>
          <a:ext cx="5597640" cy="634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440000"/>
                    <a:ext cx="5597640" cy="63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1371600"/>
          <a:ext cx="5599080" cy="4367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1600"/>
                    <a:ext cx="559908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76520" y="1447920"/>
          <a:ext cx="5599080" cy="39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447920"/>
                    <a:ext cx="55990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523880"/>
          <a:ext cx="5599080" cy="659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55990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04880" y="917640"/>
          <a:ext cx="5504040" cy="509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917640"/>
                    <a:ext cx="55040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3440" y="906480"/>
          <a:ext cx="5599080" cy="650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3440" y="906480"/>
                    <a:ext cx="559908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752480"/>
          <a:ext cx="5599080" cy="299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752480"/>
                    <a:ext cx="55990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40000" y="603360"/>
          <a:ext cx="5599080" cy="543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603360"/>
                    <a:ext cx="559908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841400" y="1184400"/>
          <a:ext cx="5461200" cy="534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1400" y="1184400"/>
                    <a:ext cx="5461200" cy="53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815840" y="352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1040" y="1674720"/>
          <a:ext cx="5538600" cy="342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1040" y="1674720"/>
                    <a:ext cx="553860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33600" y="835200"/>
          <a:ext cx="5599080" cy="72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835200"/>
                    <a:ext cx="5599080" cy="72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547280" y="33336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09560" y="849240"/>
          <a:ext cx="5357880" cy="5486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9560" y="849240"/>
                    <a:ext cx="5357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52480" y="685800"/>
          <a:ext cx="5599080" cy="543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90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8:20Z</dcterms:modified>
  <cp:revision>5</cp:revision>
  <dc:subject/>
  <dc:title>Sin título de diapositiva</dc:title>
</cp:coreProperties>
</file>