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A88-EE28-44D8-BE33-23BC72C5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946-8E13-4E65-8832-B84ACACE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9BF-EF14-45AA-99F5-5D7CFC79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9FA-F5AB-4D2E-9E4B-84FF508C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DF4-F5B7-4EEE-9E62-AD03152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299-76AC-4E6F-A3E8-D7D7B5A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85C-7E89-4C51-B7A9-52432DE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8C9-E9A9-4AF4-B62B-E55EE09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18F-87FE-464F-8D1F-0C9658F5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203-88D9-481F-BA81-F18B28A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49B-2A06-4912-9F71-997FE74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897-1653-4AE9-944F-F995949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7475-6014-466C-9ED1-8983D0DF856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OS Y FORWAR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6120" y="758880"/>
          <a:ext cx="5186520" cy="546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758880"/>
                    <a:ext cx="5186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399960"/>
          <a:ext cx="5599080" cy="645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99960"/>
                    <a:ext cx="55990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43120" y="1440000"/>
          <a:ext cx="5597640" cy="634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63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371600"/>
          <a:ext cx="5599080" cy="43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99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1447920"/>
          <a:ext cx="5599080" cy="39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7920"/>
                    <a:ext cx="55990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523880"/>
          <a:ext cx="5599080" cy="659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4880" y="917640"/>
          <a:ext cx="5504040" cy="50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917640"/>
                    <a:ext cx="55040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3440" y="906480"/>
          <a:ext cx="5599080" cy="650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3440" y="906480"/>
                    <a:ext cx="559908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752480"/>
          <a:ext cx="5599080" cy="29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52480"/>
                    <a:ext cx="55990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0000" y="603360"/>
          <a:ext cx="5599080" cy="54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603360"/>
                    <a:ext cx="55990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41400" y="1184400"/>
          <a:ext cx="5461200" cy="534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184400"/>
                    <a:ext cx="5461200" cy="53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815840" y="352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1040" y="1674720"/>
          <a:ext cx="5538600" cy="342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1040" y="1674720"/>
                    <a:ext cx="55386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33600" y="835200"/>
          <a:ext cx="5599080" cy="72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835200"/>
                    <a:ext cx="5599080" cy="72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47280" y="33336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09560" y="849240"/>
          <a:ext cx="535788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849240"/>
                    <a:ext cx="5357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685800"/>
          <a:ext cx="5599080" cy="543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8:20Z</dcterms:modified>
  <cp:revision>5</cp:revision>
  <dc:subject/>
  <dc:title>Sin título de diapositiva</dc:title>
</cp:coreProperties>
</file>