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FA6D-752B-4A5C-AEC7-EF1F933C3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92EA-2C28-4516-B3D5-8E21A59AB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F3FC-CA97-4DD7-9A7B-B898652C0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3581-D476-4735-B59B-8E2815143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4951-1062-44D3-AEEC-4BD67A1B7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9DD8-DDB4-41AC-8E3C-9CB9F0B44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3F47-D0A4-4649-A9C5-E4A548A8D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F1FB-3710-46DA-9018-A1B578465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E783-2477-4FD5-B57D-7C9B00510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2B24-5054-4C44-B73A-13BDEF23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6973-C4EA-4241-A009-F514E70E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CB7D-EA72-444B-9D35-82294C4E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6F48F-6B2A-44BC-83F6-8FD65D87247C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OS Y FORWARD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446120" y="758880"/>
          <a:ext cx="5186520" cy="5467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6120" y="758880"/>
                    <a:ext cx="5186520" cy="54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600200" y="399960"/>
          <a:ext cx="5599080" cy="6458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399960"/>
                    <a:ext cx="5599080" cy="645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743120" y="1440000"/>
          <a:ext cx="5597640" cy="6341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3120" y="1440000"/>
                    <a:ext cx="5597640" cy="63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676520" y="1371600"/>
          <a:ext cx="5599080" cy="4367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1371600"/>
                    <a:ext cx="559908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676520" y="1447920"/>
          <a:ext cx="5599080" cy="3948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1447920"/>
                    <a:ext cx="5599080" cy="39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523880" y="1523880"/>
          <a:ext cx="5599080" cy="6599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523880"/>
                    <a:ext cx="5599080" cy="659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604880" y="917640"/>
          <a:ext cx="5504040" cy="5097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4880" y="917640"/>
                    <a:ext cx="5504040" cy="50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603440" y="906480"/>
          <a:ext cx="5599080" cy="6504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3440" y="906480"/>
                    <a:ext cx="5599080" cy="650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752480"/>
          <a:ext cx="5599080" cy="2997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1752480"/>
                    <a:ext cx="5599080" cy="29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440000" y="603360"/>
          <a:ext cx="5599080" cy="5437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0000" y="603360"/>
                    <a:ext cx="559908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841400" y="1184400"/>
          <a:ext cx="5461200" cy="5344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41400" y="1184400"/>
                    <a:ext cx="5461200" cy="53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1815840" y="352440"/>
            <a:ext cx="14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jemplo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751040" y="1674720"/>
          <a:ext cx="5538600" cy="3425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1040" y="1674720"/>
                    <a:ext cx="5538600" cy="34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533600" y="835200"/>
          <a:ext cx="5599080" cy="7202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33600" y="835200"/>
                    <a:ext cx="5599080" cy="720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1547280" y="333360"/>
            <a:ext cx="14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jemplo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609560" y="849240"/>
          <a:ext cx="5357880" cy="5486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9560" y="849240"/>
                    <a:ext cx="535788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752480" y="685800"/>
          <a:ext cx="5599080" cy="5435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685800"/>
                    <a:ext cx="5599080" cy="54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18:58:18Z</dcterms:created>
  <dc:creator>Universidad de CHile</dc:creator>
  <dc:description/>
  <dc:language>en-US</dc:language>
  <cp:lastModifiedBy>BCCH</cp:lastModifiedBy>
  <dcterms:modified xsi:type="dcterms:W3CDTF">2008-07-23T15:48:20Z</dcterms:modified>
  <cp:revision>5</cp:revision>
  <dc:subject/>
  <dc:title>Sin título de diapositiva</dc:title>
</cp:coreProperties>
</file>