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743E-12F4-4595-AA3C-C02C72CD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CEDC-EF34-400A-A299-90EF09C2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1FE-73DD-461A-BDBE-F40C4DEF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307-CE1B-470A-80F5-453F4C28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6BF2-C84A-49D2-840E-418FE934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CB9F-8FDA-4E47-A5C2-12E9AEB9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C750-7503-4181-8679-B65C934E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4499-667E-42A8-A815-678E4E20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53B2-061F-4D51-BAB9-D42890E1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73DA-017D-4488-9AC2-BCD4A68F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A337-DF69-4EA8-B06F-9A68B1AC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9647-0700-48BB-A731-799844AC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FE61-C96E-4CE3-9E7D-5A502117E5E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758880" y="3962520"/>
          <a:ext cx="7626240" cy="2184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8880" y="3962520"/>
                    <a:ext cx="762624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600200" y="1752480"/>
                <a:ext cx="6248520" cy="324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m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λ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m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30120" y="274320"/>
            <a:ext cx="7616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urva de rendimiento en US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8120" y="5932440"/>
            <a:ext cx="73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Lucida Sans Unicode"/>
              </a:rPr>
              <a:t>Fuente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: Bloomber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76400" y="4195800"/>
            <a:ext cx="7235640" cy="1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76400" y="3710160"/>
            <a:ext cx="7235640" cy="1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76400" y="3224160"/>
            <a:ext cx="7235640" cy="18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76400" y="2738520"/>
            <a:ext cx="7235640" cy="1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76400" y="2252520"/>
            <a:ext cx="7235640" cy="18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76400" y="4683240"/>
            <a:ext cx="7235640" cy="14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076400" y="4683240"/>
            <a:ext cx="144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282760" y="4683240"/>
            <a:ext cx="180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489480" y="4683240"/>
            <a:ext cx="144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694400" y="4683240"/>
            <a:ext cx="144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900760" y="4683240"/>
            <a:ext cx="144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107120" y="4683240"/>
            <a:ext cx="180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8312040" y="4683240"/>
            <a:ext cx="1800" cy="69840"/>
          </a:xfrm>
          <a:prstGeom prst="line">
            <a:avLst/>
          </a:prstGeom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9400" y="2697120"/>
            <a:ext cx="6031080" cy="192240"/>
          </a:xfrm>
          <a:custGeom>
            <a:avLst/>
            <a:gdLst/>
            <a:ahLst/>
            <a:rect l="l" t="t" r="r" b="b"/>
            <a:pathLst>
              <a:path w="550" h="19">
                <a:moveTo>
                  <a:pt x="0" y="4"/>
                </a:moveTo>
                <a:lnTo>
                  <a:pt x="110" y="0"/>
                </a:lnTo>
                <a:lnTo>
                  <a:pt x="220" y="13"/>
                </a:lnTo>
                <a:lnTo>
                  <a:pt x="330" y="19"/>
                </a:lnTo>
                <a:lnTo>
                  <a:pt x="440" y="18"/>
                </a:lnTo>
                <a:lnTo>
                  <a:pt x="550" y="13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9400" y="3000240"/>
            <a:ext cx="6031080" cy="690840"/>
          </a:xfrm>
          <a:custGeom>
            <a:avLst/>
            <a:gdLst/>
            <a:ahLst/>
            <a:rect l="l" t="t" r="r" b="b"/>
            <a:pathLst>
              <a:path w="550" h="68">
                <a:moveTo>
                  <a:pt x="0" y="59"/>
                </a:moveTo>
                <a:lnTo>
                  <a:pt x="110" y="51"/>
                </a:lnTo>
                <a:lnTo>
                  <a:pt x="220" y="68"/>
                </a:lnTo>
                <a:lnTo>
                  <a:pt x="330" y="49"/>
                </a:lnTo>
                <a:lnTo>
                  <a:pt x="440" y="21"/>
                </a:lnTo>
                <a:lnTo>
                  <a:pt x="550" y="0"/>
                </a:ln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9400" y="4400640"/>
            <a:ext cx="1206720" cy="39600"/>
          </a:xfrm>
          <a:custGeom>
            <a:avLst/>
            <a:gdLst/>
            <a:ahLst/>
            <a:rect l="l" t="t" r="r" b="b"/>
            <a:pathLst>
              <a:path w="760" h="24">
                <a:moveTo>
                  <a:pt x="0" y="24"/>
                </a:moveTo>
                <a:lnTo>
                  <a:pt x="380" y="12"/>
                </a:lnTo>
                <a:lnTo>
                  <a:pt x="573" y="0"/>
                </a:lnTo>
                <a:lnTo>
                  <a:pt x="760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86120" y="4400640"/>
            <a:ext cx="1204920" cy="48960"/>
          </a:xfrm>
          <a:custGeom>
            <a:avLst/>
            <a:gdLst/>
            <a:ahLst/>
            <a:rect l="l" t="t" r="r" b="b"/>
            <a:pathLst>
              <a:path w="759" h="30">
                <a:moveTo>
                  <a:pt x="0" y="0"/>
                </a:moveTo>
                <a:lnTo>
                  <a:pt x="96" y="0"/>
                </a:lnTo>
                <a:lnTo>
                  <a:pt x="186" y="6"/>
                </a:lnTo>
                <a:lnTo>
                  <a:pt x="380" y="24"/>
                </a:lnTo>
                <a:lnTo>
                  <a:pt x="476" y="30"/>
                </a:lnTo>
                <a:lnTo>
                  <a:pt x="573" y="30"/>
                </a:lnTo>
                <a:lnTo>
                  <a:pt x="663" y="30"/>
                </a:lnTo>
                <a:lnTo>
                  <a:pt x="759" y="18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91040" y="3994200"/>
            <a:ext cx="1206360" cy="434880"/>
          </a:xfrm>
          <a:custGeom>
            <a:avLst/>
            <a:gdLst/>
            <a:ahLst/>
            <a:rect l="l" t="t" r="r" b="b"/>
            <a:pathLst>
              <a:path w="760" h="265">
                <a:moveTo>
                  <a:pt x="0" y="265"/>
                </a:moveTo>
                <a:lnTo>
                  <a:pt x="97" y="247"/>
                </a:lnTo>
                <a:lnTo>
                  <a:pt x="187" y="222"/>
                </a:lnTo>
                <a:lnTo>
                  <a:pt x="284" y="191"/>
                </a:lnTo>
                <a:lnTo>
                  <a:pt x="380" y="154"/>
                </a:lnTo>
                <a:lnTo>
                  <a:pt x="574" y="80"/>
                </a:lnTo>
                <a:lnTo>
                  <a:pt x="760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97400" y="3457440"/>
            <a:ext cx="1206720" cy="536760"/>
          </a:xfrm>
          <a:custGeom>
            <a:avLst/>
            <a:gdLst/>
            <a:ahLst/>
            <a:rect l="l" t="t" r="r" b="b"/>
            <a:pathLst>
              <a:path w="760" h="327">
                <a:moveTo>
                  <a:pt x="0" y="327"/>
                </a:moveTo>
                <a:lnTo>
                  <a:pt x="187" y="247"/>
                </a:lnTo>
                <a:lnTo>
                  <a:pt x="380" y="166"/>
                </a:lnTo>
                <a:lnTo>
                  <a:pt x="573" y="80"/>
                </a:lnTo>
                <a:lnTo>
                  <a:pt x="760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04120" y="2971800"/>
            <a:ext cx="1206360" cy="485640"/>
          </a:xfrm>
          <a:custGeom>
            <a:avLst/>
            <a:gdLst/>
            <a:ahLst/>
            <a:rect l="l" t="t" r="r" b="b"/>
            <a:pathLst>
              <a:path w="760" h="296">
                <a:moveTo>
                  <a:pt x="0" y="296"/>
                </a:moveTo>
                <a:lnTo>
                  <a:pt x="380" y="148"/>
                </a:lnTo>
                <a:lnTo>
                  <a:pt x="760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1160" y="4551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1160" y="40654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1160" y="35798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160" y="309240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160" y="26067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160" y="21207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76840" y="4863960"/>
            <a:ext cx="81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 me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83560" y="4863960"/>
            <a:ext cx="81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6 me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92160" y="4863960"/>
            <a:ext cx="64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2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98880" y="4863960"/>
            <a:ext cx="64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5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33600" y="4863960"/>
            <a:ext cx="76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1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40320" y="4863960"/>
            <a:ext cx="76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39680" y="5504040"/>
            <a:ext cx="23364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88880" y="5362560"/>
            <a:ext cx="184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29 Diciembre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65520" y="5504040"/>
            <a:ext cx="233280" cy="144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14360" y="5362560"/>
            <a:ext cx="184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31 Diciembre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62560" y="5494320"/>
            <a:ext cx="2336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16800" y="5362560"/>
            <a:ext cx="131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7 Marzo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80" y="1413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546200" y="398520"/>
          <a:ext cx="5537160" cy="515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6200" y="398520"/>
                    <a:ext cx="55371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981080" y="1600200"/>
            <a:ext cx="64008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674720" y="404640"/>
          <a:ext cx="5537160" cy="606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4720" y="404640"/>
                    <a:ext cx="553716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057400" y="1523880"/>
          <a:ext cx="6705720" cy="465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1523880"/>
                    <a:ext cx="670572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600200" y="1413000"/>
          <a:ext cx="5599080" cy="5064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413000"/>
                    <a:ext cx="559908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671120" y="42552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pto de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447920" y="1523880"/>
          <a:ext cx="6202080" cy="784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523880"/>
                    <a:ext cx="620208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752480" y="3124080"/>
          <a:ext cx="5597640" cy="557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3124080"/>
                    <a:ext cx="55976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666880" y="4114800"/>
                <a:ext cx="350532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1671120" y="42552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pto de D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523880" y="609480"/>
          <a:ext cx="5599080" cy="3670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609480"/>
                    <a:ext cx="5599080" cy="36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295280" y="4572000"/>
                <a:ext cx="638820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sup>
                        </m:sSup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sup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219320" y="404640"/>
          <a:ext cx="5599080" cy="557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04640"/>
                    <a:ext cx="55990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752480" y="1752480"/>
          <a:ext cx="4419720" cy="9622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52480" y="1752480"/>
                    <a:ext cx="441972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447920" y="3429000"/>
          <a:ext cx="5599080" cy="3135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47920" y="3429000"/>
                    <a:ext cx="5599080" cy="31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24000" y="1413000"/>
          <a:ext cx="8424720" cy="4384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413000"/>
                    <a:ext cx="8424720" cy="43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692360" y="3333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volución de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prea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ecio de “Bonos largos” es más sensible a cambios en las tasa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Concepto de “Duración” da cuenta de este fenóme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uración de un instrumento de renta fija es un promedio ponderado de los períodos en que los pagos del bono son hech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00200" y="533520"/>
          <a:ext cx="5599080" cy="4506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533520"/>
                    <a:ext cx="559908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743200" y="5105520"/>
                <a:ext cx="289548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uración de un instrumento de renta fija es un promedio ponderado de los períodos en que los pagos del bono son hech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ponderadores están dados por el valor presente de los flujos individu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666880" y="3200400"/>
                <a:ext cx="3581640" cy="280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k</m:t>
                                        </m:r>
                                      </m:num>
                                      <m:den>
                                        <m:r>
                                          <m:t xml:space="preserve">m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nary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V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λ</m:t>
                            </m:r>
                            <m:r>
                              <m:t xml:space="preserve">/</m:t>
                            </m:r>
                            <m:r>
                              <m:t xml:space="preserve">m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83808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uración de Macau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órmula de sensibilidad del pre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048120" y="3325680"/>
          <a:ext cx="2286000" cy="106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3325680"/>
                    <a:ext cx="228600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4343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de 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la duración modific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5535720"/>
          <a:ext cx="8686800" cy="484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5535720"/>
                    <a:ext cx="86868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uración de un portafolio se calcula como la duración ponderada de cada bono individ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inmunización de un portafolio corresponderá a la estructuración de un portafolio de bonos, tal que quede protegido ante el riesgo de tasa de interé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 medida que transcurre el tiempo es necesario ir rebalanceando o reimmunizando el portafol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concepto de duración considera un aproximación lineal de la curva precio-tasa de interés. Una mejor aproximación requiere considerar el término de segundo orden o convexidad de la cur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lo tanto, construimos un portafoilio que además controle por convex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3200400" y="2647800"/>
          <a:ext cx="2286000" cy="130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647800"/>
                    <a:ext cx="228600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xid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cambio de precio en un bono podrá ser aproximado por la ecu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560" y="990720"/>
            <a:ext cx="8839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efinición de duración que hemos desarrollado ignora la existencia de una curva de retorno ¿es ello realis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uración Fisher-Weil incorpora el hecho de que la tasa de retorno es función del período consider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752480" y="1828800"/>
                <a:ext cx="55627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PΔλ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λ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Duración Fisher-Weil supone una composición continua de tasas de interés. Al suponer una composición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veces por año, definimos la duración cuasi-modific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umiendo, se construye un portafolio, tomando posiciones en los bonos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, tal que balanceamos respecto a precio, duración y convex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mun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393920" y="2362320"/>
                <a:ext cx="6530760" cy="411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´</m:t>
                        </m:r>
                        <m:r>
                          <m:t xml:space="preserve">D</m:t>
                        </m:r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´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752480" y="838080"/>
          <a:ext cx="5599080" cy="51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838080"/>
                    <a:ext cx="55990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133720" y="1523880"/>
          <a:ext cx="5086080" cy="733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1523880"/>
                    <a:ext cx="508608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600200" y="2743200"/>
          <a:ext cx="5599080" cy="3135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00200" y="2743200"/>
                    <a:ext cx="5599080" cy="31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600200" y="1219320"/>
          <a:ext cx="6119640" cy="6156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219320"/>
                    <a:ext cx="611964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600200" y="1143000"/>
          <a:ext cx="6119640" cy="6156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143000"/>
                    <a:ext cx="6119640" cy="61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752480" y="533520"/>
          <a:ext cx="5597640" cy="664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533520"/>
                    <a:ext cx="5597640" cy="66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440000" y="1138320"/>
          <a:ext cx="5738760" cy="2509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000" y="1138320"/>
                    <a:ext cx="5738760" cy="25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066680" y="878040"/>
          <a:ext cx="7086600" cy="527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878040"/>
                    <a:ext cx="7086600" cy="52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676520" y="685800"/>
          <a:ext cx="5599080" cy="5505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685800"/>
                    <a:ext cx="55990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66680" y="1208160"/>
          <a:ext cx="6934320" cy="4905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08160"/>
                    <a:ext cx="693432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8-07-23T15:41:44Z</dcterms:modified>
  <cp:revision>18</cp:revision>
  <dc:subject/>
  <dc:title>Sin título de diapositiva</dc:title>
</cp:coreProperties>
</file>