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330-3FD6-4782-A83F-A597897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A9B-2CE2-4D0B-AAED-3A971D5D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D70-ACD2-44BB-A339-58AF033E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7D3-8570-4A0F-A229-8CC8947A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1C9-4D14-4E01-8BA1-8A77D29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C1C-0AD7-430B-9779-AA5D3104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8DE-49AC-4273-97AB-2CE84B6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655-0024-4D32-BFEA-DF7B7119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A32-486B-46B4-8AD0-AC86F5A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3CD-F920-4CF1-AFA8-B171D84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896-10B4-4AB2-9A99-47B4E6D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62F-10D9-4B13-A5A5-89A9349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94B0-4656-4CCF-A8D8-2E6D4F7081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58880" y="3962520"/>
          <a:ext cx="7626240" cy="2184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62520"/>
                    <a:ext cx="76262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752480"/>
                <a:ext cx="6248520" cy="32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120" y="274320"/>
            <a:ext cx="761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urva de rendimiento e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120" y="5932440"/>
            <a:ext cx="73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6400" y="419580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76400" y="371016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322416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273852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225252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6400" y="4683240"/>
            <a:ext cx="7235640" cy="14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76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276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8948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4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0076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0712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1204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9400" y="2697120"/>
            <a:ext cx="6031080" cy="192240"/>
          </a:xfrm>
          <a:custGeom>
            <a:avLst/>
            <a:gdLst/>
            <a:ahLst/>
            <a:rect l="l" t="t" r="r" b="b"/>
            <a:pathLst>
              <a:path w="550" h="19">
                <a:moveTo>
                  <a:pt x="0" y="4"/>
                </a:moveTo>
                <a:lnTo>
                  <a:pt x="110" y="0"/>
                </a:lnTo>
                <a:lnTo>
                  <a:pt x="220" y="13"/>
                </a:lnTo>
                <a:lnTo>
                  <a:pt x="330" y="19"/>
                </a:lnTo>
                <a:lnTo>
                  <a:pt x="440" y="18"/>
                </a:lnTo>
                <a:lnTo>
                  <a:pt x="550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9400" y="3000240"/>
            <a:ext cx="6031080" cy="690840"/>
          </a:xfrm>
          <a:custGeom>
            <a:avLst/>
            <a:gdLst/>
            <a:ahLst/>
            <a:rect l="l" t="t" r="r" b="b"/>
            <a:pathLst>
              <a:path w="550" h="68">
                <a:moveTo>
                  <a:pt x="0" y="59"/>
                </a:moveTo>
                <a:lnTo>
                  <a:pt x="110" y="51"/>
                </a:lnTo>
                <a:lnTo>
                  <a:pt x="220" y="68"/>
                </a:lnTo>
                <a:lnTo>
                  <a:pt x="330" y="49"/>
                </a:lnTo>
                <a:lnTo>
                  <a:pt x="440" y="21"/>
                </a:lnTo>
                <a:lnTo>
                  <a:pt x="550" y="0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9400" y="4400640"/>
            <a:ext cx="1206720" cy="39600"/>
          </a:xfrm>
          <a:custGeom>
            <a:avLst/>
            <a:gdLst/>
            <a:ahLst/>
            <a:rect l="l" t="t" r="r" b="b"/>
            <a:pathLst>
              <a:path w="760" h="24">
                <a:moveTo>
                  <a:pt x="0" y="24"/>
                </a:moveTo>
                <a:lnTo>
                  <a:pt x="380" y="12"/>
                </a:lnTo>
                <a:lnTo>
                  <a:pt x="573" y="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6120" y="4400640"/>
            <a:ext cx="1204920" cy="48960"/>
          </a:xfrm>
          <a:custGeom>
            <a:avLst/>
            <a:gdLst/>
            <a:ahLst/>
            <a:rect l="l" t="t" r="r" b="b"/>
            <a:pathLst>
              <a:path w="759" h="30">
                <a:moveTo>
                  <a:pt x="0" y="0"/>
                </a:moveTo>
                <a:lnTo>
                  <a:pt x="96" y="0"/>
                </a:lnTo>
                <a:lnTo>
                  <a:pt x="186" y="6"/>
                </a:lnTo>
                <a:lnTo>
                  <a:pt x="380" y="24"/>
                </a:lnTo>
                <a:lnTo>
                  <a:pt x="476" y="30"/>
                </a:lnTo>
                <a:lnTo>
                  <a:pt x="573" y="30"/>
                </a:lnTo>
                <a:lnTo>
                  <a:pt x="663" y="30"/>
                </a:lnTo>
                <a:lnTo>
                  <a:pt x="759" y="1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3994200"/>
            <a:ext cx="1206360" cy="434880"/>
          </a:xfrm>
          <a:custGeom>
            <a:avLst/>
            <a:gdLst/>
            <a:ahLst/>
            <a:rect l="l" t="t" r="r" b="b"/>
            <a:pathLst>
              <a:path w="760" h="265">
                <a:moveTo>
                  <a:pt x="0" y="265"/>
                </a:moveTo>
                <a:lnTo>
                  <a:pt x="97" y="247"/>
                </a:lnTo>
                <a:lnTo>
                  <a:pt x="187" y="222"/>
                </a:lnTo>
                <a:lnTo>
                  <a:pt x="284" y="191"/>
                </a:lnTo>
                <a:lnTo>
                  <a:pt x="380" y="154"/>
                </a:lnTo>
                <a:lnTo>
                  <a:pt x="574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7400" y="3457440"/>
            <a:ext cx="1206720" cy="536760"/>
          </a:xfrm>
          <a:custGeom>
            <a:avLst/>
            <a:gdLst/>
            <a:ahLst/>
            <a:rect l="l" t="t" r="r" b="b"/>
            <a:pathLst>
              <a:path w="760" h="327">
                <a:moveTo>
                  <a:pt x="0" y="327"/>
                </a:moveTo>
                <a:lnTo>
                  <a:pt x="187" y="247"/>
                </a:lnTo>
                <a:lnTo>
                  <a:pt x="380" y="166"/>
                </a:lnTo>
                <a:lnTo>
                  <a:pt x="573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4120" y="2971800"/>
            <a:ext cx="1206360" cy="485640"/>
          </a:xfrm>
          <a:custGeom>
            <a:avLst/>
            <a:gdLst/>
            <a:ahLst/>
            <a:rect l="l" t="t" r="r" b="b"/>
            <a:pathLst>
              <a:path w="760" h="296">
                <a:moveTo>
                  <a:pt x="0" y="296"/>
                </a:moveTo>
                <a:lnTo>
                  <a:pt x="380" y="148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160" y="4551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160" y="4065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160" y="3579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60" y="309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60" y="2606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60" y="2120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684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356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16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888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032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5504040"/>
            <a:ext cx="233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888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9 Dici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5520" y="5504040"/>
            <a:ext cx="233280" cy="14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36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 Dic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2560" y="5494320"/>
            <a:ext cx="233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6800" y="5362560"/>
            <a:ext cx="13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7 Marz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80" y="14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6200" y="398520"/>
          <a:ext cx="5537160" cy="51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98520"/>
                    <a:ext cx="553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1600200"/>
            <a:ext cx="6400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4720" y="404640"/>
          <a:ext cx="5537160" cy="60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4720" y="404640"/>
                    <a:ext cx="5537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57400" y="1523880"/>
          <a:ext cx="6705720" cy="46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523880"/>
                    <a:ext cx="670572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00200" y="1413000"/>
          <a:ext cx="559908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13000"/>
                    <a:ext cx="55990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447920" y="1523880"/>
          <a:ext cx="6202080" cy="78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3880"/>
                    <a:ext cx="6202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52480" y="3124080"/>
          <a:ext cx="5597640" cy="557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124080"/>
                    <a:ext cx="5597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4114800"/>
                <a:ext cx="35053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3880" y="609480"/>
          <a:ext cx="5599080" cy="367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5599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4572000"/>
                <a:ext cx="63882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19320" y="404640"/>
          <a:ext cx="5599080" cy="5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04640"/>
                    <a:ext cx="5599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52480" y="1752480"/>
          <a:ext cx="4419720" cy="962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752480"/>
                    <a:ext cx="44197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47920" y="34290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4290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413000"/>
          <a:ext cx="8424720" cy="43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9236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volución de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cio de “Bonos largos” es más sensible a cambios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de “Duración” da cuenta de este fenóm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533520"/>
          <a:ext cx="5599080" cy="450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520"/>
                    <a:ext cx="55990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5105520"/>
                <a:ext cx="2895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onderadores están dados por el valor presente de los flujos individ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200400"/>
                <a:ext cx="3581640" cy="28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r>
                                          <m:t xml:space="preserve">m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uración de Macau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órmula de sensibilidad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3325680"/>
          <a:ext cx="228600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325680"/>
                    <a:ext cx="22860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duración mod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5535720"/>
          <a:ext cx="8686800" cy="484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535720"/>
                    <a:ext cx="8686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de un portafolio se calcula como la duración ponderada de cada bono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munización de un portafolio corresponderá a la estructuración de un portafolio de bonos, tal que quede protegido ante el riesgo de tasa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edida que transcurre el tiempo es necesario ir rebalanceando o reimmunizando el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cepto de duración considera un aproximación lineal de la curva precio-tasa de interés. Una mejor aproximación requiere considerar el término de segundo orden o convexidad de la cu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construimos un portafoilio que además controle por convex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647800"/>
          <a:ext cx="2286000" cy="130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64780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ambio de precio en un bono podrá ser aproximado por la ec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finición de duración que hemos desarrollado ignora la existencia de una curva de retorno ¿es ello re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incorpora el hecho de que la tasa de retorno es función del período consi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1828800"/>
                <a:ext cx="55627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PΔλ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λ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supone una composición continua de tasas de interés. Al suponer una composi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veces por año, definimos la duración cuasi-mod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iendo, se construye un portafolio, tomando posiciones en los bonos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tal que balanceamos respecto a precio, duración y convex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93920" y="2362320"/>
                <a:ext cx="65307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D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83808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83808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1523880"/>
          <a:ext cx="5086080" cy="73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523880"/>
                    <a:ext cx="5086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00200" y="27432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7432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121932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114300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4300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2480" y="533520"/>
          <a:ext cx="5597640" cy="664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59764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0000" y="1138320"/>
          <a:ext cx="5738760" cy="250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138320"/>
                    <a:ext cx="57387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878040"/>
          <a:ext cx="7086600" cy="527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878040"/>
                    <a:ext cx="70866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76520" y="685800"/>
          <a:ext cx="5599080" cy="550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5800"/>
                    <a:ext cx="55990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66680" y="1208160"/>
          <a:ext cx="6934320" cy="49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08160"/>
                    <a:ext cx="6934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1:44Z</dcterms:modified>
  <cp:revision>18</cp:revision>
  <dc:subject/>
  <dc:title>Sin título de diapositiva</dc:title>
</cp:coreProperties>
</file>