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3.wmf" ContentType="image/x-wmf"/>
  <Override PartName="/ppt/media/image26.wmf" ContentType="image/x-wmf"/>
  <Override PartName="/ppt/media/image2.jpeg" ContentType="image/jpe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png" ContentType="image/png"/>
  <Override PartName="/ppt/media/image17.wmf" ContentType="image/x-wmf"/>
  <Override PartName="/ppt/media/image16.png" ContentType="image/png"/>
  <Override PartName="/ppt/media/image1.jpeg" ContentType="image/jpeg"/>
  <Override PartName="/ppt/media/image15.wmf" ContentType="image/x-wmf"/>
  <Override PartName="/ppt/media/image4.wmf" ContentType="image/x-wmf"/>
  <Override PartName="/ppt/media/image27.wmf" ContentType="image/x-wmf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F9EF-D364-4523-9AAD-F0A8BF417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24D7-BA7F-4049-A780-DEAC2BA14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D96E-24D3-46F7-A44D-A4ED80AE9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4078-AC90-4903-B024-95A9B4D92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3D39-1DB7-40DB-B4AC-411F83ADF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FFDE-66CA-40FA-8D75-18ECDE7F0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09EC-9AF5-41D9-801E-9901DA854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EC13-43D1-43CB-9424-0B7C30355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A7DF-7B36-46F3-B1B3-B7A549AF7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6752-4A3A-4118-88B8-F75298B9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F402-8B4D-4864-8FF1-3D046FAE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FD90-9AE0-4341-A72D-C0558F97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DB812-BC9F-408D-838C-E21101B1341B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package" Target="../embeddings/oleObject1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5.wmf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0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3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4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25.wmf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6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758880" y="3962520"/>
          <a:ext cx="7626240" cy="2184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8880" y="3962520"/>
                    <a:ext cx="762624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600200" y="1752480"/>
                <a:ext cx="6248520" cy="324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λ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C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λ</m:t>
                                    </m:r>
                                  </m:num>
                                  <m:den>
                                    <m:r>
                                      <m:t xml:space="preserve">m</m:t>
                                    </m:r>
                                  </m:den>
                                </m:f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k</m:t>
                                    </m:r>
                                  </m:sup>
                                </m:sSup>
                              </m:den>
                            </m:f>
                          </m:e>
                        </m:nary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λ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λ</m:t>
                                    </m:r>
                                  </m:num>
                                  <m:den>
                                    <m:r>
                                      <m:t xml:space="preserve">m</m:t>
                                    </m:r>
                                  </m:den>
                                </m:f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30120" y="274320"/>
            <a:ext cx="7616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Curva de rendimiento en US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38120" y="5932440"/>
            <a:ext cx="735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Fuente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: Bloomber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76400" y="4195800"/>
            <a:ext cx="7235640" cy="14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76400" y="3710160"/>
            <a:ext cx="7235640" cy="14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76400" y="3224160"/>
            <a:ext cx="7235640" cy="18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76400" y="2738520"/>
            <a:ext cx="7235640" cy="14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76400" y="2252520"/>
            <a:ext cx="7235640" cy="18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76400" y="4683240"/>
            <a:ext cx="7235640" cy="144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076400" y="4683240"/>
            <a:ext cx="1440" cy="6984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282760" y="4683240"/>
            <a:ext cx="1800" cy="6984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489480" y="4683240"/>
            <a:ext cx="1440" cy="6984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694400" y="4683240"/>
            <a:ext cx="1440" cy="6984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900760" y="4683240"/>
            <a:ext cx="1440" cy="6984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7107120" y="4683240"/>
            <a:ext cx="1800" cy="6984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8312040" y="4683240"/>
            <a:ext cx="1800" cy="6984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79400" y="2697120"/>
            <a:ext cx="6031080" cy="192240"/>
          </a:xfrm>
          <a:custGeom>
            <a:avLst/>
            <a:gdLst/>
            <a:ahLst/>
            <a:rect l="l" t="t" r="r" b="b"/>
            <a:pathLst>
              <a:path w="550" h="19">
                <a:moveTo>
                  <a:pt x="0" y="4"/>
                </a:moveTo>
                <a:lnTo>
                  <a:pt x="110" y="0"/>
                </a:lnTo>
                <a:lnTo>
                  <a:pt x="220" y="13"/>
                </a:lnTo>
                <a:lnTo>
                  <a:pt x="330" y="19"/>
                </a:lnTo>
                <a:lnTo>
                  <a:pt x="440" y="18"/>
                </a:lnTo>
                <a:lnTo>
                  <a:pt x="550" y="13"/>
                </a:ln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79400" y="3000240"/>
            <a:ext cx="6031080" cy="690840"/>
          </a:xfrm>
          <a:custGeom>
            <a:avLst/>
            <a:gdLst/>
            <a:ahLst/>
            <a:rect l="l" t="t" r="r" b="b"/>
            <a:pathLst>
              <a:path w="550" h="68">
                <a:moveTo>
                  <a:pt x="0" y="59"/>
                </a:moveTo>
                <a:lnTo>
                  <a:pt x="110" y="51"/>
                </a:lnTo>
                <a:lnTo>
                  <a:pt x="220" y="68"/>
                </a:lnTo>
                <a:lnTo>
                  <a:pt x="330" y="49"/>
                </a:lnTo>
                <a:lnTo>
                  <a:pt x="440" y="21"/>
                </a:lnTo>
                <a:lnTo>
                  <a:pt x="550" y="0"/>
                </a:ln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79400" y="4400640"/>
            <a:ext cx="1206720" cy="39600"/>
          </a:xfrm>
          <a:custGeom>
            <a:avLst/>
            <a:gdLst/>
            <a:ahLst/>
            <a:rect l="l" t="t" r="r" b="b"/>
            <a:pathLst>
              <a:path w="760" h="24">
                <a:moveTo>
                  <a:pt x="0" y="24"/>
                </a:moveTo>
                <a:lnTo>
                  <a:pt x="380" y="12"/>
                </a:lnTo>
                <a:lnTo>
                  <a:pt x="573" y="0"/>
                </a:lnTo>
                <a:lnTo>
                  <a:pt x="760" y="0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86120" y="4400640"/>
            <a:ext cx="1204920" cy="48960"/>
          </a:xfrm>
          <a:custGeom>
            <a:avLst/>
            <a:gdLst/>
            <a:ahLst/>
            <a:rect l="l" t="t" r="r" b="b"/>
            <a:pathLst>
              <a:path w="759" h="30">
                <a:moveTo>
                  <a:pt x="0" y="0"/>
                </a:moveTo>
                <a:lnTo>
                  <a:pt x="96" y="0"/>
                </a:lnTo>
                <a:lnTo>
                  <a:pt x="186" y="6"/>
                </a:lnTo>
                <a:lnTo>
                  <a:pt x="380" y="24"/>
                </a:lnTo>
                <a:lnTo>
                  <a:pt x="476" y="30"/>
                </a:lnTo>
                <a:lnTo>
                  <a:pt x="573" y="30"/>
                </a:lnTo>
                <a:lnTo>
                  <a:pt x="663" y="30"/>
                </a:lnTo>
                <a:lnTo>
                  <a:pt x="759" y="18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091040" y="3994200"/>
            <a:ext cx="1206360" cy="434880"/>
          </a:xfrm>
          <a:custGeom>
            <a:avLst/>
            <a:gdLst/>
            <a:ahLst/>
            <a:rect l="l" t="t" r="r" b="b"/>
            <a:pathLst>
              <a:path w="760" h="265">
                <a:moveTo>
                  <a:pt x="0" y="265"/>
                </a:moveTo>
                <a:lnTo>
                  <a:pt x="97" y="247"/>
                </a:lnTo>
                <a:lnTo>
                  <a:pt x="187" y="222"/>
                </a:lnTo>
                <a:lnTo>
                  <a:pt x="284" y="191"/>
                </a:lnTo>
                <a:lnTo>
                  <a:pt x="380" y="154"/>
                </a:lnTo>
                <a:lnTo>
                  <a:pt x="574" y="80"/>
                </a:lnTo>
                <a:lnTo>
                  <a:pt x="760" y="0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297400" y="3457440"/>
            <a:ext cx="1206720" cy="536760"/>
          </a:xfrm>
          <a:custGeom>
            <a:avLst/>
            <a:gdLst/>
            <a:ahLst/>
            <a:rect l="l" t="t" r="r" b="b"/>
            <a:pathLst>
              <a:path w="760" h="327">
                <a:moveTo>
                  <a:pt x="0" y="327"/>
                </a:moveTo>
                <a:lnTo>
                  <a:pt x="187" y="247"/>
                </a:lnTo>
                <a:lnTo>
                  <a:pt x="380" y="166"/>
                </a:lnTo>
                <a:lnTo>
                  <a:pt x="573" y="80"/>
                </a:lnTo>
                <a:lnTo>
                  <a:pt x="760" y="0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04120" y="2971800"/>
            <a:ext cx="1206360" cy="485640"/>
          </a:xfrm>
          <a:custGeom>
            <a:avLst/>
            <a:gdLst/>
            <a:ahLst/>
            <a:rect l="l" t="t" r="r" b="b"/>
            <a:pathLst>
              <a:path w="760" h="296">
                <a:moveTo>
                  <a:pt x="0" y="296"/>
                </a:moveTo>
                <a:lnTo>
                  <a:pt x="380" y="148"/>
                </a:lnTo>
                <a:lnTo>
                  <a:pt x="760" y="0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31160" y="455148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31160" y="406548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31160" y="357984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31160" y="309240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31160" y="260676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1160" y="212076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76840" y="4863960"/>
            <a:ext cx="811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3 me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83560" y="4863960"/>
            <a:ext cx="811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6 me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92160" y="4863960"/>
            <a:ext cx="649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2 a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98880" y="4863960"/>
            <a:ext cx="649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5 a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33600" y="4863960"/>
            <a:ext cx="765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10 a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40320" y="4863960"/>
            <a:ext cx="765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30 a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39680" y="5504040"/>
            <a:ext cx="23364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88880" y="5362560"/>
            <a:ext cx="1840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29 Diciembre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65520" y="5504040"/>
            <a:ext cx="233280" cy="1440"/>
          </a:xfrm>
          <a:prstGeom prst="line">
            <a:avLst/>
          </a:prstGeom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014360" y="5362560"/>
            <a:ext cx="1840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31 Diciembre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262560" y="5494320"/>
            <a:ext cx="23364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616800" y="5362560"/>
            <a:ext cx="1314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7 Marzo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1080" y="14130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1546200" y="398520"/>
          <a:ext cx="5537160" cy="515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6200" y="398520"/>
                    <a:ext cx="553716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1981080" y="1600200"/>
            <a:ext cx="640080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1674720" y="404640"/>
          <a:ext cx="5537160" cy="606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4720" y="404640"/>
                    <a:ext cx="553716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2057400" y="1523880"/>
          <a:ext cx="6705720" cy="4653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7400" y="1523880"/>
                    <a:ext cx="6705720" cy="46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1600200" y="1413000"/>
          <a:ext cx="5599080" cy="5064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1413000"/>
                    <a:ext cx="5599080" cy="506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1671120" y="425520"/>
            <a:ext cx="29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cepto de D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1447920" y="1523880"/>
          <a:ext cx="6202080" cy="784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1523880"/>
                    <a:ext cx="6202080" cy="7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1752480" y="3124080"/>
          <a:ext cx="5597640" cy="5572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52480" y="3124080"/>
                    <a:ext cx="559764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666880" y="4114800"/>
                <a:ext cx="3505320" cy="14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k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λ</m:t>
                            </m:r>
                            <m:r>
                              <m:t xml:space="preserve">/</m:t>
                            </m:r>
                            <m:r>
                              <m:t xml:space="preserve">m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1671120" y="425520"/>
            <a:ext cx="29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cepto de D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1523880" y="609480"/>
          <a:ext cx="5599080" cy="3670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609480"/>
                    <a:ext cx="5599080" cy="36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295280" y="4572000"/>
                <a:ext cx="6388200" cy="12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sup>
                        </m:sSup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sup>
                          <m:e>
                            <m:f>
                              <m:num>
                                <m:r>
                                  <m:t xml:space="preserve">k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5</m:t>
                            </m:r>
                            <m:r>
                              <m:t xml:space="preserve">×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5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37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1219320" y="404640"/>
          <a:ext cx="5599080" cy="5572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404640"/>
                    <a:ext cx="559908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752480" y="1752480"/>
          <a:ext cx="4419720" cy="9622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52480" y="1752480"/>
                    <a:ext cx="4419720" cy="9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447920" y="3429000"/>
          <a:ext cx="5599080" cy="31352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47920" y="3429000"/>
                    <a:ext cx="5599080" cy="31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324000" y="1413000"/>
          <a:ext cx="8424720" cy="4384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413000"/>
                    <a:ext cx="8424720" cy="43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692360" y="333360"/>
            <a:ext cx="59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Evolución de </a:t>
            </a: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prea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muniz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precio de “Bonos largos” es más sensible a cambios en las tasas de inter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Concepto de “Duración” da cuenta de este fenóme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duración de un instrumento de renta fija es un promedio ponderado de los períodos en que los pagos del bono son hech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600200" y="533520"/>
          <a:ext cx="5599080" cy="4506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533520"/>
                    <a:ext cx="5599080" cy="45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743200" y="5105520"/>
                <a:ext cx="289548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¥</m:t>
                        </m:r>
                      </m:sup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(</m:t>
                            </m:r>
                          </m:den>
                        </m:f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muniz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duración de un instrumento de renta fija es un promedio ponderado de los períodos en que los pagos del bono son hech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 ponderadores están dados por el valor presente de los flujos individu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muniz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666880" y="3200400"/>
                <a:ext cx="3581640" cy="280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o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k</m:t>
                                        </m:r>
                                      </m:num>
                                      <m:den>
                                        <m:r>
                                          <m:t xml:space="preserve">m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nary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λ</m:t>
                            </m:r>
                            <m:r>
                              <m:t xml:space="preserve">/</m:t>
                            </m:r>
                            <m:r>
                              <m:t xml:space="preserve">m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V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o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λ</m:t>
                            </m:r>
                            <m:r>
                              <m:t xml:space="preserve">/</m:t>
                            </m:r>
                            <m:r>
                              <m:t xml:space="preserve">m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</m:sup>
                            </m:sSup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838080" y="1676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Duración de Macau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órmula de sensibilidad del pre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048120" y="3325680"/>
          <a:ext cx="2286000" cy="106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8120" y="3325680"/>
                    <a:ext cx="228600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muniz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4343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de 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s la duración modific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80880" y="5535720"/>
          <a:ext cx="8686800" cy="4842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880" y="5535720"/>
                    <a:ext cx="868680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Duración de un portafolio se calcula como la duración ponderada de cada bono individu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inmunización de un portafolio corresponderá a la estructuración de un portafolio de bonos, tal que quede protegido ante el riesgo de tasa de interé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 medida que transcurre el tiempo es necesario ir rebalanceando o reimmunizando el portafol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muniz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concepto de duración considera un aproximación lineal de la curva precio-tasa de interés. Una mejor aproximación requiere considerar el término de segundo orden o convexidad de la curv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or lo tanto, construimos un portafoilio que además controle por convex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muniz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3200400" y="2647800"/>
          <a:ext cx="2286000" cy="1301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0400" y="2647800"/>
                    <a:ext cx="228600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xida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cambio de precio en un bono podrá ser aproximado por la ecua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muniz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04560" y="990720"/>
            <a:ext cx="88390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definición de duración que hemos desarrollado ignora la existencia de una curva de retorno ¿es ello realist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Duración Fisher-Weil incorpora el hecho de que la tasa de retorno es función del período consider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1752480" y="1828800"/>
                <a:ext cx="5562720" cy="12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P</m:t>
                    </m:r>
                    <m:r>
                      <m:t xml:space="preserve">≈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PΔλ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C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Δλ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muniz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muniz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Duración Fisher-Weil supone una composición continua de tasas de interés. Al suponer una composición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veces por año, definimos la duración cuasi-modifica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sumiendo, se construye un portafolio, tomando posiciones en los bonos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, tal que balanceamos respecto a precio, duración y convex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muniz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393920" y="2362320"/>
                <a:ext cx="6530760" cy="411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e>
                      <m:e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´</m:t>
                        </m:r>
                        <m:r>
                          <m:t xml:space="preserve">D</m:t>
                        </m:r>
                      </m:e>
                      <m:e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´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752480" y="838080"/>
          <a:ext cx="5599080" cy="511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838080"/>
                    <a:ext cx="559908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2133720" y="1523880"/>
          <a:ext cx="5086080" cy="7336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33720" y="1523880"/>
                    <a:ext cx="5086080" cy="7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1600200" y="2743200"/>
          <a:ext cx="5599080" cy="31352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00200" y="2743200"/>
                    <a:ext cx="5599080" cy="31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600200" y="1219320"/>
          <a:ext cx="6119640" cy="6156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1219320"/>
                    <a:ext cx="6119640" cy="61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600200" y="1143000"/>
          <a:ext cx="6119640" cy="6156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1143000"/>
                    <a:ext cx="6119640" cy="61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752480" y="533520"/>
          <a:ext cx="5597640" cy="6643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533520"/>
                    <a:ext cx="5597640" cy="66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440000" y="1138320"/>
          <a:ext cx="5738760" cy="2509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0000" y="1138320"/>
                    <a:ext cx="5738760" cy="25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1066680" y="878040"/>
          <a:ext cx="7086600" cy="527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66680" y="878040"/>
                    <a:ext cx="7086600" cy="52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676520" y="685800"/>
          <a:ext cx="5599080" cy="5505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685800"/>
                    <a:ext cx="559908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066680" y="1208160"/>
          <a:ext cx="6934320" cy="4905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1208160"/>
                    <a:ext cx="6934320" cy="49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18:58:18Z</dcterms:created>
  <dc:creator>Universidad de CHile</dc:creator>
  <dc:description/>
  <dc:language>en-US</dc:language>
  <cp:lastModifiedBy>BCCH</cp:lastModifiedBy>
  <dcterms:modified xsi:type="dcterms:W3CDTF">2008-07-23T15:41:44Z</dcterms:modified>
  <cp:revision>18</cp:revision>
  <dc:subject/>
  <dc:title>Sin título de diapositiva</dc:title>
</cp:coreProperties>
</file>