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28D5-02C3-49E3-9706-27B424B58CA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2C16-10DD-4CA8-BA98-E4B222BE22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5205-93C8-4BBB-BBC3-B3CB04DE2BA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B16D-DC36-4437-80F9-8BEC80A05EE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6EE3-849D-4E32-BF21-B5DD8C3796E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D24C-1141-45A3-BDFB-265CA2F8DD4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DF5D-6B6E-4ABD-9BF4-2DDCF8BE26C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F4EA-EF83-4F3C-B9CA-CE9DD4EB4E0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F15B-9C61-4557-BAC3-3587D130E3C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C29B-CFD4-4748-9A31-F568B3A76F6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4638-E293-47D6-87A1-0F354E0B4AF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ECEF-52B5-4B0C-BC4A-9BC7DBF701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EA13-E5FD-458F-902E-D7B83BA220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CD23-DA8D-4DA5-B5F3-6A3BE3B25A1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B47C-1BF5-472E-9A1A-F7072BE195C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1171-8B1D-435E-B38B-7442339A0A3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9A97-959F-4EDA-81B7-2429F984F2A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FAAA-13A1-4059-B40C-484F55FF66E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F080-09A1-4992-805F-92705520F21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E544-C47E-473D-8D1E-5365A148EBD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E84A-986B-423A-A2AF-24EDEF627F6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4BF4-A5FA-4F72-B517-F9F8648D645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A980-15F1-404E-B07A-6430FBD540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5BFD-D0F0-4624-A505-9BB77FBA72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3F65-641D-479F-8A16-4FB104C385B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675B-F4B8-47A1-8CB8-2053A218201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2669-D310-49CD-8CA2-4C882493380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7969-E493-4E1D-A1D2-25EC0FF0ACE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997D-C8C8-4367-9561-3A78ED7065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A5EC-A2C5-4F86-9538-10BC2A1EC85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8E06-81CA-4835-B482-C9CA70AAE2A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36B3-8F81-46C9-AABE-D14E3253BC0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9922-A6C0-4154-B15E-FE5327D687D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B9B4-B8AD-4FEE-B52D-B11012A78DA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0E1C-64D3-4FA7-A23F-7CBDEBD21AF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FBDF-CDF3-452E-9A03-1D8E10714D7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C095-03FF-41A2-88D7-209173F51B5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28F7-FE03-4F34-997D-71490FBEE2F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2F05-BA96-46FB-AF2B-C053C5D3096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3CE0-3F02-4A46-B9DE-30556F2BD1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E5EB-24F1-47F1-B007-8A62BE2F556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4015-4C29-4403-AF18-A7DBE13AB78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E2D4-5EAA-4774-8271-25A64A2F869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3F30-38D0-45A4-BC42-A4241ED970B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70A4-54E6-4010-9A3D-EB6801CD75C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50F6-B794-4C02-9D71-8206C7FDD49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5829-481A-4026-90BD-B357A93356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6DD7-D350-4558-BE43-C8B2F23AD9A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D41F-34AE-4B37-8011-8B0140C996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5393-470F-4892-9F9C-76260C25FCE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494D-2769-4F0B-A3E1-E94EA1F4136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B314-1944-4891-82C5-269CD263916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92D8-337E-42B0-97BD-ABBACAB41B8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13C2-EB53-463D-84DD-06ABB08EE18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43625-7C5A-4958-86DC-462393FF1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035B-5C82-4AA3-B571-E02120F4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A666-9AFA-4871-85D8-F6FF3692E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49ED9-446D-4BDC-8FBF-0E417BC08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72D1-28A1-4139-A9CF-11AFEEA62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2071262-F59D-44FF-80C1-4958DC48DA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24E6FAC-46BA-44CD-8D97-4AC03CBED3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C68FAC9-D451-44DC-8882-D6BAA1D324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7CB224-FE5F-4F30-A71C-921F998C84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6B636C8-1C39-49C7-BA13-6A2E389A620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ED8FC-E3E7-4EEE-9A81-28810ABED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7B600F-85AB-468B-A66A-A90DBA9785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AACA17-D575-4CBF-93E1-D565C7B20E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74F797-5962-42BA-8B50-3CAA337469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982FC9-80A4-4D5F-88A6-F6C76A896F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005E0E3-B1E9-415F-AD3E-068D056471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019159C-814B-4F53-8D7E-CEFFCE0E4FF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31C4E71-085D-4D2A-8E69-38107B90966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A971-54B1-45AF-84E4-B507883D9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C8C13-9D70-4416-A7A1-B07DDA4E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28B8-3CCE-4701-8214-90FEE0F0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D6C4-B0CE-4524-A399-8BF4D0AA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6B0D-5C0E-4E86-A6EC-3398775E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27892-95EF-43B1-A1FD-5B18A1824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D203-7E10-4C15-ABF9-C2E52704B43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387C-1FF6-4720-BCBC-7AE68B57B866}"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7"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78"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Picture 5" descr=""/>
          <p:cNvPicPr/>
          <p:nvPr/>
        </p:nvPicPr>
        <p:blipFill>
          <a:blip r:embed="rId1"/>
          <a:stretch/>
        </p:blipFill>
        <p:spPr>
          <a:xfrm>
            <a:off x="1855800" y="3327480"/>
            <a:ext cx="5376960" cy="749160"/>
          </a:xfrm>
          <a:prstGeom prst="rect">
            <a:avLst/>
          </a:prstGeom>
          <a:ln w="0">
            <a:noFill/>
          </a:ln>
        </p:spPr>
      </p:pic>
      <p:sp>
        <p:nvSpPr>
          <p:cNvPr id="181"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2"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4"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5"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6"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87"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88"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0"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1"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2"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4"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5"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6"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97"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9"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0"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1"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3"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6"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8"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09"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1"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2"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3"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4"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5"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7"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18"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19"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1"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25"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26"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27"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9"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0" name="Picture 3" descr=""/>
          <p:cNvPicPr/>
          <p:nvPr/>
        </p:nvPicPr>
        <p:blipFill>
          <a:blip r:embed="rId1"/>
          <a:stretch/>
        </p:blipFill>
        <p:spPr>
          <a:xfrm>
            <a:off x="1857240" y="3530520"/>
            <a:ext cx="5381640" cy="1117800"/>
          </a:xfrm>
          <a:prstGeom prst="rect">
            <a:avLst/>
          </a:prstGeom>
          <a:ln w="0">
            <a:noFill/>
          </a:ln>
        </p:spPr>
      </p:pic>
      <p:sp>
        <p:nvSpPr>
          <p:cNvPr id="231"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2"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base">
                                        <p:cTn id="7" dur="500" fill="hold"/>
                                        <p:tgtEl>
                                          <p:spTgt spid="232"/>
                                        </p:tgtEl>
                                        <p:attrNameLst>
                                          <p:attrName>ppt_x</p:attrName>
                                        </p:attrNameLst>
                                      </p:cBhvr>
                                      <p:tavLst>
                                        <p:tav tm="0">
                                          <p:val>
                                            <p:strVal val="0-#ppt_w/2"/>
                                          </p:val>
                                        </p:tav>
                                        <p:tav tm="100000">
                                          <p:val>
                                            <p:strVal val="#ppt_x"/>
                                          </p:val>
                                        </p:tav>
                                      </p:tavLst>
                                    </p:anim>
                                    <p:anim calcmode="lin" valueType="num">
                                      <p:cBhvr additive="base">
                                        <p:cTn id="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39"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4"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35"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36"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37"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9"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40"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2"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43"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44" name="Group 17"/>
          <p:cNvGrpSpPr/>
          <p:nvPr/>
        </p:nvGrpSpPr>
        <p:grpSpPr>
          <a:xfrm>
            <a:off x="2771640" y="3716280"/>
            <a:ext cx="6048000" cy="2616120"/>
            <a:chOff x="2771640" y="3716280"/>
            <a:chExt cx="6048000" cy="2616120"/>
          </a:xfrm>
        </p:grpSpPr>
        <p:sp>
          <p:nvSpPr>
            <p:cNvPr id="245"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51"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52"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53"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54"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55"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56"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a:t>
            </a:r>
            <a:r>
              <a:rPr b="1" lang="es-ES_tradnl" sz="2100" spc="-1" strike="noStrike">
                <a:solidFill>
                  <a:srgbClr val="000000"/>
                </a:solidFill>
                <a:latin typeface="Tahoma"/>
              </a:rPr>
              <a:t>crecimiento del stock </a:t>
            </a:r>
            <a:r>
              <a:rPr b="0" lang="es-ES_tradnl" sz="2100" spc="-1" strike="noStrike">
                <a:solidFill>
                  <a:srgbClr val="000000"/>
                </a:solidFill>
                <a:latin typeface="Tahoma"/>
              </a:rPr>
              <a:t>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a:t>
            </a:r>
            <a:r>
              <a:rPr b="1" lang="es-ES_tradnl" sz="2100" spc="-1" strike="noStrike">
                <a:solidFill>
                  <a:srgbClr val="000000"/>
                </a:solidFill>
                <a:latin typeface="Tahoma"/>
              </a:rPr>
              <a:t>valor de desecho</a:t>
            </a:r>
            <a:r>
              <a:rPr b="0" lang="es-ES_tradnl" sz="2100" spc="-1" strike="noStrike">
                <a:solidFill>
                  <a:srgbClr val="000000"/>
                </a:solidFill>
                <a:latin typeface="Tahoma"/>
              </a:rPr>
              <a:t>, tanto en el resultado de su rentabilidad como en el plazo recomendable de su liquidación. Es posible esperar cada año un mayor valor de desecho, sin embargo llegará un momento en que el aumento de valor se produzca a </a:t>
            </a:r>
            <a:r>
              <a:rPr b="1" lang="es-ES_tradnl" sz="2100" spc="-1" strike="noStrike">
                <a:solidFill>
                  <a:srgbClr val="000000"/>
                </a:solidFill>
                <a:latin typeface="Tahoma"/>
              </a:rPr>
              <a:t>tasas decrecientes</a:t>
            </a:r>
            <a:r>
              <a:rPr b="0" lang="es-ES_tradnl" sz="2100" spc="-1" strike="noStrike">
                <a:solidFill>
                  <a:srgbClr val="000000"/>
                </a:solidFill>
                <a:latin typeface="Tahoma"/>
              </a:rPr>
              <a:t>.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59"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1"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6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63"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64"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67"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8"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70"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72" name="Object 4"/>
          <p:cNvGraphicFramePr/>
          <p:nvPr/>
        </p:nvGraphicFramePr>
        <p:xfrm>
          <a:off x="1262160" y="1778040"/>
          <a:ext cx="5164200" cy="4430520"/>
        </p:xfrm>
        <a:graphic>
          <a:graphicData uri="http://schemas.openxmlformats.org/presentationml/2006/ole">
            <p:oleObj progId="Excel.Sheet.12" r:id="rId1" spid="">
              <p:embed/>
              <p:pic>
                <p:nvPicPr>
                  <p:cNvPr id="273"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74"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75"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276"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277"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78"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279"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80"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81"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2"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28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7"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289"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291"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2" name="Object 4"/>
          <p:cNvGraphicFramePr/>
          <p:nvPr/>
        </p:nvGraphicFramePr>
        <p:xfrm>
          <a:off x="1168560" y="2678040"/>
          <a:ext cx="5852880" cy="3392640"/>
        </p:xfrm>
        <a:graphic>
          <a:graphicData uri="http://schemas.openxmlformats.org/presentationml/2006/ole">
            <p:oleObj progId="Excel.Sheet.12" r:id="rId1" spid="">
              <p:embed/>
              <p:pic>
                <p:nvPicPr>
                  <p:cNvPr id="293"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294"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95"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800280" y="333360"/>
          <a:ext cx="6021360" cy="3746520"/>
        </p:xfrm>
        <a:graphic>
          <a:graphicData uri="http://schemas.openxmlformats.org/presentationml/2006/ole">
            <p:oleObj progId="Excel.Sheet.12" r:id="rId1" spid="">
              <p:embed/>
              <p:pic>
                <p:nvPicPr>
                  <p:cNvPr id="299"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00"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01"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03" name="Object 3"/>
          <p:cNvGraphicFramePr/>
          <p:nvPr/>
        </p:nvGraphicFramePr>
        <p:xfrm>
          <a:off x="1979640" y="2133720"/>
          <a:ext cx="5854680" cy="4171680"/>
        </p:xfrm>
        <a:graphic>
          <a:graphicData uri="http://schemas.openxmlformats.org/presentationml/2006/ole">
            <p:oleObj progId="Excel.Sheet.12" r:id="rId1" spid="">
              <p:embed/>
              <p:pic>
                <p:nvPicPr>
                  <p:cNvPr id="304"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05"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7"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9"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10"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2"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3" name="Object 3"/>
          <p:cNvGraphicFramePr/>
          <p:nvPr/>
        </p:nvGraphicFramePr>
        <p:xfrm>
          <a:off x="1009800" y="361800"/>
          <a:ext cx="7848360" cy="6226200"/>
        </p:xfrm>
        <a:graphic>
          <a:graphicData uri="http://schemas.openxmlformats.org/presentationml/2006/ole">
            <p:oleObj progId="Excel.Sheet.12" r:id="rId1" spid="">
              <p:embed/>
              <p:pic>
                <p:nvPicPr>
                  <p:cNvPr id="314"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6"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17"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9" name="Object 5"/>
          <p:cNvGraphicFramePr/>
          <p:nvPr/>
        </p:nvGraphicFramePr>
        <p:xfrm>
          <a:off x="1085760" y="388800"/>
          <a:ext cx="7981920" cy="5848560"/>
        </p:xfrm>
        <a:graphic>
          <a:graphicData uri="http://schemas.openxmlformats.org/presentationml/2006/ole">
            <p:oleObj progId="Excel.Sheet.12" r:id="rId1" spid="">
              <p:embed/>
              <p:pic>
                <p:nvPicPr>
                  <p:cNvPr id="320"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2"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5"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26"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6"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32"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33"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5"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36"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9"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40"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2"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3"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5"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6"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8"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9"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1"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52"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4"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55"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7"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9"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9"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360"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2"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363"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5"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366"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8"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3"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4"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6"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0"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3"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5"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6"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67"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68"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0"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2"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3"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4"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5"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1-14T01:52:04Z</dcterms:modified>
  <cp:revision>356</cp:revision>
  <dc:subject/>
  <dc:title>Optimización de Proyectos</dc:title>
</cp:coreProperties>
</file>