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5C0E-5C35-4B96-8FD1-AA9264DE30A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1E64-A148-40BD-A640-4AE813518F5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556D-524B-4D03-B1E6-6860EB3B908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A7F7-7F04-4A6B-81ED-BC93646AF9F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F10A-2700-4B47-93D0-350E820F63D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9971-A90C-4DE7-AB47-CADCBD5865C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1964-CFF8-4FAF-A190-3C4026FDE84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82D3-C661-4C84-B920-509DC275732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AD9C-FFD5-425E-B9AD-FE5B05E3B13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A30C-8B71-4919-9A25-39E12AFD4A9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2CF6-E58F-4541-9D9C-80B9C553A85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A50D-56A6-4269-928C-B61ED2620C9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470E-4421-49F2-8802-6243C50895E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FA13-A009-44EA-89C0-0BBD6BB4F48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1D42-7771-4264-A105-B0045C6D108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9CFC-5C0F-4809-9714-C81A2F84180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8A09-8B75-4602-AFCD-E6FA2CB94A0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4008-B1CF-4B80-889F-D7C0E1437DE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D7B3-6D8C-4915-8B6E-02F9B39CC00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6C39-BD16-4808-96CB-F3DBE60BD21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8D4E-8867-4A19-9A00-FDF40166820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8B37-F94A-45F2-A2D8-F7840F7AD8A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8BEC-8581-4CF2-8746-60006316D5B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CB8C-D398-4890-B84B-ABE7F7A3EA7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7B97-9CF6-4AE4-99B2-2AD9E45D0FB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56D7-2BDE-46F5-AD50-1FCD1ED7943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525B-F236-4FA2-85F7-FFA53D80374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4699-803F-4267-8898-E64370849A7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77A6-9AF9-4C9C-BCF3-DC77EE20633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E64F5-6DBE-49E7-B0D1-FA0D3EBEB4D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3F4A-46C9-474A-8BAE-DDD566A03C1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F2E6-972D-4742-AB8C-0600A19F843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88CB-292E-45E8-A494-5ABD183D882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30F6-B9F7-45CB-AC90-2FBFB8C9648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7DD3-6144-4C7A-B923-D1D962CF973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4A2A-E73E-4C85-9579-39112D0C378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F9D8-9F05-43CC-9CE1-DB7BAF72A23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7B7E-05BD-4278-BC4F-700BEF64AFB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B15B-F140-4813-8163-686B7A3417F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8E88-168A-4394-B741-6A289BAAFB8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236B-5810-4A7C-9974-F569D35F642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7597-DB89-4007-88A6-BE821F1F55F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5487-7E44-423F-B895-713D734E346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648E-DF20-4811-B8B3-EE751234838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3AD2-58AD-4E1E-BCCD-8ED185829A4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55D6-0110-40CA-970F-50A08B78C60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7999-31B3-4FC5-82EE-F04D48BB627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2884-C683-4B17-B9EE-CB764C82850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A1BD-7285-41D9-A7D3-A98BDDEC66B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1779-4A26-48B7-8061-F7987D2E718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FB5D-3A23-4F89-A27E-C7C5D5C609C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CA6E-7641-4BDF-8F15-6C035C7834F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485E-8F53-47A6-90A1-BB13991F669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7A10-637F-437B-862F-5DABE11CC10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183BC-B396-4E62-B0A3-A04441F1E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7CA8D-B149-49A6-B773-EFB6FAFAB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A0775-6B44-4127-9F57-BCC8463CA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4F017-EF37-4192-82AD-D330A5507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7D69D-38C1-44DA-A575-5D7C7FDEE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29C5DF6-3FCF-423C-83B4-F509C05279C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EC517E-4655-46E0-9816-E42BF445AF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7BA649-08C1-4E16-9726-B166D61BC8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D8863E1-CF04-495C-A3D0-833E5ECABB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AA1CF14-A2AB-474B-8079-4BBC2C6F08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3F0B9-73AF-4E5E-A14D-BBC71E63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8E3984C-5ED3-480D-B712-E996235E34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8DBF3E-0A5D-4CC4-9B70-47725960F8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DB5B67A-5C19-4494-894B-7AEC8DF4FF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21FAC1-EABE-41DC-8AD0-161228DFA9A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4BEAE9-E3AD-42A8-AF3D-03A6CD27B0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9BBF42F-6668-4557-AC8C-4D071D1DF59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C669270-02CA-4F7C-923D-C7A3E58EEAB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7C75D-F957-4555-953A-4E0B9ECCE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DCC4C-9D60-48FA-A9D1-4601E3576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4910D-3016-4D02-831C-A786E4B36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FD4A-0C39-46FA-972F-20E304146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A0D56-826E-4965-94B8-90AE3F2D1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E567-7E6C-451B-999D-786A58547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5FA7-D096-413C-8C70-C8636CD6A6C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AD59-F748-474D-AF03-AA33D5D9F3FE}"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7"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78"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0" name="Picture 5" descr=""/>
          <p:cNvPicPr/>
          <p:nvPr/>
        </p:nvPicPr>
        <p:blipFill>
          <a:blip r:embed="rId1"/>
          <a:stretch/>
        </p:blipFill>
        <p:spPr>
          <a:xfrm>
            <a:off x="1855800" y="3327480"/>
            <a:ext cx="5376960" cy="749160"/>
          </a:xfrm>
          <a:prstGeom prst="rect">
            <a:avLst/>
          </a:prstGeom>
          <a:ln w="0">
            <a:noFill/>
          </a:ln>
        </p:spPr>
      </p:pic>
      <p:sp>
        <p:nvSpPr>
          <p:cNvPr id="181"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2"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4"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5"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6"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87"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88"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0"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1"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2"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4"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5"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6"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97"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9"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0"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1"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3"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4"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6"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8"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09"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1"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2"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3"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4"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5"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7"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18"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19"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1"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25"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26"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27"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9"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30" name="Picture 3" descr=""/>
          <p:cNvPicPr/>
          <p:nvPr/>
        </p:nvPicPr>
        <p:blipFill>
          <a:blip r:embed="rId1"/>
          <a:stretch/>
        </p:blipFill>
        <p:spPr>
          <a:xfrm>
            <a:off x="1857240" y="3530520"/>
            <a:ext cx="5381640" cy="1117800"/>
          </a:xfrm>
          <a:prstGeom prst="rect">
            <a:avLst/>
          </a:prstGeom>
          <a:ln w="0">
            <a:noFill/>
          </a:ln>
        </p:spPr>
      </p:pic>
      <p:sp>
        <p:nvSpPr>
          <p:cNvPr id="231"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32"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gtEl>
                                        <p:attrNameLst>
                                          <p:attrName>style.visibility</p:attrName>
                                        </p:attrNameLst>
                                      </p:cBhvr>
                                      <p:to>
                                        <p:strVal val="visible"/>
                                      </p:to>
                                    </p:set>
                                    <p:anim calcmode="lin" valueType="num">
                                      <p:cBhvr additive="base">
                                        <p:cTn id="7" dur="500" fill="hold"/>
                                        <p:tgtEl>
                                          <p:spTgt spid="232"/>
                                        </p:tgtEl>
                                        <p:attrNameLst>
                                          <p:attrName>ppt_x</p:attrName>
                                        </p:attrNameLst>
                                      </p:cBhvr>
                                      <p:tavLst>
                                        <p:tav tm="0">
                                          <p:val>
                                            <p:strVal val="0-#ppt_w/2"/>
                                          </p:val>
                                        </p:tav>
                                        <p:tav tm="100000">
                                          <p:val>
                                            <p:strVal val="#ppt_x"/>
                                          </p:val>
                                        </p:tav>
                                      </p:tavLst>
                                    </p:anim>
                                    <p:anim calcmode="lin" valueType="num">
                                      <p:cBhvr additive="base">
                                        <p:cTn id="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39"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4"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35"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36"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37"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9"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40"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2"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43"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44" name="Group 17"/>
          <p:cNvGrpSpPr/>
          <p:nvPr/>
        </p:nvGrpSpPr>
        <p:grpSpPr>
          <a:xfrm>
            <a:off x="2771640" y="3716280"/>
            <a:ext cx="6048000" cy="2616120"/>
            <a:chOff x="2771640" y="3716280"/>
            <a:chExt cx="6048000" cy="2616120"/>
          </a:xfrm>
        </p:grpSpPr>
        <p:sp>
          <p:nvSpPr>
            <p:cNvPr id="245"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6"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7"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8"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0"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51"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52"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53"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54"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55"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56"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a:t>
            </a:r>
            <a:r>
              <a:rPr b="1" lang="es-ES_tradnl" sz="2100" spc="-1" strike="noStrike">
                <a:solidFill>
                  <a:srgbClr val="000000"/>
                </a:solidFill>
                <a:latin typeface="Tahoma"/>
              </a:rPr>
              <a:t>crecimiento del stock </a:t>
            </a:r>
            <a:r>
              <a:rPr b="0" lang="es-ES_tradnl" sz="2100" spc="-1" strike="noStrike">
                <a:solidFill>
                  <a:srgbClr val="000000"/>
                </a:solidFill>
                <a:latin typeface="Tahoma"/>
              </a:rPr>
              <a:t>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a:t>
            </a:r>
            <a:r>
              <a:rPr b="1" lang="es-ES_tradnl" sz="2100" spc="-1" strike="noStrike">
                <a:solidFill>
                  <a:srgbClr val="000000"/>
                </a:solidFill>
                <a:latin typeface="Tahoma"/>
              </a:rPr>
              <a:t>valor de desecho</a:t>
            </a:r>
            <a:r>
              <a:rPr b="0" lang="es-ES_tradnl" sz="2100" spc="-1" strike="noStrike">
                <a:solidFill>
                  <a:srgbClr val="000000"/>
                </a:solidFill>
                <a:latin typeface="Tahoma"/>
              </a:rPr>
              <a:t>, tanto en el resultado de su rentabilidad como en el plazo recomendable de su liquidación. Es posible esperar cada año un mayor valor de desecho, sin embargo llegará un momento en que el aumento de valor se produzca a </a:t>
            </a:r>
            <a:r>
              <a:rPr b="1" lang="es-ES_tradnl" sz="2100" spc="-1" strike="noStrike">
                <a:solidFill>
                  <a:srgbClr val="000000"/>
                </a:solidFill>
                <a:latin typeface="Tahoma"/>
              </a:rPr>
              <a:t>tasas decrecientes</a:t>
            </a:r>
            <a:r>
              <a:rPr b="0" lang="es-ES_tradnl" sz="2100" spc="-1" strike="noStrike">
                <a:solidFill>
                  <a:srgbClr val="000000"/>
                </a:solidFill>
                <a:latin typeface="Tahoma"/>
              </a:rPr>
              <a:t>.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59"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1"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6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63"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64"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6"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67"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68"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70"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72" name="Object 4"/>
          <p:cNvGraphicFramePr/>
          <p:nvPr/>
        </p:nvGraphicFramePr>
        <p:xfrm>
          <a:off x="1262160" y="1778040"/>
          <a:ext cx="5164200" cy="4430520"/>
        </p:xfrm>
        <a:graphic>
          <a:graphicData uri="http://schemas.openxmlformats.org/presentationml/2006/ole">
            <p:oleObj progId="Excel.Sheet.12" r:id="rId1" spid="">
              <p:embed/>
              <p:pic>
                <p:nvPicPr>
                  <p:cNvPr id="273"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74"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75"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276"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277"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78"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279"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80"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81"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2"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28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7"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289"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291"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2" name="Object 4"/>
          <p:cNvGraphicFramePr/>
          <p:nvPr/>
        </p:nvGraphicFramePr>
        <p:xfrm>
          <a:off x="1168560" y="2678040"/>
          <a:ext cx="5852880" cy="3392640"/>
        </p:xfrm>
        <a:graphic>
          <a:graphicData uri="http://schemas.openxmlformats.org/presentationml/2006/ole">
            <p:oleObj progId="Excel.Sheet.12" r:id="rId1" spid="">
              <p:embed/>
              <p:pic>
                <p:nvPicPr>
                  <p:cNvPr id="293"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294"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95"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8" name="Object 2"/>
          <p:cNvGraphicFramePr/>
          <p:nvPr/>
        </p:nvGraphicFramePr>
        <p:xfrm>
          <a:off x="800280" y="333360"/>
          <a:ext cx="6021360" cy="3746520"/>
        </p:xfrm>
        <a:graphic>
          <a:graphicData uri="http://schemas.openxmlformats.org/presentationml/2006/ole">
            <p:oleObj progId="Excel.Sheet.12" r:id="rId1" spid="">
              <p:embed/>
              <p:pic>
                <p:nvPicPr>
                  <p:cNvPr id="299"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00"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01"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03" name="Object 3"/>
          <p:cNvGraphicFramePr/>
          <p:nvPr/>
        </p:nvGraphicFramePr>
        <p:xfrm>
          <a:off x="1979640" y="2133720"/>
          <a:ext cx="5854680" cy="4171680"/>
        </p:xfrm>
        <a:graphic>
          <a:graphicData uri="http://schemas.openxmlformats.org/presentationml/2006/ole">
            <p:oleObj progId="Excel.Sheet.12" r:id="rId1" spid="">
              <p:embed/>
              <p:pic>
                <p:nvPicPr>
                  <p:cNvPr id="304"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05"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7"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9"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10"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2"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3" name="Object 3"/>
          <p:cNvGraphicFramePr/>
          <p:nvPr/>
        </p:nvGraphicFramePr>
        <p:xfrm>
          <a:off x="1009800" y="361800"/>
          <a:ext cx="7848360" cy="6226200"/>
        </p:xfrm>
        <a:graphic>
          <a:graphicData uri="http://schemas.openxmlformats.org/presentationml/2006/ole">
            <p:oleObj progId="Excel.Sheet.12" r:id="rId1" spid="">
              <p:embed/>
              <p:pic>
                <p:nvPicPr>
                  <p:cNvPr id="314"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6"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17"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9" name="Object 5"/>
          <p:cNvGraphicFramePr/>
          <p:nvPr/>
        </p:nvGraphicFramePr>
        <p:xfrm>
          <a:off x="1085760" y="388800"/>
          <a:ext cx="7981920" cy="5848560"/>
        </p:xfrm>
        <a:graphic>
          <a:graphicData uri="http://schemas.openxmlformats.org/presentationml/2006/ole">
            <p:oleObj progId="Excel.Sheet.12" r:id="rId1" spid="">
              <p:embed/>
              <p:pic>
                <p:nvPicPr>
                  <p:cNvPr id="320"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2"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5"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26"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6"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32"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33"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5"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36"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9"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40"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2"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3"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5"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6"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8"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9"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1"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52"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4"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55"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7"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9"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9"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360"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2"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363"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5"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366"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8"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3"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4"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6"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0"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3"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5"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6"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67"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68"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0"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2"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3"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4"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5"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1-14T01:52:04Z</dcterms:modified>
  <cp:revision>356</cp:revision>
  <dc:subject/>
  <dc:title>Optimización de Proyectos</dc:title>
</cp:coreProperties>
</file>