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5A0C-00B3-4E35-BE68-6BC806FB593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6942-EB3F-49AB-8376-C9C1EB1F45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BFD6-BEA9-4C7B-A6B5-7E648F2109C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9932-20D8-4D2B-B978-8A9702E6C5E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C8C7-F17D-4DB9-9D17-E4E5DA81117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1B95-43BF-4FF7-B95D-04BF2384C7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2242-AE03-4712-AACE-1959792D028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E62C-A586-4782-9AA3-A3D86D38AE0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E0A0-216E-4E7F-91DF-F685A8071BE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0985-4B03-4824-9BDB-59F30E71B6E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3DE5-3A66-47FD-A5F9-9D55DED57FE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BE5B-2B97-4B2D-894F-86C80C07AA5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9013-5E7E-4560-A7F6-10D587F66A3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ACD4-89C1-46C7-89B1-ACB01617DD2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5FEF-F993-4977-B4E0-CD7E01AD5D2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BA49-923C-4B54-8CEC-1966DC308EF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92DD-E9D1-46AA-AEBF-1EBA3AC5E2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25B3-1C45-4B6B-87A7-FB61536C8FA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93BA-DA79-4C69-9F2C-EF881DA8C77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B832-8A15-426D-9659-38737392D9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9A05-799B-4D5E-8839-C9F98C9224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25C3-1E4E-4397-9D0A-B118C9F1552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BC6C-D073-4D0D-B924-6F521A8DB37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CC7E-B949-4CE5-BC43-7734E0EA7D9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42E9-54DB-44F1-8EE0-7D1E48A67B2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C257-A830-4B1F-96BC-0A345DCE16E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D310-C246-4E0C-B7A5-EB499A1A294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295A-D738-42EF-8800-C86E90CE7E4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532-2832-4F8D-A240-55064AA0DA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E181-9F0B-490E-9810-2F396BEEECE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66FC-2518-42D2-BF8F-6A7CABF91B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5752-71C8-4EC6-9F1F-FA30723DDB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7680-76BC-4DDD-AAEC-D71D41A752B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CE8C-6592-40E5-B581-61B2CEC721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8AB2-8E5B-404F-B985-36B4AFC997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9E96-EC3A-4593-B73E-553B56BA7B7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3C28-1D05-4DAC-9C48-4A70DF88D18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5C76-97CB-4775-AF6A-CC333151C4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7468-CDF1-4D8D-B54D-70EACDEF49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3154-B56C-45BB-8E08-9BEDDD551A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63F5-F468-49F6-B224-106BFE987DC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985D-A904-45B1-932D-9C682902BB5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AA02-40BF-4749-AFE1-31B365EEBC4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D9BA-BC5B-4B2F-90E9-5F8EEEC8A1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87D8-A878-440A-9983-42481C69318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8479-F31E-4BAD-90FB-752B17FD824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3340-7F47-4F9B-A8AC-0727092433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28D4-FA7B-4CC2-9B6E-B59D7583F27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11B8-C6BC-4ADB-B698-ACA4F6817E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FB5C-5DEA-4D57-9887-EECF6246BC3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2381-E2E6-4C23-A89C-9A16A1799D1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874A-18B8-42D5-84D6-4922CA77A7A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0918-8871-49D5-891B-DA91B55BA8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3495-899E-4377-BD33-A65E289695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91131-BCA9-4053-8AF3-7D02F862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A25C-6BE9-4978-8F28-D8C7C57F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3838D-F337-4E85-A177-AFAB383CB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B297-8F56-46EC-A3EE-9CB8CBBCD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E28E-9EE8-48F9-9C02-0E210F03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1450EC-1CBA-4902-BDF6-08B98CC8BE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1114EF-A32D-4A10-97CF-BE19E361DD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79A385-8ECD-41C5-A777-ED2504D1A2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AEAE3B9-FC8E-4EBC-9905-397239A10E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0F4D93-2ACB-4644-825B-29E3E526E9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A620B-CB83-4ED6-BF3B-268F27FCC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BC8670-2280-48CC-A32E-B938520850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0669F2-F58D-4E55-AA5E-8A08C59E11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736B71-0C65-4958-8F8F-DAE79926DF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3E4A21-321B-427B-AB8C-58D25DD430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359A91-BAF3-4C47-AE9B-5EFA077081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35C552D-11D7-4945-A777-7CEF85ECA4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E2A64BD-3173-4D87-857A-6338F505303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E0E33-E0CF-49A2-ABAC-663CA0C1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94FF-2EFA-4C21-9B36-D4D48647E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2A73-4174-46FE-B3B4-F07BE2A2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48309-7EF1-4123-AF56-DF4B8159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87C21-71AA-4F7F-B56B-CE78653F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5403D-8DEA-4179-8CA7-641AC78D3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B6EC-D799-416E-94C3-C4DAA09486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5B15-24D2-4240-AF6F-759ABA00529F}"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7"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78"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0" name="Picture 5" descr=""/>
          <p:cNvPicPr/>
          <p:nvPr/>
        </p:nvPicPr>
        <p:blipFill>
          <a:blip r:embed="rId1"/>
          <a:stretch/>
        </p:blipFill>
        <p:spPr>
          <a:xfrm>
            <a:off x="1855800" y="3327480"/>
            <a:ext cx="5376960" cy="749160"/>
          </a:xfrm>
          <a:prstGeom prst="rect">
            <a:avLst/>
          </a:prstGeom>
          <a:ln w="0">
            <a:noFill/>
          </a:ln>
        </p:spPr>
      </p:pic>
      <p:sp>
        <p:nvSpPr>
          <p:cNvPr id="181"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2"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4"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5"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6"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87"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88"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0"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1"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2"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4"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5"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6"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97"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9"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0"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1"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3"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6"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8"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09"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1"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2"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3"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4"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5"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7"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18"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19"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1"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25"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26"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27"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9"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30" name="Picture 3" descr=""/>
          <p:cNvPicPr/>
          <p:nvPr/>
        </p:nvPicPr>
        <p:blipFill>
          <a:blip r:embed="rId1"/>
          <a:stretch/>
        </p:blipFill>
        <p:spPr>
          <a:xfrm>
            <a:off x="1857240" y="3530520"/>
            <a:ext cx="5381640" cy="1117800"/>
          </a:xfrm>
          <a:prstGeom prst="rect">
            <a:avLst/>
          </a:prstGeom>
          <a:ln w="0">
            <a:noFill/>
          </a:ln>
        </p:spPr>
      </p:pic>
      <p:sp>
        <p:nvSpPr>
          <p:cNvPr id="231"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32"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gtEl>
                                        <p:attrNameLst>
                                          <p:attrName>style.visibility</p:attrName>
                                        </p:attrNameLst>
                                      </p:cBhvr>
                                      <p:to>
                                        <p:strVal val="visible"/>
                                      </p:to>
                                    </p:set>
                                    <p:anim calcmode="lin" valueType="num">
                                      <p:cBhvr additive="base">
                                        <p:cTn id="7" dur="500" fill="hold"/>
                                        <p:tgtEl>
                                          <p:spTgt spid="232"/>
                                        </p:tgtEl>
                                        <p:attrNameLst>
                                          <p:attrName>ppt_x</p:attrName>
                                        </p:attrNameLst>
                                      </p:cBhvr>
                                      <p:tavLst>
                                        <p:tav tm="0">
                                          <p:val>
                                            <p:strVal val="0-#ppt_w/2"/>
                                          </p:val>
                                        </p:tav>
                                        <p:tav tm="100000">
                                          <p:val>
                                            <p:strVal val="#ppt_x"/>
                                          </p:val>
                                        </p:tav>
                                      </p:tavLst>
                                    </p:anim>
                                    <p:anim calcmode="lin" valueType="num">
                                      <p:cBhvr additive="base">
                                        <p:cTn id="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39"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4"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35"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36"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37"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9"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40"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2"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43"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44" name="Group 17"/>
          <p:cNvGrpSpPr/>
          <p:nvPr/>
        </p:nvGrpSpPr>
        <p:grpSpPr>
          <a:xfrm>
            <a:off x="2771640" y="3716280"/>
            <a:ext cx="6048000" cy="2616120"/>
            <a:chOff x="2771640" y="3716280"/>
            <a:chExt cx="6048000" cy="2616120"/>
          </a:xfrm>
        </p:grpSpPr>
        <p:sp>
          <p:nvSpPr>
            <p:cNvPr id="245"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6"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7"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51"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52"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53"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54"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55"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56"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a:t>
            </a:r>
            <a:r>
              <a:rPr b="1" lang="es-ES_tradnl" sz="2100" spc="-1" strike="noStrike">
                <a:solidFill>
                  <a:srgbClr val="000000"/>
                </a:solidFill>
                <a:latin typeface="Tahoma"/>
              </a:rPr>
              <a:t>crecimiento del stock </a:t>
            </a:r>
            <a:r>
              <a:rPr b="0" lang="es-ES_tradnl" sz="2100" spc="-1" strike="noStrike">
                <a:solidFill>
                  <a:srgbClr val="000000"/>
                </a:solidFill>
                <a:latin typeface="Tahoma"/>
              </a:rPr>
              <a:t>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a:t>
            </a:r>
            <a:r>
              <a:rPr b="1" lang="es-ES_tradnl" sz="2100" spc="-1" strike="noStrike">
                <a:solidFill>
                  <a:srgbClr val="000000"/>
                </a:solidFill>
                <a:latin typeface="Tahoma"/>
              </a:rPr>
              <a:t>valor de desecho</a:t>
            </a:r>
            <a:r>
              <a:rPr b="0" lang="es-ES_tradnl" sz="2100" spc="-1" strike="noStrike">
                <a:solidFill>
                  <a:srgbClr val="000000"/>
                </a:solidFill>
                <a:latin typeface="Tahoma"/>
              </a:rPr>
              <a:t>, tanto en el resultado de su rentabilidad como en el plazo recomendable de su liquidación. Es posible esperar cada año un mayor valor de desecho, sin embargo llegará un momento en que el aumento de valor se produzca a </a:t>
            </a:r>
            <a:r>
              <a:rPr b="1" lang="es-ES_tradnl" sz="2100" spc="-1" strike="noStrike">
                <a:solidFill>
                  <a:srgbClr val="000000"/>
                </a:solidFill>
                <a:latin typeface="Tahoma"/>
              </a:rPr>
              <a:t>tasas decrecientes</a:t>
            </a:r>
            <a:r>
              <a:rPr b="0" lang="es-ES_tradnl" sz="2100" spc="-1" strike="noStrike">
                <a:solidFill>
                  <a:srgbClr val="000000"/>
                </a:solidFill>
                <a:latin typeface="Tahoma"/>
              </a:rPr>
              <a:t>.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59"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1"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6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63"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64"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6"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67"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68"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70"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72" name="Object 4"/>
          <p:cNvGraphicFramePr/>
          <p:nvPr/>
        </p:nvGraphicFramePr>
        <p:xfrm>
          <a:off x="1262160" y="1778040"/>
          <a:ext cx="5164200" cy="4430520"/>
        </p:xfrm>
        <a:graphic>
          <a:graphicData uri="http://schemas.openxmlformats.org/presentationml/2006/ole">
            <p:oleObj progId="Excel.Sheet.12" r:id="rId1" spid="">
              <p:embed/>
              <p:pic>
                <p:nvPicPr>
                  <p:cNvPr id="273"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74"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75"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276"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277"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78"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279"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80"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81"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2"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28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7"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289"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291"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2" name="Object 4"/>
          <p:cNvGraphicFramePr/>
          <p:nvPr/>
        </p:nvGraphicFramePr>
        <p:xfrm>
          <a:off x="1168560" y="2678040"/>
          <a:ext cx="5852880" cy="3392640"/>
        </p:xfrm>
        <a:graphic>
          <a:graphicData uri="http://schemas.openxmlformats.org/presentationml/2006/ole">
            <p:oleObj progId="Excel.Sheet.12" r:id="rId1" spid="">
              <p:embed/>
              <p:pic>
                <p:nvPicPr>
                  <p:cNvPr id="293"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294"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95"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Object 2"/>
          <p:cNvGraphicFramePr/>
          <p:nvPr/>
        </p:nvGraphicFramePr>
        <p:xfrm>
          <a:off x="800280" y="333360"/>
          <a:ext cx="6021360" cy="3746520"/>
        </p:xfrm>
        <a:graphic>
          <a:graphicData uri="http://schemas.openxmlformats.org/presentationml/2006/ole">
            <p:oleObj progId="Excel.Sheet.12" r:id="rId1" spid="">
              <p:embed/>
              <p:pic>
                <p:nvPicPr>
                  <p:cNvPr id="299"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00"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01"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03" name="Object 3"/>
          <p:cNvGraphicFramePr/>
          <p:nvPr/>
        </p:nvGraphicFramePr>
        <p:xfrm>
          <a:off x="1979640" y="2133720"/>
          <a:ext cx="5854680" cy="4171680"/>
        </p:xfrm>
        <a:graphic>
          <a:graphicData uri="http://schemas.openxmlformats.org/presentationml/2006/ole">
            <p:oleObj progId="Excel.Sheet.12" r:id="rId1" spid="">
              <p:embed/>
              <p:pic>
                <p:nvPicPr>
                  <p:cNvPr id="304"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05"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7"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09"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10"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2"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3" name="Object 3"/>
          <p:cNvGraphicFramePr/>
          <p:nvPr/>
        </p:nvGraphicFramePr>
        <p:xfrm>
          <a:off x="1009800" y="361800"/>
          <a:ext cx="7848360" cy="6226200"/>
        </p:xfrm>
        <a:graphic>
          <a:graphicData uri="http://schemas.openxmlformats.org/presentationml/2006/ole">
            <p:oleObj progId="Excel.Sheet.12" r:id="rId1" spid="">
              <p:embed/>
              <p:pic>
                <p:nvPicPr>
                  <p:cNvPr id="314"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6"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17"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9" name="Object 5"/>
          <p:cNvGraphicFramePr/>
          <p:nvPr/>
        </p:nvGraphicFramePr>
        <p:xfrm>
          <a:off x="1085760" y="388800"/>
          <a:ext cx="7981920" cy="5848560"/>
        </p:xfrm>
        <a:graphic>
          <a:graphicData uri="http://schemas.openxmlformats.org/presentationml/2006/ole">
            <p:oleObj progId="Excel.Sheet.12" r:id="rId1" spid="">
              <p:embed/>
              <p:pic>
                <p:nvPicPr>
                  <p:cNvPr id="320"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2"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5"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26"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6"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32"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33"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5"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36"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9"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40"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2"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3"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5"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6"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8"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9"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1"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52"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4"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55"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7"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9"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9"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360"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2"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363"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5"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366"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8"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3"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4"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6"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0"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3"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5"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6"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67"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68"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0"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2"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3"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4"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5"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1-14T01:52:04Z</dcterms:modified>
  <cp:revision>356</cp:revision>
  <dc:subject/>
  <dc:title>Optimización de Proyectos</dc:title>
</cp:coreProperties>
</file>