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" ContentType="application/vnd.ms-exce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698F46-D3FB-4EF9-ABE8-06BC58A0B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Num" idx="22"/>
          </p:nvPr>
        </p:nvSpPr>
        <p:spPr>
          <a:xfrm>
            <a:off x="4108320" y="9129600"/>
            <a:ext cx="3203280" cy="44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092F48-550B-42F9-B6B7-659392327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281240" y="743040"/>
            <a:ext cx="4749480" cy="35618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985680" y="4527720"/>
            <a:ext cx="5339880" cy="4379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9168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83360" y="9939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09168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83360" y="3908160"/>
            <a:ext cx="294408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579800" cy="45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55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5400" y="39081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993960"/>
            <a:ext cx="44618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908160"/>
            <a:ext cx="9143640" cy="26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370EB6EA-B8CF-44E3-BD24-B8173970A9C3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pic>
        <p:nvPicPr>
          <p:cNvPr id="5" name="Picture 5" descr=""/>
          <p:cNvPicPr/>
          <p:nvPr/>
        </p:nvPicPr>
        <p:blipFill>
          <a:blip r:embed="rId3"/>
          <a:stretch/>
        </p:blipFill>
        <p:spPr>
          <a:xfrm>
            <a:off x="2981160" y="3587760"/>
            <a:ext cx="2862000" cy="2987280"/>
          </a:xfrm>
          <a:prstGeom prst="rect">
            <a:avLst/>
          </a:prstGeom>
          <a:ln w="9525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5843520" y="3608280"/>
            <a:ext cx="3300120" cy="2962080"/>
          </a:xfrm>
          <a:prstGeom prst="rect">
            <a:avLst/>
          </a:prstGeom>
          <a:ln w="9525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5"/>
          <a:stretch/>
        </p:blipFill>
        <p:spPr>
          <a:xfrm>
            <a:off x="0" y="3595680"/>
            <a:ext cx="2980800" cy="2980800"/>
          </a:xfrm>
          <a:prstGeom prst="rect">
            <a:avLst/>
          </a:prstGeom>
          <a:ln w="9525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3640" cy="146952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1EB17ED8-8A38-4C68-9675-34C9471E7F6B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0" y="993960"/>
            <a:ext cx="9143640" cy="55789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CCDC04BB-6335-4D72-920E-B627149348B8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0"/>
          <p:cNvSpPr/>
          <p:nvPr/>
        </p:nvSpPr>
        <p:spPr>
          <a:xfrm rot="5400000">
            <a:off x="1348920" y="5225400"/>
            <a:ext cx="283680" cy="298080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 rot="16200000">
            <a:off x="7364160" y="5078520"/>
            <a:ext cx="285480" cy="3273120"/>
          </a:xfrm>
          <a:prstGeom prst="rect">
            <a:avLst/>
          </a:prstGeom>
          <a:solidFill>
            <a:srgbClr val="0078dc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 rot="5400000">
            <a:off x="4284000" y="5271120"/>
            <a:ext cx="283680" cy="2889000"/>
          </a:xfrm>
          <a:prstGeom prst="rect">
            <a:avLst/>
          </a:prstGeom>
          <a:solidFill>
            <a:srgbClr val="001496">
              <a:alpha val="75000"/>
            </a:srgbClr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384800" y="6642000"/>
            <a:ext cx="4554000" cy="38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tabLst>
                <a:tab algn="ctr" pos="3884760"/>
                <a:tab algn="r" pos="702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CONFIDENTIAL</a:t>
            </a:r>
            <a:r>
              <a:rPr b="0" lang="en-GB" sz="1000" spc="-1" strike="noStrike">
                <a:solidFill>
                  <a:srgbClr val="000000"/>
                </a:solidFill>
                <a:latin typeface="Siemens Sans Roman"/>
              </a:rPr>
              <a:t> | Copyright </a:t>
            </a:r>
            <a:r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©2008 MindGrid Technologies           </a:t>
            </a:r>
            <a:fld id="{1469B24F-3793-4A5C-9D2A-AE821800A570}" type="slidenum">
              <a:rPr b="0" lang="en-US" sz="1000" spc="-1" strike="noStrike">
                <a:solidFill>
                  <a:srgbClr val="000000"/>
                </a:solidFill>
                <a:latin typeface="Siemens Sans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MGT2ColorLogo"/>
          <p:cNvPicPr/>
          <p:nvPr/>
        </p:nvPicPr>
        <p:blipFill>
          <a:blip r:embed="rId2"/>
          <a:stretch/>
        </p:blipFill>
        <p:spPr>
          <a:xfrm>
            <a:off x="7615080" y="0"/>
            <a:ext cx="1209240" cy="1020240"/>
          </a:xfrm>
          <a:prstGeom prst="rect">
            <a:avLst/>
          </a:prstGeom>
          <a:ln w="9525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433080"/>
          </a:xfrm>
          <a:prstGeom prst="rect">
            <a:avLst/>
          </a:prstGeom>
          <a:solidFill>
            <a:srgbClr val="e6f1fe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5372280" y="160020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xls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7"/>
          </p:nvPr>
        </p:nvSpPr>
        <p:spPr>
          <a:xfrm>
            <a:off x="70102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65FA531-39F3-452F-A6C5-52BC61157A9D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1244520"/>
            <a:ext cx="7619760" cy="1650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e3ab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shore Outsourcing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h to Increased Prof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11320" y="1327320"/>
            <a:ext cx="346680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n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Setup and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AT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13200" y="1353960"/>
            <a:ext cx="3839760" cy="44953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Offsh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agement 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iverable Manag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Exec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ope Esti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quirements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 &amp; Develop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ing &amp;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nowledge transf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t Project Sup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6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525680"/>
            <a:ext cx="9143640" cy="479556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all Projec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gram Mgmt &amp; Onshore/Offshore Coord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cess and Infrastructure Implementation/Mgm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 Analysis, Scope Estimation, Deliverable Mgm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rements Development/Documentation &amp; Knowledge Transf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-Site Business Analy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iness/Techn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nowledge Transfer to Offshore Te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, Post-Project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f-Shore Development Te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chitects, Software Engineers, QA Engineers, Tech Wri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rgeted Skill 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ming, QA/Testing, Technical Suppor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Success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79440"/>
            <a:ext cx="9143640" cy="49795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coordination between the onsite and offshore t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point of contact for day-to-day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calation path is defi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gular project status upda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based teleconferen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 and complete spec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pe of wor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pecific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cases &amp; scenar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743040" indent="0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y turnaround for questions and clar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xt business da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60"/>
              </a:spcBef>
              <a:buClr>
                <a:srgbClr val="000000"/>
              </a:buClr>
              <a:buFont typeface="Wingdings" charset="2"/>
              <a:buChar char="–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usiness days maximu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298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410"/>
          <p:cNvSpPr/>
          <p:nvPr/>
        </p:nvSpPr>
        <p:spPr>
          <a:xfrm>
            <a:off x="558720" y="1600200"/>
            <a:ext cx="3466800" cy="10663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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411"/>
          <p:cNvSpPr/>
          <p:nvPr/>
        </p:nvSpPr>
        <p:spPr>
          <a:xfrm>
            <a:off x="1187280" y="2971800"/>
            <a:ext cx="3268440" cy="106632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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ff-Shor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 Level System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s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12"/>
          <p:cNvSpPr/>
          <p:nvPr/>
        </p:nvSpPr>
        <p:spPr>
          <a:xfrm>
            <a:off x="874800" y="4419720"/>
            <a:ext cx="3450960" cy="1066320"/>
          </a:xfrm>
          <a:prstGeom prst="rect">
            <a:avLst/>
          </a:prstGeom>
          <a:solidFill>
            <a:srgbClr val="ccff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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n-Site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ining &amp;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111"/>
          <p:cNvSpPr/>
          <p:nvPr/>
        </p:nvSpPr>
        <p:spPr>
          <a:xfrm>
            <a:off x="5227560" y="1650960"/>
            <a:ext cx="3123720" cy="399852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n-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 Spec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8112"/>
          <p:cNvSpPr/>
          <p:nvPr/>
        </p:nvSpPr>
        <p:spPr>
          <a:xfrm>
            <a:off x="2246040" y="2666880"/>
            <a:ext cx="106704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113"/>
          <p:cNvSpPr/>
          <p:nvPr/>
        </p:nvSpPr>
        <p:spPr>
          <a:xfrm flipH="1">
            <a:off x="1941480" y="4038480"/>
            <a:ext cx="1218960" cy="3808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114"/>
          <p:cNvSpPr/>
          <p:nvPr/>
        </p:nvSpPr>
        <p:spPr>
          <a:xfrm>
            <a:off x="4456080" y="3504960"/>
            <a:ext cx="7617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6198480" y="1117440"/>
            <a:ext cx="1267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7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gnificant Benefit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%-60% Bottom Line Cost Sav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Product 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ster Execution Spe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eater Staffing Flexibi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62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Proven Process Methodology, Roles &amp; Activities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2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993600"/>
            <a:ext cx="9143640" cy="557964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4"/>
          <p:cNvSpPr txBox="1"/>
          <p:nvPr/>
        </p:nvSpPr>
        <p:spPr>
          <a:xfrm>
            <a:off x="282600" y="1862280"/>
            <a:ext cx="8481600" cy="9536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s-CL" sz="3600" spc="-1" strike="noStrike">
                <a:ln w="0">
                  <a:noFill/>
                </a:ln>
                <a:solidFill>
                  <a:srgbClr val="808080"/>
                </a:solidFill>
                <a:latin typeface="Times New Roman"/>
              </a:rPr>
              <a:t>Thank You</a:t>
            </a:r>
            <a:endParaRPr b="0" lang="en-US" sz="3600" spc="-1" strike="noStrike">
              <a:ln w="0">
                <a:noFill/>
              </a:ln>
              <a:solidFill>
                <a:srgbClr val="80808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992240" y="3019320"/>
            <a:ext cx="4463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or further information, please 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042920" y="3487680"/>
            <a:ext cx="30207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anjeev Chad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EO &amp;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83 887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chadda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4994280" y="3435480"/>
            <a:ext cx="304128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Joydeep R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Technolo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855 753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jroy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057320" y="4951440"/>
            <a:ext cx="300636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Shailendra Ph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8490091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sphule@mindgridtech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4981680" y="4908600"/>
            <a:ext cx="3092040" cy="1276200"/>
          </a:xfrm>
          <a:prstGeom prst="rect">
            <a:avLst/>
          </a:prstGeom>
          <a:noFill/>
          <a:ln w="9525">
            <a:solidFill>
              <a:srgbClr val="ffaa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Ramana Mallikarj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Director, Produc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Cell) +91-92465 596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2"/>
                </a:solidFill>
                <a:latin typeface="Arial"/>
              </a:rPr>
              <a:t>(VOIP)+1-732 832 7206 x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</a:rPr>
              <a:t>Email mramana@mindgridtech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230480"/>
            <a:ext cx="9143640" cy="534312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ile technology experts say it has only been around since the early 1990s, its roots can be traced to World War 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the Truman and Eisenhower administrations during the 1950s, the United States increased imports to Japan by reducing tarif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Japan got back on its feet - the United States began importing apparel from it, and soon from South Korea, Hong Kong, Taiwan and the Philippines as wel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ftr" idx="9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7054560" cy="88236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Go Off S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74720" y="1109520"/>
            <a:ext cx="7927560" cy="4495320"/>
          </a:xfrm>
          <a:prstGeom prst="rect">
            <a:avLst/>
          </a:prstGeom>
          <a:noFill/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ificant Cost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or Improved Qu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lex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185840" y="4946760"/>
            <a:ext cx="6811560" cy="524520"/>
          </a:xfrm>
          <a:prstGeom prst="rect">
            <a:avLst/>
          </a:prstGeom>
          <a:solidFill>
            <a:srgbClr val="ff9900"/>
          </a:solidFill>
          <a:ln w="9525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1599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easurable And Immediat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46280" y="3932280"/>
            <a:ext cx="7865640" cy="51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because your competitors are (or will be) doing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6"/>
          <p:cNvGraphicFramePr/>
          <p:nvPr/>
        </p:nvGraphicFramePr>
        <p:xfrm>
          <a:off x="831960" y="1006560"/>
          <a:ext cx="7651440" cy="487152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006560"/>
                    <a:ext cx="7651440" cy="48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1: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5993640" y="563868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4611600" y="2048040"/>
            <a:ext cx="1371240" cy="81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 Than 1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630840" y="248436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re Than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629400" y="4648320"/>
            <a:ext cx="144756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% to 3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42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3800" y="2363760"/>
            <a:ext cx="1523520" cy="63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0% to 50% Savings Repor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9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0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6"/>
          <p:cNvGraphicFramePr/>
          <p:nvPr/>
        </p:nvGraphicFramePr>
        <p:xfrm>
          <a:off x="290520" y="1104840"/>
          <a:ext cx="8548200" cy="4682880"/>
        </p:xfrm>
        <a:graphic>
          <a:graphicData uri="http://schemas.openxmlformats.org/presentationml/2006/ole">
            <p:oleObj progId="Excel.Sheet.8" r:id="rId1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04840"/>
                    <a:ext cx="854820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2: Highe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003000" y="5562720"/>
            <a:ext cx="2245680" cy="360360"/>
          </a:xfrm>
          <a:prstGeom prst="rect">
            <a:avLst/>
          </a:prstGeom>
          <a:solidFill>
            <a:srgbClr val="ffff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urce: IBM Business Consulting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InfoWorld Magaz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ftr" idx="11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ftr" idx="12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932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3: Faster Execution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762120" y="3336840"/>
            <a:ext cx="99036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752480" y="3336840"/>
            <a:ext cx="91404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666880" y="3336840"/>
            <a:ext cx="114264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36560" y="337824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8098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4800600" y="3336840"/>
            <a:ext cx="106632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858000" y="3336840"/>
            <a:ext cx="964800" cy="4060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983480" y="334152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620800" y="337356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 rot="5396400">
            <a:off x="1467360" y="2106720"/>
            <a:ext cx="491760" cy="1907640"/>
          </a:xfrm>
          <a:prstGeom prst="leftBrace">
            <a:avLst>
              <a:gd name="adj1" fmla="val 3231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/>
          <p:cNvSpPr/>
          <p:nvPr/>
        </p:nvSpPr>
        <p:spPr>
          <a:xfrm rot="5396400">
            <a:off x="3487680" y="1993680"/>
            <a:ext cx="491760" cy="2133360"/>
          </a:xfrm>
          <a:prstGeom prst="leftBrace">
            <a:avLst>
              <a:gd name="adj1" fmla="val 3612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/>
          <p:cNvSpPr/>
          <p:nvPr/>
        </p:nvSpPr>
        <p:spPr>
          <a:xfrm rot="5396400">
            <a:off x="5583240" y="2031480"/>
            <a:ext cx="491760" cy="2057040"/>
          </a:xfrm>
          <a:prstGeom prst="leftBrace">
            <a:avLst>
              <a:gd name="adj1" fmla="val 34839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5867280" y="3336840"/>
            <a:ext cx="99036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7823160" y="3336840"/>
            <a:ext cx="939600" cy="4060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7"/>
          <p:cNvSpPr/>
          <p:nvPr/>
        </p:nvSpPr>
        <p:spPr>
          <a:xfrm rot="5396400">
            <a:off x="7569000" y="2132640"/>
            <a:ext cx="493200" cy="1891800"/>
          </a:xfrm>
          <a:prstGeom prst="leftBrace">
            <a:avLst>
              <a:gd name="adj1" fmla="val 31940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122400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3265560" y="30132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0"/>
          <p:cNvSpPr/>
          <p:nvPr/>
        </p:nvSpPr>
        <p:spPr>
          <a:xfrm>
            <a:off x="5414760" y="300996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7351560" y="3025800"/>
            <a:ext cx="9136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13737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33548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5488560" y="252396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5"/>
          <p:cNvSpPr/>
          <p:nvPr/>
        </p:nvSpPr>
        <p:spPr>
          <a:xfrm>
            <a:off x="7469640" y="258120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6"/>
          <p:cNvSpPr/>
          <p:nvPr/>
        </p:nvSpPr>
        <p:spPr>
          <a:xfrm>
            <a:off x="6807240" y="33544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7"/>
          <p:cNvSpPr/>
          <p:nvPr/>
        </p:nvSpPr>
        <p:spPr>
          <a:xfrm>
            <a:off x="2743200" y="5083200"/>
            <a:ext cx="101556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8"/>
          <p:cNvSpPr/>
          <p:nvPr/>
        </p:nvSpPr>
        <p:spPr>
          <a:xfrm>
            <a:off x="3733920" y="5083200"/>
            <a:ext cx="109188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768760" y="5151600"/>
            <a:ext cx="9903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QA Build and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Test Cycle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0"/>
          <p:cNvSpPr/>
          <p:nvPr/>
        </p:nvSpPr>
        <p:spPr>
          <a:xfrm rot="5396400">
            <a:off x="3513960" y="3737880"/>
            <a:ext cx="539280" cy="2080800"/>
          </a:xfrm>
          <a:prstGeom prst="leftBrace">
            <a:avLst>
              <a:gd name="adj1" fmla="val 32132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1"/>
          <p:cNvSpPr/>
          <p:nvPr/>
        </p:nvSpPr>
        <p:spPr>
          <a:xfrm rot="5396400">
            <a:off x="5607720" y="3721680"/>
            <a:ext cx="539280" cy="2109600"/>
          </a:xfrm>
          <a:prstGeom prst="leftBrace">
            <a:avLst>
              <a:gd name="adj1" fmla="val 32574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2856600" y="482760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3"/>
          <p:cNvSpPr/>
          <p:nvPr/>
        </p:nvSpPr>
        <p:spPr>
          <a:xfrm>
            <a:off x="3456720" y="419112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4"/>
          <p:cNvSpPr/>
          <p:nvPr/>
        </p:nvSpPr>
        <p:spPr>
          <a:xfrm>
            <a:off x="5437800" y="4254480"/>
            <a:ext cx="67608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5"/>
          <p:cNvSpPr/>
          <p:nvPr/>
        </p:nvSpPr>
        <p:spPr>
          <a:xfrm>
            <a:off x="4826160" y="5083200"/>
            <a:ext cx="1041120" cy="4456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6"/>
          <p:cNvSpPr/>
          <p:nvPr/>
        </p:nvSpPr>
        <p:spPr>
          <a:xfrm>
            <a:off x="5009040" y="5114880"/>
            <a:ext cx="79056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Implemen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5867280" y="5079960"/>
            <a:ext cx="1053720" cy="44568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8"/>
          <p:cNvSpPr/>
          <p:nvPr/>
        </p:nvSpPr>
        <p:spPr>
          <a:xfrm>
            <a:off x="2987640" y="1170000"/>
            <a:ext cx="3292200" cy="817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Control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9"/>
          <p:cNvSpPr/>
          <p:nvPr/>
        </p:nvSpPr>
        <p:spPr>
          <a:xfrm>
            <a:off x="3662280" y="5138640"/>
            <a:ext cx="13028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Define/Document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0"/>
          <p:cNvSpPr/>
          <p:nvPr/>
        </p:nvSpPr>
        <p:spPr>
          <a:xfrm>
            <a:off x="5867280" y="5114880"/>
            <a:ext cx="1142640" cy="405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Review/Accept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Times New Roman"/>
              </a:rPr>
              <a:t>Change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1"/>
          <p:cNvSpPr/>
          <p:nvPr/>
        </p:nvSpPr>
        <p:spPr>
          <a:xfrm>
            <a:off x="4964760" y="4830840"/>
            <a:ext cx="1826640" cy="32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fshore   On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761760" y="3763800"/>
            <a:ext cx="1981440" cy="12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3"/>
          <p:cNvSpPr/>
          <p:nvPr/>
        </p:nvSpPr>
        <p:spPr>
          <a:xfrm flipV="1">
            <a:off x="6946560" y="3752640"/>
            <a:ext cx="1828800" cy="13273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6"/>
          <p:cNvSpPr/>
          <p:nvPr/>
        </p:nvSpPr>
        <p:spPr>
          <a:xfrm>
            <a:off x="1755720" y="3741840"/>
            <a:ext cx="914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7"/>
          <p:cNvSpPr/>
          <p:nvPr/>
        </p:nvSpPr>
        <p:spPr>
          <a:xfrm>
            <a:off x="758880" y="3741840"/>
            <a:ext cx="987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8"/>
          <p:cNvSpPr/>
          <p:nvPr/>
        </p:nvSpPr>
        <p:spPr>
          <a:xfrm>
            <a:off x="38116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9"/>
          <p:cNvSpPr/>
          <p:nvPr/>
        </p:nvSpPr>
        <p:spPr>
          <a:xfrm>
            <a:off x="2670120" y="3741840"/>
            <a:ext cx="11426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0"/>
          <p:cNvSpPr/>
          <p:nvPr/>
        </p:nvSpPr>
        <p:spPr>
          <a:xfrm>
            <a:off x="5869080" y="3741840"/>
            <a:ext cx="98712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1"/>
          <p:cNvSpPr/>
          <p:nvPr/>
        </p:nvSpPr>
        <p:spPr>
          <a:xfrm>
            <a:off x="4799160" y="3741840"/>
            <a:ext cx="106956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7824960" y="3741840"/>
            <a:ext cx="94104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3"/>
          <p:cNvSpPr/>
          <p:nvPr/>
        </p:nvSpPr>
        <p:spPr>
          <a:xfrm>
            <a:off x="6856560" y="3741840"/>
            <a:ext cx="96804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4"/>
          <p:cNvSpPr/>
          <p:nvPr/>
        </p:nvSpPr>
        <p:spPr>
          <a:xfrm>
            <a:off x="3728880" y="5529240"/>
            <a:ext cx="108720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5"/>
          <p:cNvSpPr/>
          <p:nvPr/>
        </p:nvSpPr>
        <p:spPr>
          <a:xfrm>
            <a:off x="2741760" y="5529240"/>
            <a:ext cx="1014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6"/>
          <p:cNvSpPr/>
          <p:nvPr/>
        </p:nvSpPr>
        <p:spPr>
          <a:xfrm>
            <a:off x="5867280" y="5511960"/>
            <a:ext cx="1050480" cy="1821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ve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7"/>
          <p:cNvSpPr/>
          <p:nvPr/>
        </p:nvSpPr>
        <p:spPr>
          <a:xfrm>
            <a:off x="4826160" y="5511960"/>
            <a:ext cx="1041120" cy="182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579800" cy="98064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 #4: Increase 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582560"/>
            <a:ext cx="9143640" cy="4990680"/>
          </a:xfrm>
          <a:prstGeom prst="rect">
            <a:avLst/>
          </a:prstGeom>
          <a:solidFill>
            <a:srgbClr val="f3f3f3"/>
          </a:solidFill>
          <a:ln w="9360">
            <a:noFill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t">
            <a:noAutofit/>
          </a:bodyPr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Need To Hire &amp; Fire People For Short Term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A Small Team For A Proof Of Concept Project – DONE Immediatel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Augment Development Immediately – DONE!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2239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ed To Supplement Staff Or Backfill Key People – D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13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4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102528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3"/>
          <p:cNvSpPr/>
          <p:nvPr/>
        </p:nvSpPr>
        <p:spPr>
          <a:xfrm>
            <a:off x="3330720" y="1457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5540400" y="366696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816120" y="3743280"/>
            <a:ext cx="2285640" cy="914040"/>
          </a:xfrm>
          <a:prstGeom prst="ellipse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3483000" y="290520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8660000">
            <a:off x="1585080" y="2683800"/>
            <a:ext cx="2209320" cy="401400"/>
          </a:xfrm>
          <a:prstGeom prst="rightArrow">
            <a:avLst>
              <a:gd name="adj1" fmla="val 50000"/>
              <a:gd name="adj2" fmla="val 13754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8"/>
          <p:cNvSpPr/>
          <p:nvPr/>
        </p:nvSpPr>
        <p:spPr>
          <a:xfrm rot="2978400">
            <a:off x="5051520" y="2720880"/>
            <a:ext cx="2252160" cy="401400"/>
          </a:xfrm>
          <a:prstGeom prst="rightArrow">
            <a:avLst>
              <a:gd name="adj1" fmla="val 50000"/>
              <a:gd name="adj2" fmla="val 14021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9"/>
          <p:cNvSpPr/>
          <p:nvPr/>
        </p:nvSpPr>
        <p:spPr>
          <a:xfrm rot="10800000">
            <a:off x="3026160" y="3948480"/>
            <a:ext cx="2592000" cy="404280"/>
          </a:xfrm>
          <a:prstGeom prst="rightArrow">
            <a:avLst>
              <a:gd name="adj1" fmla="val 50000"/>
              <a:gd name="adj2" fmla="val 160098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892080" y="480996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5388120" y="1685880"/>
            <a:ext cx="21333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692680" y="4657680"/>
            <a:ext cx="213336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n-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Off-Sh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ftr" idx="15"/>
          </p:nvPr>
        </p:nvSpPr>
        <p:spPr>
          <a:xfrm>
            <a:off x="0" y="6553080"/>
            <a:ext cx="28951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uilding A Case For Off-Shore Outsourc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91960" y="0"/>
            <a:ext cx="6980040" cy="945720"/>
          </a:xfrm>
          <a:prstGeom prst="rect">
            <a:avLst/>
          </a:prstGeom>
          <a:solidFill>
            <a:srgbClr val="3b90f7"/>
          </a:solidFill>
          <a:ln w="9360">
            <a:solidFill>
              <a:srgbClr val="d9d9d9"/>
            </a:solidFill>
            <a:miter/>
          </a:ln>
          <a:effectLst>
            <a:outerShdw dist="35638" dir="2700000" blurRad="0" rotWithShape="0">
              <a:srgbClr val="80808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sourcing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4600" cy="609120"/>
          </a:xfrm>
          <a:prstGeom prst="rect">
            <a:avLst/>
          </a:prstGeom>
          <a:ln w="9525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609480" y="289548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438280" y="1828800"/>
            <a:ext cx="21333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666880" y="1371600"/>
            <a:ext cx="144756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n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2743200" y="198108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274320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H="1">
            <a:off x="1981080" y="327636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1981080" y="3276360"/>
            <a:ext cx="360" cy="381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1"/>
          <p:cNvSpPr/>
          <p:nvPr/>
        </p:nvSpPr>
        <p:spPr>
          <a:xfrm flipH="1">
            <a:off x="1295280" y="365760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1295280" y="32004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3"/>
          <p:cNvSpPr/>
          <p:nvPr/>
        </p:nvSpPr>
        <p:spPr>
          <a:xfrm flipH="1">
            <a:off x="1981080" y="2209680"/>
            <a:ext cx="76212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1981080" y="19047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5"/>
          <p:cNvSpPr/>
          <p:nvPr/>
        </p:nvSpPr>
        <p:spPr>
          <a:xfrm flipH="1">
            <a:off x="1295280" y="190476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1295280" y="19047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2743200" y="3962520"/>
            <a:ext cx="1371240" cy="990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ul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5410080" y="1828800"/>
            <a:ext cx="2819160" cy="3580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CL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9"/>
          <p:cNvSpPr/>
          <p:nvPr/>
        </p:nvSpPr>
        <p:spPr>
          <a:xfrm>
            <a:off x="5676840" y="1371600"/>
            <a:ext cx="186660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</a:rPr>
              <a:t>Off-S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0"/>
          <p:cNvSpPr/>
          <p:nvPr/>
        </p:nvSpPr>
        <p:spPr>
          <a:xfrm>
            <a:off x="5715000" y="2057400"/>
            <a:ext cx="220932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"/>
          <p:cNvSpPr/>
          <p:nvPr/>
        </p:nvSpPr>
        <p:spPr>
          <a:xfrm>
            <a:off x="6248520" y="2971800"/>
            <a:ext cx="1371240" cy="5331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2"/>
          <p:cNvSpPr/>
          <p:nvPr/>
        </p:nvSpPr>
        <p:spPr>
          <a:xfrm flipH="1">
            <a:off x="4114800" y="3276360"/>
            <a:ext cx="2133360" cy="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3"/>
          <p:cNvSpPr/>
          <p:nvPr/>
        </p:nvSpPr>
        <p:spPr>
          <a:xfrm>
            <a:off x="3352680" y="350496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4"/>
          <p:cNvSpPr/>
          <p:nvPr/>
        </p:nvSpPr>
        <p:spPr>
          <a:xfrm>
            <a:off x="3352680" y="251460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6248520" y="3809880"/>
            <a:ext cx="1371240" cy="14475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6"/>
          <p:cNvSpPr/>
          <p:nvPr/>
        </p:nvSpPr>
        <p:spPr>
          <a:xfrm>
            <a:off x="6933960" y="3504960"/>
            <a:ext cx="360" cy="3049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s-CL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27"/>
          <p:cNvSpPr/>
          <p:nvPr/>
        </p:nvSpPr>
        <p:spPr>
          <a:xfrm>
            <a:off x="1981080" y="5562720"/>
            <a:ext cx="297144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Assessment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Implementation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5486400" y="5486400"/>
            <a:ext cx="29714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Development &amp; Test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GT">
  <a:themeElements>
    <a:clrScheme name="MGT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:\Documents and Settings\schadda\Application Data\Microsoft\Templates\MGT.pot</Template>
  <TotalTime>1022566</TotalTime>
  <Application>LibreOffice/7.4.7.2$Linux_X86_64 LibreOffice_project/40$Build-2</Application>
  <AppVersion>15.0000</AppVersion>
  <Words>673</Words>
  <Paragraphs>233</Paragraphs>
  <Company>MindGrid Technologie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14:46:38Z</dcterms:created>
  <dc:creator>Sanjeev Chadda</dc:creator>
  <dc:description/>
  <dc:language>en-US</dc:language>
  <cp:lastModifiedBy>Antonio</cp:lastModifiedBy>
  <dcterms:modified xsi:type="dcterms:W3CDTF">2008-09-10T17:23:50Z</dcterms:modified>
  <cp:revision>525</cp:revision>
  <dc:subject/>
  <dc:title>MindGrid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Notes">
    <vt:r8>1</vt:r8>
  </property>
  <property fmtid="{D5CDD505-2E9C-101B-9397-08002B2CF9AE}" pid="4" name="PresentationFormat">
    <vt:lpwstr>Letter Paper (8.5x11 in)</vt:lpwstr>
  </property>
  <property fmtid="{D5CDD505-2E9C-101B-9397-08002B2CF9AE}" pid="5" name="Slides">
    <vt:r8>15</vt:r8>
  </property>
  <property fmtid="{D5CDD505-2E9C-101B-9397-08002B2CF9AE}" pid="6" name="_Version">
    <vt:lpwstr/>
  </property>
</Properties>
</file>