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D30E14-F81E-49C3-9B58-40877B97B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22"/>
          </p:nvPr>
        </p:nvSpPr>
        <p:spPr>
          <a:xfrm>
            <a:off x="4108320" y="9129600"/>
            <a:ext cx="3203280" cy="44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E7E78F-DDC5-4F25-A49B-767D01079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281240" y="743040"/>
            <a:ext cx="4749480" cy="356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985680" y="4527720"/>
            <a:ext cx="5339880" cy="437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97CEE8F5-C2B3-439F-AAFB-E8840B235F01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5" descr=""/>
          <p:cNvPicPr/>
          <p:nvPr/>
        </p:nvPicPr>
        <p:blipFill>
          <a:blip r:embed="rId3"/>
          <a:stretch/>
        </p:blipFill>
        <p:spPr>
          <a:xfrm>
            <a:off x="2981160" y="3587760"/>
            <a:ext cx="2862000" cy="298728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5843520" y="3608280"/>
            <a:ext cx="3300120" cy="2962080"/>
          </a:xfrm>
          <a:prstGeom prst="rect">
            <a:avLst/>
          </a:prstGeom>
          <a:ln w="9525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5"/>
          <a:stretch/>
        </p:blipFill>
        <p:spPr>
          <a:xfrm>
            <a:off x="0" y="3595680"/>
            <a:ext cx="2980800" cy="2980800"/>
          </a:xfrm>
          <a:prstGeom prst="rect">
            <a:avLst/>
          </a:prstGeom>
          <a:ln w="9525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3640" cy="146952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8F27E58B-C69F-4043-8B06-DEEF4E83B096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A6FD1FD4-A6D4-499D-A369-2EF3003311E0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A9B7452F-95DF-4087-BDD1-812A1F51A26D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53722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697CB8E-312D-4D6C-9CFA-CE62952C6ECC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8080" y="1244520"/>
            <a:ext cx="7619760" cy="165060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shore Outsourc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 to Increased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11320" y="132732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n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Setup and Defin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AT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3200" y="1353960"/>
            <a:ext cx="383976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ffsh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agement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iverable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ign &amp;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ing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t Project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6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525680"/>
            <a:ext cx="9143640" cy="479556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Project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gram Mgmt &amp; Onshore/Offshore Coord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 and Infrastructure Implementation/Mgm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 Analysis, Scope Estimation, Deliverable Mgm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ments Development/Documentation &amp; Knowledge Transf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-Site Business Analy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 Transfer to Offshore Te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, Post-Project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-Shore Development T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cts, Software Engineers, QA Engineers, Tech Wri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rgeted Skill S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ming, QA/Testing, Technical Suppor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Success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79440"/>
            <a:ext cx="9143640" cy="49795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coordination between the onsite and offshor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point of contact for day-to-da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ation path is def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ular project status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based teleco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 and complete spec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ope of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cases &amp; scenar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y turnaround for questions and clar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business da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business days maximu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298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410"/>
          <p:cNvSpPr/>
          <p:nvPr/>
        </p:nvSpPr>
        <p:spPr>
          <a:xfrm>
            <a:off x="558720" y="1600200"/>
            <a:ext cx="3466800" cy="10663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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411"/>
          <p:cNvSpPr/>
          <p:nvPr/>
        </p:nvSpPr>
        <p:spPr>
          <a:xfrm>
            <a:off x="1187280" y="2971800"/>
            <a:ext cx="3268440" cy="106632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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ff-Shor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s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412"/>
          <p:cNvSpPr/>
          <p:nvPr/>
        </p:nvSpPr>
        <p:spPr>
          <a:xfrm>
            <a:off x="874800" y="4419720"/>
            <a:ext cx="3450960" cy="1066320"/>
          </a:xfrm>
          <a:prstGeom prst="rect">
            <a:avLst/>
          </a:prstGeom>
          <a:solidFill>
            <a:srgbClr val="ccff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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ning &amp;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111"/>
          <p:cNvSpPr/>
          <p:nvPr/>
        </p:nvSpPr>
        <p:spPr>
          <a:xfrm>
            <a:off x="5227560" y="1650960"/>
            <a:ext cx="3123720" cy="39985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-Line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ment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112"/>
          <p:cNvSpPr/>
          <p:nvPr/>
        </p:nvSpPr>
        <p:spPr>
          <a:xfrm>
            <a:off x="2246040" y="2666880"/>
            <a:ext cx="106704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113"/>
          <p:cNvSpPr/>
          <p:nvPr/>
        </p:nvSpPr>
        <p:spPr>
          <a:xfrm flipH="1">
            <a:off x="1941480" y="4038480"/>
            <a:ext cx="1218960" cy="3808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114"/>
          <p:cNvSpPr/>
          <p:nvPr/>
        </p:nvSpPr>
        <p:spPr>
          <a:xfrm>
            <a:off x="4456080" y="3504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6198480" y="1117440"/>
            <a:ext cx="1267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7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gnificant Benefi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%-60% Bottom Line Cost Sav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Product 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ter Execution Sp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Staffing 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Proven Process Methodology, Roles &amp; Activiti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WordArt 4"/>
          <p:cNvSpPr txBox="1"/>
          <p:nvPr/>
        </p:nvSpPr>
        <p:spPr>
          <a:xfrm>
            <a:off x="282600" y="1862280"/>
            <a:ext cx="8481600" cy="95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s-CL" sz="3600" spc="-1" strike="noStrike">
                <a:ln w="0">
                  <a:noFill/>
                </a:ln>
                <a:solidFill>
                  <a:srgbClr val="808080"/>
                </a:solidFill>
                <a:latin typeface="Times New Roman"/>
              </a:rPr>
              <a:t>Thank You</a:t>
            </a:r>
            <a:endParaRPr b="0" lang="en-US" sz="3600" spc="-1" strike="noStrike">
              <a:ln w="0">
                <a:noFill/>
              </a:ln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992240" y="3019320"/>
            <a:ext cx="446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or further information, please cont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042920" y="3487680"/>
            <a:ext cx="30207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anjeev Chad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EO &amp;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83 887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chadda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4994280" y="3435480"/>
            <a:ext cx="304128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Joydeep R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Technolog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855 753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jroy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057320" y="4951440"/>
            <a:ext cx="30063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hailendra P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90091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phule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4981680" y="4908600"/>
            <a:ext cx="309204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Ramana Mallikarj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Produc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2465 596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mramana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2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30480"/>
            <a:ext cx="9143640" cy="53431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technology experts say it has only been around since the early 1990s, its roots can be traced to World War 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the Truman and Eisenhower administrations during the 1950s, the United States increased imports to Japan by reducing tarif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Japan got back on its feet - the United States began importing apparel from it, and soon from South Korea, Hong Kong, Taiwan and the Philippines as we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ftr" idx="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705456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Go Off Sh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74720" y="1109520"/>
            <a:ext cx="7927560" cy="44953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 Cost Sav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or Improved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lex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185840" y="4946760"/>
            <a:ext cx="6811560" cy="524520"/>
          </a:xfrm>
          <a:prstGeom prst="rect">
            <a:avLst/>
          </a:prstGeom>
          <a:solidFill>
            <a:srgbClr val="ff9900"/>
          </a:solidFill>
          <a:ln w="9525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surable And Immediat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46280" y="3932280"/>
            <a:ext cx="7865640" cy="51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because your competitors are (or will be) doing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6"/>
          <p:cNvGraphicFramePr/>
          <p:nvPr/>
        </p:nvGraphicFramePr>
        <p:xfrm>
          <a:off x="831960" y="1006560"/>
          <a:ext cx="7651440" cy="487152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006560"/>
                    <a:ext cx="7651440" cy="48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1: 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993640" y="563868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611600" y="2048040"/>
            <a:ext cx="1371240" cy="81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 Than 1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630840" y="248436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e Than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629400" y="464832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% to 3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3800" y="2363760"/>
            <a:ext cx="152352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% to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6"/>
          <p:cNvGraphicFramePr/>
          <p:nvPr/>
        </p:nvGraphicFramePr>
        <p:xfrm>
          <a:off x="290520" y="1104840"/>
          <a:ext cx="8548200" cy="46828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104840"/>
                    <a:ext cx="854820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2: Highe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003000" y="556272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ftr" idx="1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932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3: Faster Executio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762120" y="3336840"/>
            <a:ext cx="99036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752480" y="3336840"/>
            <a:ext cx="91404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666880" y="3336840"/>
            <a:ext cx="114264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36560" y="337824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098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800600" y="3336840"/>
            <a:ext cx="106632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858000" y="3336840"/>
            <a:ext cx="96480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83480" y="334152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620800" y="337356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 rot="5396400">
            <a:off x="1467360" y="2106720"/>
            <a:ext cx="491760" cy="1907640"/>
          </a:xfrm>
          <a:prstGeom prst="leftBrace">
            <a:avLst>
              <a:gd name="adj1" fmla="val 3231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/>
          <p:cNvSpPr/>
          <p:nvPr/>
        </p:nvSpPr>
        <p:spPr>
          <a:xfrm rot="5396400">
            <a:off x="3487680" y="1993680"/>
            <a:ext cx="491760" cy="2133360"/>
          </a:xfrm>
          <a:prstGeom prst="leftBrace">
            <a:avLst>
              <a:gd name="adj1" fmla="val 3612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 rot="5396400">
            <a:off x="5583240" y="2031480"/>
            <a:ext cx="491760" cy="2057040"/>
          </a:xfrm>
          <a:prstGeom prst="leftBrace">
            <a:avLst>
              <a:gd name="adj1" fmla="val 3483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58672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823160" y="3336840"/>
            <a:ext cx="93960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 rot="5396400">
            <a:off x="7569000" y="2132640"/>
            <a:ext cx="493200" cy="1891800"/>
          </a:xfrm>
          <a:prstGeom prst="leftBrace">
            <a:avLst>
              <a:gd name="adj1" fmla="val 31940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22400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265560" y="30132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541476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7351560" y="30258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13737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3548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54885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74696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6807240" y="33544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2743200" y="5083200"/>
            <a:ext cx="101556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3733920" y="5083200"/>
            <a:ext cx="109188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768760" y="515160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0"/>
          <p:cNvSpPr/>
          <p:nvPr/>
        </p:nvSpPr>
        <p:spPr>
          <a:xfrm rot="5396400">
            <a:off x="3513960" y="3737880"/>
            <a:ext cx="539280" cy="2080800"/>
          </a:xfrm>
          <a:prstGeom prst="leftBrace">
            <a:avLst>
              <a:gd name="adj1" fmla="val 3213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1"/>
          <p:cNvSpPr/>
          <p:nvPr/>
        </p:nvSpPr>
        <p:spPr>
          <a:xfrm rot="5396400">
            <a:off x="5607720" y="3721680"/>
            <a:ext cx="539280" cy="2109600"/>
          </a:xfrm>
          <a:prstGeom prst="leftBrace">
            <a:avLst>
              <a:gd name="adj1" fmla="val 32574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2856600" y="482760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3456720" y="419112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5437800" y="425448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4826160" y="5083200"/>
            <a:ext cx="104112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5009040" y="511488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5867280" y="5079960"/>
            <a:ext cx="105372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2987640" y="1170000"/>
            <a:ext cx="3292200" cy="81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Control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3662280" y="513864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0"/>
          <p:cNvSpPr/>
          <p:nvPr/>
        </p:nvSpPr>
        <p:spPr>
          <a:xfrm>
            <a:off x="5867280" y="51148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1"/>
          <p:cNvSpPr/>
          <p:nvPr/>
        </p:nvSpPr>
        <p:spPr>
          <a:xfrm>
            <a:off x="4964760" y="483084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761760" y="3763800"/>
            <a:ext cx="1981440" cy="12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3"/>
          <p:cNvSpPr/>
          <p:nvPr/>
        </p:nvSpPr>
        <p:spPr>
          <a:xfrm flipV="1">
            <a:off x="6946560" y="3752640"/>
            <a:ext cx="1828800" cy="13273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6"/>
          <p:cNvSpPr/>
          <p:nvPr/>
        </p:nvSpPr>
        <p:spPr>
          <a:xfrm>
            <a:off x="1755720" y="3741840"/>
            <a:ext cx="914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7"/>
          <p:cNvSpPr/>
          <p:nvPr/>
        </p:nvSpPr>
        <p:spPr>
          <a:xfrm>
            <a:off x="758880" y="3741840"/>
            <a:ext cx="987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8"/>
          <p:cNvSpPr/>
          <p:nvPr/>
        </p:nvSpPr>
        <p:spPr>
          <a:xfrm>
            <a:off x="38116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9"/>
          <p:cNvSpPr/>
          <p:nvPr/>
        </p:nvSpPr>
        <p:spPr>
          <a:xfrm>
            <a:off x="2670120" y="3741840"/>
            <a:ext cx="11426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0"/>
          <p:cNvSpPr/>
          <p:nvPr/>
        </p:nvSpPr>
        <p:spPr>
          <a:xfrm>
            <a:off x="58690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1"/>
          <p:cNvSpPr/>
          <p:nvPr/>
        </p:nvSpPr>
        <p:spPr>
          <a:xfrm>
            <a:off x="4799160" y="3741840"/>
            <a:ext cx="106956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7824960" y="3741840"/>
            <a:ext cx="941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6856560" y="3741840"/>
            <a:ext cx="9680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3728880" y="5529240"/>
            <a:ext cx="108720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5"/>
          <p:cNvSpPr/>
          <p:nvPr/>
        </p:nvSpPr>
        <p:spPr>
          <a:xfrm>
            <a:off x="2741760" y="5529240"/>
            <a:ext cx="1014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6"/>
          <p:cNvSpPr/>
          <p:nvPr/>
        </p:nvSpPr>
        <p:spPr>
          <a:xfrm>
            <a:off x="5867280" y="5511960"/>
            <a:ext cx="105048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7"/>
          <p:cNvSpPr/>
          <p:nvPr/>
        </p:nvSpPr>
        <p:spPr>
          <a:xfrm>
            <a:off x="4826160" y="5511960"/>
            <a:ext cx="1041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4: Increase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582560"/>
            <a:ext cx="9143640" cy="499068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Need To Hire &amp; Fire People For Short Term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A Small Team For A Proof Of Concept Project – DONE Immediatel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Augment Development Immediately – DONE!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Supplement Staff Or Backfill Key People –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14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1025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"/>
          <p:cNvSpPr/>
          <p:nvPr/>
        </p:nvSpPr>
        <p:spPr>
          <a:xfrm>
            <a:off x="3330720" y="1457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5540400" y="366696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816120" y="3743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483000" y="290520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8660000">
            <a:off x="1585080" y="2683800"/>
            <a:ext cx="2209320" cy="401400"/>
          </a:xfrm>
          <a:prstGeom prst="rightArrow">
            <a:avLst>
              <a:gd name="adj1" fmla="val 50000"/>
              <a:gd name="adj2" fmla="val 137549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 rot="2978400">
            <a:off x="5051520" y="2720880"/>
            <a:ext cx="2252160" cy="401400"/>
          </a:xfrm>
          <a:prstGeom prst="rightArrow">
            <a:avLst>
              <a:gd name="adj1" fmla="val 50000"/>
              <a:gd name="adj2" fmla="val 14021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9"/>
          <p:cNvSpPr/>
          <p:nvPr/>
        </p:nvSpPr>
        <p:spPr>
          <a:xfrm rot="10800000">
            <a:off x="3026160" y="3948480"/>
            <a:ext cx="2592000" cy="404280"/>
          </a:xfrm>
          <a:prstGeom prst="rightArrow">
            <a:avLst>
              <a:gd name="adj1" fmla="val 50000"/>
              <a:gd name="adj2" fmla="val 16009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892080" y="480996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388120" y="1685880"/>
            <a:ext cx="21333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692680" y="465768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ftr" idx="15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4572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04600" cy="609120"/>
          </a:xfrm>
          <a:prstGeom prst="rect">
            <a:avLst/>
          </a:prstGeom>
          <a:ln w="9525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609480" y="289548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438280" y="1828800"/>
            <a:ext cx="21333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666880" y="137160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n-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743200" y="198108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74320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H="1">
            <a:off x="1981080" y="327636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1981080" y="32763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 flipH="1">
            <a:off x="1295280" y="365760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1295280" y="32004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 flipH="1">
            <a:off x="1981080" y="220968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1981080" y="19047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 flipH="1">
            <a:off x="1295280" y="190476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 flipV="1">
            <a:off x="1295280" y="19047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743200" y="3962520"/>
            <a:ext cx="1371240" cy="990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5410080" y="1828800"/>
            <a:ext cx="28191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5676840" y="1371600"/>
            <a:ext cx="186660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ff-S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715000" y="2057400"/>
            <a:ext cx="220932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24852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2"/>
          <p:cNvSpPr/>
          <p:nvPr/>
        </p:nvSpPr>
        <p:spPr>
          <a:xfrm flipH="1">
            <a:off x="4114800" y="3276360"/>
            <a:ext cx="213336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3352680" y="3504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3352680" y="25146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6248520" y="3809880"/>
            <a:ext cx="1371240" cy="1447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6933960" y="35049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1981080" y="5562720"/>
            <a:ext cx="2971440" cy="6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Assess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Implementa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5486400" y="5486400"/>
            <a:ext cx="297144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Development &amp; Test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Documents and Settings\schadda\Application Data\Microsoft\Templates\MGT.pot</Template>
  <TotalTime>1022566</TotalTime>
  <Application>LibreOffice/7.4.7.2$Linux_X86_64 LibreOffice_project/40$Build-2</Application>
  <AppVersion>15.0000</AppVersion>
  <Words>673</Words>
  <Paragraphs>233</Paragraphs>
  <Company>MindGrid Technologie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4:46:38Z</dcterms:created>
  <dc:creator>Sanjeev Chadda</dc:creator>
  <dc:description/>
  <dc:language>en-US</dc:language>
  <cp:lastModifiedBy>Antonio</cp:lastModifiedBy>
  <dcterms:modified xsi:type="dcterms:W3CDTF">2008-09-10T17:23:50Z</dcterms:modified>
  <cp:revision>525</cp:revision>
  <dc:subject/>
  <dc:title>MindGrid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Notes">
    <vt:r8>1</vt:r8>
  </property>
  <property fmtid="{D5CDD505-2E9C-101B-9397-08002B2CF9AE}" pid="4" name="PresentationFormat">
    <vt:lpwstr>Letter Paper (8.5x11 in)</vt:lpwstr>
  </property>
  <property fmtid="{D5CDD505-2E9C-101B-9397-08002B2CF9AE}" pid="5" name="Slides">
    <vt:r8>15</vt:r8>
  </property>
  <property fmtid="{D5CDD505-2E9C-101B-9397-08002B2CF9AE}" pid="6" name="_Version">
    <vt:lpwstr/>
  </property>
</Properties>
</file>