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EE4FAA-FC55-49A8-AD6F-4906B4FE8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Num" idx="22"/>
          </p:nvPr>
        </p:nvSpPr>
        <p:spPr>
          <a:xfrm>
            <a:off x="4108320" y="9129600"/>
            <a:ext cx="3203280" cy="444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70D87E-F96B-4FC2-833C-3FC59A180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Img"/>
          </p:nvPr>
        </p:nvSpPr>
        <p:spPr>
          <a:xfrm>
            <a:off x="1281240" y="743040"/>
            <a:ext cx="4749480" cy="3561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3"/>
          <p:cNvSpPr>
            <a:spLocks noGrp="1"/>
          </p:cNvSpPr>
          <p:nvPr>
            <p:ph type="body"/>
          </p:nvPr>
        </p:nvSpPr>
        <p:spPr>
          <a:xfrm>
            <a:off x="985680" y="4527720"/>
            <a:ext cx="5339880" cy="437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BB662821-1A17-4C02-B4C9-A267C4A0B3E5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pic>
        <p:nvPicPr>
          <p:cNvPr id="5" name="Picture 5" descr=""/>
          <p:cNvPicPr/>
          <p:nvPr/>
        </p:nvPicPr>
        <p:blipFill>
          <a:blip r:embed="rId3"/>
          <a:stretch/>
        </p:blipFill>
        <p:spPr>
          <a:xfrm>
            <a:off x="2981160" y="3587760"/>
            <a:ext cx="2862000" cy="2987280"/>
          </a:xfrm>
          <a:prstGeom prst="rect">
            <a:avLst/>
          </a:prstGeom>
          <a:ln w="9525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5843520" y="3608280"/>
            <a:ext cx="3300120" cy="2962080"/>
          </a:xfrm>
          <a:prstGeom prst="rect">
            <a:avLst/>
          </a:prstGeom>
          <a:ln w="9525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5"/>
          <a:stretch/>
        </p:blipFill>
        <p:spPr>
          <a:xfrm>
            <a:off x="0" y="3595680"/>
            <a:ext cx="2980800" cy="2980800"/>
          </a:xfrm>
          <a:prstGeom prst="rect">
            <a:avLst/>
          </a:prstGeom>
          <a:ln w="9525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3640" cy="1469520"/>
          </a:xfrm>
          <a:prstGeom prst="rect">
            <a:avLst/>
          </a:prstGeom>
          <a:solidFill>
            <a:srgbClr val="0070c0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F46C86CB-21A1-40E1-A147-8A47BC58923A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6A166EDD-94E2-4B9D-8F4E-2608796D0D03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433080"/>
          </a:xfrm>
          <a:prstGeom prst="rect">
            <a:avLst/>
          </a:prstGeom>
          <a:solidFill>
            <a:srgbClr val="e6f1fe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81CF6115-C7E2-4638-B637-63ED808CD617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433080"/>
          </a:xfrm>
          <a:prstGeom prst="rect">
            <a:avLst/>
          </a:prstGeom>
          <a:solidFill>
            <a:srgbClr val="e6f1fe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5372280" y="160020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3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7"/>
          </p:nvPr>
        </p:nvSpPr>
        <p:spPr>
          <a:xfrm>
            <a:off x="70102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33E3431-D5A2-4F6C-881D-DB846E7A410A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8080" y="1244520"/>
            <a:ext cx="7619760" cy="1650600"/>
          </a:xfrm>
          <a:prstGeom prst="rect">
            <a:avLst/>
          </a:prstGeom>
          <a:solidFill>
            <a:srgbClr val="0070c0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shore Outsourcin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h to Increased Prof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88236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jor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11320" y="132732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On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Setup and Defin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Exec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AT &amp;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3200" y="1353960"/>
            <a:ext cx="383976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Offsh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gagement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iverable Manag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Exec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/Technical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sign &amp;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ing &amp;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t Project Supp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6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525680"/>
            <a:ext cx="9143640" cy="479556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all Project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all Program Mgmt &amp; Onshore/Offshore Coord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ss and Infrastructure Implementation/Mgm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 Analysis, Scope Estimation, Deliverable Mgm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rements Development/Documentation &amp; Knowledge Transf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-Site Business Analy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/Technical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nowledge Transfer to Offshore Te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, Post-Project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f-Shore Development T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cts, Software Engineers, QA Engineers, Tech Wri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rgeted Skill S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ming, QA/Testing, Technical Suppor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ical Success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279440"/>
            <a:ext cx="9143640" cy="49795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coordination between the onsite and offshore t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point of contact for day-to-day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calation path is defi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ular project status upd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ed based teleconfere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ar and complete spec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ope of 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Specif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Specif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cases &amp; scenari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ly turnaround for questions and clar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xt business da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business days maximu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8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298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410"/>
          <p:cNvSpPr/>
          <p:nvPr/>
        </p:nvSpPr>
        <p:spPr>
          <a:xfrm>
            <a:off x="558720" y="1600200"/>
            <a:ext cx="3466800" cy="10663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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-Site 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sines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 Level 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411"/>
          <p:cNvSpPr/>
          <p:nvPr/>
        </p:nvSpPr>
        <p:spPr>
          <a:xfrm>
            <a:off x="1187280" y="2971800"/>
            <a:ext cx="3268440" cy="106632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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ff-Shore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 Level 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s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412"/>
          <p:cNvSpPr/>
          <p:nvPr/>
        </p:nvSpPr>
        <p:spPr>
          <a:xfrm>
            <a:off x="874800" y="4419720"/>
            <a:ext cx="3450960" cy="1066320"/>
          </a:xfrm>
          <a:prstGeom prst="rect">
            <a:avLst/>
          </a:prstGeom>
          <a:solidFill>
            <a:srgbClr val="ccff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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-Site 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ptance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ining &amp;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111"/>
          <p:cNvSpPr/>
          <p:nvPr/>
        </p:nvSpPr>
        <p:spPr>
          <a:xfrm>
            <a:off x="5227560" y="1650960"/>
            <a:ext cx="3123720" cy="39985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-Line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irements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8112"/>
          <p:cNvSpPr/>
          <p:nvPr/>
        </p:nvSpPr>
        <p:spPr>
          <a:xfrm>
            <a:off x="2246040" y="2666880"/>
            <a:ext cx="1067040" cy="3049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113"/>
          <p:cNvSpPr/>
          <p:nvPr/>
        </p:nvSpPr>
        <p:spPr>
          <a:xfrm flipH="1">
            <a:off x="1941480" y="4038480"/>
            <a:ext cx="1218960" cy="38088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114"/>
          <p:cNvSpPr/>
          <p:nvPr/>
        </p:nvSpPr>
        <p:spPr>
          <a:xfrm>
            <a:off x="4456080" y="3504960"/>
            <a:ext cx="7617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9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6198480" y="1117440"/>
            <a:ext cx="12675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993600"/>
            <a:ext cx="9143640" cy="557964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70000"/>
              </a:lnSpc>
              <a:spcBef>
                <a:spcPts val="62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gnificant Benefit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%-60% Bottom Line Cost Sav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Product 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ster Execution Spe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eater Staffing Flexi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62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Proven Process Methodology, Roles &amp; Activitie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20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993600"/>
            <a:ext cx="9143640" cy="557964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WordArt 4"/>
          <p:cNvSpPr txBox="1"/>
          <p:nvPr/>
        </p:nvSpPr>
        <p:spPr>
          <a:xfrm>
            <a:off x="282600" y="1862280"/>
            <a:ext cx="8481600" cy="95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s-CL" sz="3600" spc="-1" strike="noStrike">
                <a:ln w="0">
                  <a:noFill/>
                </a:ln>
                <a:solidFill>
                  <a:srgbClr val="808080"/>
                </a:solidFill>
                <a:latin typeface="Times New Roman"/>
              </a:rPr>
              <a:t>Thank You</a:t>
            </a:r>
            <a:endParaRPr b="0" lang="en-US" sz="3600" spc="-1" strike="noStrike">
              <a:ln w="0">
                <a:noFill/>
              </a:ln>
              <a:solidFill>
                <a:srgbClr val="80808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992240" y="3019320"/>
            <a:ext cx="446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or further information, please cont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042920" y="3487680"/>
            <a:ext cx="302076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anjeev Chad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CEO &amp;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483 887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schadda@mindgridtech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4994280" y="3435480"/>
            <a:ext cx="304128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Joydeep R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Director, Technolog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855 753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jroy@mindgridte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057320" y="4951440"/>
            <a:ext cx="300636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hailendra Ph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C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490091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sphule@mindgridtech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4981680" y="4908600"/>
            <a:ext cx="309204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Ramana Mallikarj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Director, Product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2465 596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mramana@mindgridte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2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230480"/>
            <a:ext cx="9143640" cy="53431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le technology experts say it has only been around since the early 1990s, its roots can be traced to World War l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 the Truman and Eisenhower administrations during the 1950s, the United States increased imports to Japan by reducing tarif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Japan got back on its feet - the United States began importing apparel from it, and soon from South Korea, Hong Kong, Taiwan and the Philippines as wel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ftr" idx="9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7054560" cy="88236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Go Off Sho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74720" y="1109520"/>
            <a:ext cx="7927560" cy="449532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 Cost Sav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e or Improved Qu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r Sp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lex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185840" y="4946760"/>
            <a:ext cx="6811560" cy="524520"/>
          </a:xfrm>
          <a:prstGeom prst="rect">
            <a:avLst/>
          </a:prstGeom>
          <a:solidFill>
            <a:srgbClr val="ff9900"/>
          </a:solidFill>
          <a:ln w="9525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easurable And Immediat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746280" y="3932280"/>
            <a:ext cx="7865640" cy="51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because your competitors are (or will be) doing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6"/>
          <p:cNvGraphicFramePr/>
          <p:nvPr/>
        </p:nvGraphicFramePr>
        <p:xfrm>
          <a:off x="831960" y="1006560"/>
          <a:ext cx="7651440" cy="487152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006560"/>
                    <a:ext cx="7651440" cy="48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1: Cost Sav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993640" y="5638680"/>
            <a:ext cx="2245680" cy="36036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IBM Business Consul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foWorld Magazi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611600" y="2048040"/>
            <a:ext cx="1371240" cy="81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 Than 1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630840" y="2484360"/>
            <a:ext cx="144756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re Than 5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629400" y="4648320"/>
            <a:ext cx="144756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% to 3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4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693800" y="2363760"/>
            <a:ext cx="152352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0% to 5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0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6"/>
          <p:cNvGraphicFramePr/>
          <p:nvPr/>
        </p:nvGraphicFramePr>
        <p:xfrm>
          <a:off x="290520" y="1104840"/>
          <a:ext cx="8548200" cy="468288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104840"/>
                    <a:ext cx="854820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2: Higher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003000" y="5562720"/>
            <a:ext cx="2245680" cy="36036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IBM Business Consul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foWorld Magaz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ftr" idx="12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932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3: Faster Execution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762120" y="3336840"/>
            <a:ext cx="99036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752480" y="3336840"/>
            <a:ext cx="91404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666880" y="3336840"/>
            <a:ext cx="114264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736560" y="3378240"/>
            <a:ext cx="9903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QA Build and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Test Cycle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809880" y="3336840"/>
            <a:ext cx="99036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800600" y="3336840"/>
            <a:ext cx="106632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6858000" y="3336840"/>
            <a:ext cx="96480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983480" y="3341520"/>
            <a:ext cx="7905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620800" y="3373560"/>
            <a:ext cx="13028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Define/Document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2"/>
          <p:cNvSpPr/>
          <p:nvPr/>
        </p:nvSpPr>
        <p:spPr>
          <a:xfrm rot="5396400">
            <a:off x="1467360" y="2106720"/>
            <a:ext cx="491760" cy="1907640"/>
          </a:xfrm>
          <a:prstGeom prst="leftBrace">
            <a:avLst>
              <a:gd name="adj1" fmla="val 32312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3"/>
          <p:cNvSpPr/>
          <p:nvPr/>
        </p:nvSpPr>
        <p:spPr>
          <a:xfrm rot="5396400">
            <a:off x="3487680" y="1993680"/>
            <a:ext cx="491760" cy="2133360"/>
          </a:xfrm>
          <a:prstGeom prst="leftBrace">
            <a:avLst>
              <a:gd name="adj1" fmla="val 3612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4"/>
          <p:cNvSpPr/>
          <p:nvPr/>
        </p:nvSpPr>
        <p:spPr>
          <a:xfrm rot="5396400">
            <a:off x="5583240" y="2031480"/>
            <a:ext cx="491760" cy="2057040"/>
          </a:xfrm>
          <a:prstGeom prst="leftBrace">
            <a:avLst>
              <a:gd name="adj1" fmla="val 3483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5867280" y="3336840"/>
            <a:ext cx="99036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823160" y="3336840"/>
            <a:ext cx="93960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7"/>
          <p:cNvSpPr/>
          <p:nvPr/>
        </p:nvSpPr>
        <p:spPr>
          <a:xfrm rot="5396400">
            <a:off x="7569000" y="2132640"/>
            <a:ext cx="493200" cy="1891800"/>
          </a:xfrm>
          <a:prstGeom prst="leftBrace">
            <a:avLst>
              <a:gd name="adj1" fmla="val 31940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224000" y="300996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3265560" y="301320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5414760" y="300996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7351560" y="302580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1373760" y="252396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3354840" y="258120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5488560" y="252396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7469640" y="258120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6"/>
          <p:cNvSpPr/>
          <p:nvPr/>
        </p:nvSpPr>
        <p:spPr>
          <a:xfrm>
            <a:off x="6807240" y="3354480"/>
            <a:ext cx="11426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Review/Accep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7"/>
          <p:cNvSpPr/>
          <p:nvPr/>
        </p:nvSpPr>
        <p:spPr>
          <a:xfrm>
            <a:off x="2743200" y="5083200"/>
            <a:ext cx="1015560" cy="4456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3733920" y="5083200"/>
            <a:ext cx="1091880" cy="4456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2768760" y="5151600"/>
            <a:ext cx="9903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QA Build and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Test Cycle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0"/>
          <p:cNvSpPr/>
          <p:nvPr/>
        </p:nvSpPr>
        <p:spPr>
          <a:xfrm rot="5396400">
            <a:off x="3513960" y="3737880"/>
            <a:ext cx="539280" cy="2080800"/>
          </a:xfrm>
          <a:prstGeom prst="leftBrace">
            <a:avLst>
              <a:gd name="adj1" fmla="val 32132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31"/>
          <p:cNvSpPr/>
          <p:nvPr/>
        </p:nvSpPr>
        <p:spPr>
          <a:xfrm rot="5396400">
            <a:off x="5607720" y="3721680"/>
            <a:ext cx="539280" cy="2109600"/>
          </a:xfrm>
          <a:prstGeom prst="leftBrace">
            <a:avLst>
              <a:gd name="adj1" fmla="val 32574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2856600" y="4827600"/>
            <a:ext cx="182664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shore   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3"/>
          <p:cNvSpPr/>
          <p:nvPr/>
        </p:nvSpPr>
        <p:spPr>
          <a:xfrm>
            <a:off x="3456720" y="419112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4"/>
          <p:cNvSpPr/>
          <p:nvPr/>
        </p:nvSpPr>
        <p:spPr>
          <a:xfrm>
            <a:off x="5437800" y="425448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5"/>
          <p:cNvSpPr/>
          <p:nvPr/>
        </p:nvSpPr>
        <p:spPr>
          <a:xfrm>
            <a:off x="4826160" y="5083200"/>
            <a:ext cx="1041120" cy="4456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5009040" y="5114880"/>
            <a:ext cx="7905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5867280" y="5079960"/>
            <a:ext cx="1053720" cy="4456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8"/>
          <p:cNvSpPr/>
          <p:nvPr/>
        </p:nvSpPr>
        <p:spPr>
          <a:xfrm>
            <a:off x="2987640" y="1170000"/>
            <a:ext cx="3292200" cy="81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nge Control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9"/>
          <p:cNvSpPr/>
          <p:nvPr/>
        </p:nvSpPr>
        <p:spPr>
          <a:xfrm>
            <a:off x="3662280" y="5138640"/>
            <a:ext cx="13028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Define/Document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0"/>
          <p:cNvSpPr/>
          <p:nvPr/>
        </p:nvSpPr>
        <p:spPr>
          <a:xfrm>
            <a:off x="5867280" y="5114880"/>
            <a:ext cx="11426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Review/Accep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1"/>
          <p:cNvSpPr/>
          <p:nvPr/>
        </p:nvSpPr>
        <p:spPr>
          <a:xfrm>
            <a:off x="4964760" y="4830840"/>
            <a:ext cx="182664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shore   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2"/>
          <p:cNvSpPr/>
          <p:nvPr/>
        </p:nvSpPr>
        <p:spPr>
          <a:xfrm>
            <a:off x="761760" y="3763800"/>
            <a:ext cx="1981440" cy="12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43"/>
          <p:cNvSpPr/>
          <p:nvPr/>
        </p:nvSpPr>
        <p:spPr>
          <a:xfrm flipV="1">
            <a:off x="6946560" y="3752640"/>
            <a:ext cx="1828800" cy="13273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6"/>
          <p:cNvSpPr/>
          <p:nvPr/>
        </p:nvSpPr>
        <p:spPr>
          <a:xfrm>
            <a:off x="1755720" y="3741840"/>
            <a:ext cx="91404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7"/>
          <p:cNvSpPr/>
          <p:nvPr/>
        </p:nvSpPr>
        <p:spPr>
          <a:xfrm>
            <a:off x="758880" y="3741840"/>
            <a:ext cx="987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8"/>
          <p:cNvSpPr/>
          <p:nvPr/>
        </p:nvSpPr>
        <p:spPr>
          <a:xfrm>
            <a:off x="3811680" y="3741840"/>
            <a:ext cx="98712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9"/>
          <p:cNvSpPr/>
          <p:nvPr/>
        </p:nvSpPr>
        <p:spPr>
          <a:xfrm>
            <a:off x="2670120" y="3741840"/>
            <a:ext cx="114264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0"/>
          <p:cNvSpPr/>
          <p:nvPr/>
        </p:nvSpPr>
        <p:spPr>
          <a:xfrm>
            <a:off x="5869080" y="3741840"/>
            <a:ext cx="98712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1"/>
          <p:cNvSpPr/>
          <p:nvPr/>
        </p:nvSpPr>
        <p:spPr>
          <a:xfrm>
            <a:off x="4799160" y="3741840"/>
            <a:ext cx="106956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7824960" y="3741840"/>
            <a:ext cx="94104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3"/>
          <p:cNvSpPr/>
          <p:nvPr/>
        </p:nvSpPr>
        <p:spPr>
          <a:xfrm>
            <a:off x="6856560" y="3741840"/>
            <a:ext cx="96804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4"/>
          <p:cNvSpPr/>
          <p:nvPr/>
        </p:nvSpPr>
        <p:spPr>
          <a:xfrm>
            <a:off x="3728880" y="5529240"/>
            <a:ext cx="108720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5"/>
          <p:cNvSpPr/>
          <p:nvPr/>
        </p:nvSpPr>
        <p:spPr>
          <a:xfrm>
            <a:off x="2741760" y="5529240"/>
            <a:ext cx="1014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6"/>
          <p:cNvSpPr/>
          <p:nvPr/>
        </p:nvSpPr>
        <p:spPr>
          <a:xfrm>
            <a:off x="5867280" y="5511960"/>
            <a:ext cx="105048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7"/>
          <p:cNvSpPr/>
          <p:nvPr/>
        </p:nvSpPr>
        <p:spPr>
          <a:xfrm>
            <a:off x="4826160" y="5511960"/>
            <a:ext cx="1041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4: Increase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582560"/>
            <a:ext cx="9143640" cy="499068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Need To Hire &amp; Fire People For Short Term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A Small Team For A Proof Of Concept Project – DONE Immediately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Augment Development Immediately – DONE!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Supplement Staff Or Backfill Key People – D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3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ftr" idx="14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10252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ourc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3"/>
          <p:cNvSpPr/>
          <p:nvPr/>
        </p:nvSpPr>
        <p:spPr>
          <a:xfrm>
            <a:off x="3330720" y="145728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5540400" y="366696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816120" y="374328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3483000" y="290520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8660000">
            <a:off x="1585080" y="2683800"/>
            <a:ext cx="2209320" cy="401400"/>
          </a:xfrm>
          <a:prstGeom prst="rightArrow">
            <a:avLst>
              <a:gd name="adj1" fmla="val 50000"/>
              <a:gd name="adj2" fmla="val 137549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 rot="2978400">
            <a:off x="5051520" y="2720880"/>
            <a:ext cx="2252160" cy="401400"/>
          </a:xfrm>
          <a:prstGeom prst="rightArrow">
            <a:avLst>
              <a:gd name="adj1" fmla="val 50000"/>
              <a:gd name="adj2" fmla="val 140218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9"/>
          <p:cNvSpPr/>
          <p:nvPr/>
        </p:nvSpPr>
        <p:spPr>
          <a:xfrm rot="10800000">
            <a:off x="3026160" y="3948480"/>
            <a:ext cx="2592000" cy="404280"/>
          </a:xfrm>
          <a:prstGeom prst="rightArrow">
            <a:avLst>
              <a:gd name="adj1" fmla="val 50000"/>
              <a:gd name="adj2" fmla="val 160098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892080" y="480996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n-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5388120" y="1685880"/>
            <a:ext cx="21333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ff-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5692680" y="465768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n-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ff-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ftr" idx="15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4572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ourc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804600" cy="609120"/>
          </a:xfrm>
          <a:prstGeom prst="rect">
            <a:avLst/>
          </a:prstGeom>
          <a:ln w="9525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609480" y="2895480"/>
            <a:ext cx="14475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2438280" y="1828800"/>
            <a:ext cx="2133360" cy="358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666880" y="1371600"/>
            <a:ext cx="14475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n-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2743200" y="198108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2743200" y="297180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H="1">
            <a:off x="1981080" y="327636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1981080" y="3276360"/>
            <a:ext cx="36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1"/>
          <p:cNvSpPr/>
          <p:nvPr/>
        </p:nvSpPr>
        <p:spPr>
          <a:xfrm flipH="1">
            <a:off x="1295280" y="365760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1295280" y="320040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 flipH="1">
            <a:off x="1981080" y="220968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1981080" y="1904760"/>
            <a:ext cx="36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5"/>
          <p:cNvSpPr/>
          <p:nvPr/>
        </p:nvSpPr>
        <p:spPr>
          <a:xfrm flipH="1">
            <a:off x="1295280" y="190476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6"/>
          <p:cNvSpPr/>
          <p:nvPr/>
        </p:nvSpPr>
        <p:spPr>
          <a:xfrm flipV="1">
            <a:off x="1295280" y="19047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2743200" y="3962520"/>
            <a:ext cx="1371240" cy="990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5410080" y="1828800"/>
            <a:ext cx="2819160" cy="358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5676840" y="1371600"/>
            <a:ext cx="186660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ff-Sh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5715000" y="2057400"/>
            <a:ext cx="220932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ment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6248520" y="297180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2"/>
          <p:cNvSpPr/>
          <p:nvPr/>
        </p:nvSpPr>
        <p:spPr>
          <a:xfrm flipH="1">
            <a:off x="4114800" y="3276360"/>
            <a:ext cx="213336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3352680" y="35049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3352680" y="251460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6248520" y="3809880"/>
            <a:ext cx="1371240" cy="1447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6"/>
          <p:cNvSpPr/>
          <p:nvPr/>
        </p:nvSpPr>
        <p:spPr>
          <a:xfrm>
            <a:off x="6933960" y="3504960"/>
            <a:ext cx="360" cy="3049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1981080" y="5562720"/>
            <a:ext cx="2971440" cy="68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Assessment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Implementa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8"/>
          <p:cNvSpPr/>
          <p:nvPr/>
        </p:nvSpPr>
        <p:spPr>
          <a:xfrm>
            <a:off x="5486400" y="5486400"/>
            <a:ext cx="297144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Development &amp; Test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Documents and Settings\schadda\Application Data\Microsoft\Templates\MGT.pot</Template>
  <TotalTime>1022566</TotalTime>
  <Application>LibreOffice/7.4.7.2$Linux_X86_64 LibreOffice_project/40$Build-2</Application>
  <AppVersion>15.0000</AppVersion>
  <Words>673</Words>
  <Paragraphs>233</Paragraphs>
  <Company>MindGrid Technologie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14:46:38Z</dcterms:created>
  <dc:creator>Sanjeev Chadda</dc:creator>
  <dc:description/>
  <dc:language>en-US</dc:language>
  <cp:lastModifiedBy>Antonio</cp:lastModifiedBy>
  <dcterms:modified xsi:type="dcterms:W3CDTF">2008-09-10T17:23:50Z</dcterms:modified>
  <cp:revision>525</cp:revision>
  <dc:subject/>
  <dc:title>MindGridIntr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Notes">
    <vt:r8>1</vt:r8>
  </property>
  <property fmtid="{D5CDD505-2E9C-101B-9397-08002B2CF9AE}" pid="4" name="PresentationFormat">
    <vt:lpwstr>Letter Paper (8.5x11 in)</vt:lpwstr>
  </property>
  <property fmtid="{D5CDD505-2E9C-101B-9397-08002B2CF9AE}" pid="5" name="Slides">
    <vt:r8>15</vt:r8>
  </property>
  <property fmtid="{D5CDD505-2E9C-101B-9397-08002B2CF9AE}" pid="6" name="_Version">
    <vt:lpwstr/>
  </property>
</Properties>
</file>