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EC0CA-6E95-4113-9B82-D4770238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A3944-38B0-479D-AE79-470440DC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DD56D-B451-4D92-99F9-06A1D75A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44B18-1FF5-4D86-B973-A6C2A58C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3D0B2-C07E-441A-B253-7C75C6DD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0B2C5-B246-46F7-88BE-A2745BBE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1417A-EC7A-48ED-8661-13A340C1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477B0-87FC-4269-8765-F5D32D19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DED33-CF9A-45DE-A986-B26A6FF4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5C34C-4C18-47BF-816D-4F2D8D88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6104A-1B97-4BA4-85AD-9AAC0148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5145F-B80B-4246-BBDA-F260F874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       Otoño 200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121C-58C4-4B0D-B9B9-B9B7760BEA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609480"/>
            <a:ext cx="807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l concepto de valor agregad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4495680"/>
            <a:ext cx="45720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Universidad de Ch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La caden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orter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value" descr=""/>
          <p:cNvPicPr/>
          <p:nvPr/>
        </p:nvPicPr>
        <p:blipFill>
          <a:blip r:embed="rId2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89" name="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/>
              <a:ahLst/>
              <a:rect l="l" t="t" r="r" b="b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9840" y="1523880"/>
              <a:ext cx="351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n-U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66360" y="5284800"/>
              <a:ext cx="973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129" name="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1854000" y="3312000"/>
              <a:ext cx="1585440" cy="83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06" y="21596"/>
                  </a:moveTo>
                  <a:arcTo wR="10800" hR="10800" stAng="5302466" swAng="56072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06" y="21596"/>
                  </a:moveTo>
                  <a:arcTo wR="10800" hR="10800" stAng="5302466" swAng="5607219"/>
                </a:path>
              </a:pathLst>
            </a:custGeom>
            <a:noFill/>
            <a:ln w="38160">
              <a:solidFill>
                <a:srgbClr val="ddddd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ducción de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143" name="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flipV="1">
              <a:off x="1017000" y="2181600"/>
              <a:ext cx="1632960" cy="68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7:55:51Z</dcterms:created>
  <dc:creator> </dc:creator>
  <dc:description/>
  <dc:language>en-US</dc:language>
  <cp:lastModifiedBy> </cp:lastModifiedBy>
  <dcterms:modified xsi:type="dcterms:W3CDTF">2006-11-29T15:42:59Z</dcterms:modified>
  <cp:revision>6</cp:revision>
  <dc:subject/>
  <dc:title>El concepto de VALOR</dc:title>
</cp:coreProperties>
</file>