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DCA40-88E9-4E2E-B9FA-535A9326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5317F-C614-433A-B66A-5AD0805C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3845E-AD33-409A-A705-F2894E5A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62416-305C-4F6B-B5F9-727EA88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DD4C4-5679-4C39-A809-BBE41CD2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AB2CF-B8C0-4B5B-957D-DE986223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D1B20-F8DD-4136-A6A5-67762BA8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9DF4F-3F6B-4A7F-9A5C-CA5A0A0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78E58-850E-4A6F-89D6-756487FD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37C5-E741-4916-A0BF-2CDD2AF3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98B70-BA72-47EA-9C48-F70B67AE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A9D16-7C4E-42E6-BF8A-F3876587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2FF5-8868-4FD2-AE12-1ADF62EEDF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4495680"/>
            <a:ext cx="45720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Universidad de Chi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orter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value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 </cp:lastModifiedBy>
  <dcterms:modified xsi:type="dcterms:W3CDTF">2006-11-29T15:42:59Z</dcterms:modified>
  <cp:revision>6</cp:revision>
  <dc:subject/>
  <dc:title>El concepto de VALOR</dc:title>
</cp:coreProperties>
</file>