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2960B-5F3F-4D9A-877C-200272A7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512BF-D03B-4D77-BC41-7BEDE2BC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61E14-8BE1-41EE-84A4-6C6983FA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13235-9A54-48B7-908F-61243E26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1A609-59A2-44C9-B6ED-1DC42867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589F2-B9A4-4227-B3CF-B37B2692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2727E-9793-4280-9FD0-80E339AB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454A2-7E9C-4A1B-A35A-88EBDDF9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1968F-9074-4CCD-9A0F-62513487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5CA68-76F4-4601-A8EE-3A4E8F2B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A4AC7-A7BD-4CF2-92C8-49AD2D1C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2600F-5ABD-495F-93D6-500C51C9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EFFE-F36E-42F5-8777-724D2C32BA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60948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 concepto de valor agregad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4495680"/>
            <a:ext cx="45720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Universidad de Ch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a caden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orter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value" descr=""/>
          <p:cNvPicPr/>
          <p:nvPr/>
        </p:nvPicPr>
        <p:blipFill>
          <a:blip r:embed="rId2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89" name="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/>
              <a:ahLst/>
              <a:rect l="l" t="t" r="r" b="b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n-U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66360" y="5284800"/>
              <a:ext cx="97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129" name="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854000" y="3312000"/>
              <a:ext cx="1585440" cy="83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06" y="21596"/>
                  </a:moveTo>
                  <a:arcTo wR="10800" hR="10800" stAng="5302466" swAng="56072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06" y="21596"/>
                  </a:moveTo>
                  <a:arcTo wR="10800" hR="10800" stAng="5302466" swAng="5607219"/>
                </a:path>
              </a:pathLst>
            </a:custGeom>
            <a:noFill/>
            <a:ln w="38160">
              <a:solidFill>
                <a:srgbClr val="dddd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ción de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143" name="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V="1">
              <a:off x="1017000" y="2181600"/>
              <a:ext cx="1632960" cy="6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7:55:51Z</dcterms:created>
  <dc:creator> </dc:creator>
  <dc:description/>
  <dc:language>en-US</dc:language>
  <cp:lastModifiedBy> </cp:lastModifiedBy>
  <dcterms:modified xsi:type="dcterms:W3CDTF">2006-11-29T15:42:59Z</dcterms:modified>
  <cp:revision>6</cp:revision>
  <dc:subject/>
  <dc:title>El concepto de VALOR</dc:title>
</cp:coreProperties>
</file>