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071E4-4994-4B2F-9CDF-18E369B2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DAFB3-78CD-4017-8E0E-4A3E05AC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6DA3-23D6-45B3-94C7-D54E8C1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2609B-1D19-43C1-B7D3-7AC9BD00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EAFFD-6407-4DEB-9885-820FCB55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1944C-0BD5-438D-A885-F432C61A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09506-B9C0-4456-AD82-E165450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DD90A-1F3E-4A1F-BA22-D7D6F0A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FB466-4AD4-4876-AB91-EEB8E425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D7BF0-54DE-40A4-BE90-B9CAC6C8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EAF13-C7EA-4930-A52E-86C66D28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0A12B-DD03-486E-BFB6-30DB7A4F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19E6-03E9-46F4-82C6-2F1F0F00BB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45720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orter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value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89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6360" y="528480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 </dc:creator>
  <dc:description/>
  <dc:language>en-US</dc:language>
  <cp:lastModifiedBy> </cp:lastModifiedBy>
  <dcterms:modified xsi:type="dcterms:W3CDTF">2006-11-29T15:42:59Z</dcterms:modified>
  <cp:revision>6</cp:revision>
  <dc:subject/>
  <dc:title>El concepto de VALOR</dc:title>
</cp:coreProperties>
</file>