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DCD17-966D-44D1-A2EA-29AF8984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05C99-D0B6-41AF-9F03-081FE5AC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D8460-887D-4FEA-8BF4-89584FB2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52E43-2F1C-4BEF-9BD5-166EB759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A1FD2-2A26-4D1E-A437-9846030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54D77-C22B-4DD1-B6F0-C20638F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0E459-DEE4-4EE7-8F99-755712B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6B18A-B780-4D67-BD12-636D2478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EACA8-EF50-41D1-9389-3E127FF4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D79F8-01B2-497E-ACCF-E69F5E9B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288C8-3F62-43D1-8FB4-ADC1A68D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45566-08A9-45BA-95ED-7E1B7FF7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E0B6-FAFB-468C-8B05-9D8DAF71CD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45720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orter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value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89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6360" y="528480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 </dc:creator>
  <dc:description/>
  <dc:language>en-US</dc:language>
  <cp:lastModifiedBy> </cp:lastModifiedBy>
  <dcterms:modified xsi:type="dcterms:W3CDTF">2006-11-29T15:42:59Z</dcterms:modified>
  <cp:revision>6</cp:revision>
  <dc:subject/>
  <dc:title>El concepto de VALOR</dc:title>
</cp:coreProperties>
</file>