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70A5F-735F-4424-A727-A2C515D3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34CF-6DDE-4B29-B731-3DA85527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D9CD1-EF3A-4637-A634-7D2135E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E5EA5-851A-4108-B0EA-B3239353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5E2F1-4C64-40F0-AD04-65094DE8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39C08-96E3-41D2-81BD-F03E81F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07993-AB70-4F90-B7D1-580FF19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4B6BA-A615-42D4-A105-DC6D113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BD044-7F4E-4460-9B83-E6E9803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F7445-7957-47BC-9783-EC31589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93525-4795-4D17-8467-0EE0347A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682E8-A091-427D-AF1F-39E65A32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CC3E2CC3-5D58-45BF-9A69-CA286B1C0E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BF89-953F-4055-B2D1-11ACCDA8C1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8-07-30T15:21:11Z</dcterms:modified>
  <cp:revision>7</cp:revision>
  <dc:subject/>
  <dc:title>IN69B - TALLER DE DISEÑO Y EVALUACIÓN DE NEGOCIOS</dc:title>
</cp:coreProperties>
</file>