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785D0-AC61-4868-954C-FA629E76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F37A7-A51B-467D-A4F4-90F45AF9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8ABF5-ED26-4B9C-B5C4-C539B705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EAF20-C841-46B7-880E-5D73F5CC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CC53B-62C1-46AD-A3AA-858102BE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CBE9A-6D96-47F0-A0C0-D5E6AE12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60362-3713-49C0-A31A-4F46B069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E1C08-6FF7-4083-A06F-389B4290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276B4-D0A5-4ADF-96AE-0188466C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D9213-42D6-4263-9F68-C4A87077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026B1-7B33-4C67-A3F7-D1FD0B3A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92BE9-C925-4E87-91E1-D3A14145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 Primavera 2008           8-</a:t>
            </a:r>
            <a:fld id="{8F69106D-733A-435F-BB45-AF4735AEB1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419640" y="115920"/>
            <a:ext cx="24732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249D-BF75-4404-8C8A-9624A971C7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9400" y="426600"/>
            <a:ext cx="76788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IN69B - </a:t>
            </a: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TALLER DE DISEÑO Y EVALUACIÓN DE NEGOCI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95480" y="2860560"/>
            <a:ext cx="55627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SEMESTRE Primaver 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Fuentes de Produc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bre (Necesi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en o servi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ente en medios de Comunicación (ej. Diari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ndos de Fomento (Corfo, Inno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gregar valor (+valor, -costo, aumento del valor de la empres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novación (tecnología, procesos de negocio, modelos de negocios, etc,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aracterísticas del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Mérito innovativo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tencial de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Dificultad vs. Desafí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uentes de inform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VALUACIÓN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INFORME FINAL : 6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PARTICIPACIÓN: 3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XAMEN: 1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n este curso se reprueb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GRANDES REGL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Con respecto a los alumno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ntualidad: 0-5 min:presente; + 5 min: aus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sistencia controlada por módulo en cualquier mo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esentación formal (para las presentacion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Rigurosidad: Ortografía, lenguaje y ac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Ética:cumplir acuerdo ético del DI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Con respecto a los profesor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ntu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usencias comunica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Terminar segundo bloque a la ho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Respecto mutuo universal (relación alumno-alumno y alumno-profeso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NOTA PARTICIP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articipación en cla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Cumplimiento de reglas (asistencia, identificación, puntualidad, no excederse en los tiempos, etc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Aportes que hacen a los proyectos de sus compañeros en cla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rogreso (desde una situación de evaluación a otra mejor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Liderazgo y trabajo en equipo (dentro de su equipo y en el curso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ortamiento adecuado a un clima de negocios durante el desarrollo del curso (ética, manera de dirigirse a compañeros y profesores, capacidad de disentir, agregar valor con ideas innovadoras, etc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Actitud general en el curs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990720" y="644220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eguntas (durante la presentación o al final?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umen ejecutivo y copias para los profe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cretario ejecutivo que toma nota de los aportes de c/u (profesores y compañer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aluación por alumnos y por profesores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las intervenciones de los alumnos son evaluadas por los profesores para ver su particip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rtografía y lengua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uente de los datos/cuad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idades de medi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undamentación y datos respaldantes (Encuesta, entrevista, focus group y otr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36776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objetivo fundamental del curso es la INTEGRACIÓN de los contenidos y conocimientos entregados en la carrera a través de la generación, diseño y evaluación de negocio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68A y 69B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IN68A 5 UD  -   </a:t>
            </a:r>
            <a:r>
              <a:rPr b="1" lang="es-MX" sz="3000" spc="-1" strike="noStrike">
                <a:solidFill>
                  <a:srgbClr val="000000"/>
                </a:solidFill>
                <a:latin typeface="Verdana"/>
              </a:rPr>
              <a:t>IN69B 15 U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os profesores del curso IN68A revisarán modelos de negocios en sus clas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METODOLOGÍA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metodología utilizada en el curso para cumplir el objetivo es la ELABORACIÓN DE UN PLAN DE NEGOC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Preocupación por el proceso de aprendizaje y el camino de avance hacia un plan de negoc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rabajo en equipos de 3 person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CTIVIDADES PRINCIPA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XPOSICIONES DE AVANCE Y PRESENTACIONES FORMALES PERIÓDIC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NTREGAS DE INFORMES (4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HARLAS DE EJECUTIVOS Y EMPRES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ESAFÍOS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Integrar lo aprendido en la carr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onectarse e involucrarse con la industria y 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idiar con dificultades y temas desconoci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Trabajar realmente en equi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conocer deficiencias y lidiar con ell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Desarrollar su autonomía y crite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Rol de los Profesor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Apoyo y acompañamiento al 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desarrollo de los planes de negoc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urso lo hacen los alumn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rientar y hacer preguntas que abran la reflexión. No dicen lo que los grupos y alumnos tienen que hac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tres profesores no necesariamente comparten las opiniones, observaciones o evaluaciones. Incluso pueden estar en desacuer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Horario Comú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1840" y="1904760"/>
            <a:ext cx="8713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e informará de un módulo semanal en el cuál se podrá citar a todas las secciones. Este horario es parte del cur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este módulo se reunirán con todas las secciones, presentaciones de temas específicos y/o se harán charlas de ejecutivos, emprendedores y/o empresar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días que no se tenga actividad programada deberá ser usado para reuniones formales internas de los equipos de trabaj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Fuentes de Proyec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Una Empresa donde se haya detectado claramente una oportunidad de generar val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Iniciativas de emprendimiento gestadas por los propios alumn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Proyectos empresariales de amigos, exalumnos, incubados en el DII, parientes o conocidos que requieran del desarrollo de un plan de negoci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Tamaño vs. Desafí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20:58:03Z</dcterms:created>
  <dc:creator>UNIVERSIDAD DE CHILE</dc:creator>
  <dc:description/>
  <dc:language>en-US</dc:language>
  <cp:lastModifiedBy>Antonio</cp:lastModifiedBy>
  <dcterms:modified xsi:type="dcterms:W3CDTF">2008-07-30T15:21:11Z</dcterms:modified>
  <cp:revision>7</cp:revision>
  <dc:subject/>
  <dc:title>IN69B - TALLER DE DISEÑO Y EVALUACIÓN DE NEGOCIOS</dc:title>
</cp:coreProperties>
</file>