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10BA5-BD05-40A9-9EE3-373567E3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BE17C-007E-46FE-8D6D-444A214B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8D2AE-57C8-40EB-AEF4-6436A359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6E114-F1B1-49A2-8E79-81DEC4D2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DF50-07AC-4C7D-B632-022B90A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60C3B-F9BC-4623-8011-53EAED22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9AB16-A203-4C72-AFEB-403231C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3D89-314A-4190-93D1-BAF8D13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8A0E8-645E-4EDB-8AA6-1983C29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18BA7-96CE-4266-BB13-9839BCF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862F6-3AD9-40D6-BCF4-9BBEED63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A761-CD85-4066-A3D5-EE169FF4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257A7FB5-E9F5-4ADC-B91B-EEA411F592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FDA-A657-4336-80AE-71323BD17C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8-07-30T15:21:11Z</dcterms:modified>
  <cp:revision>7</cp:revision>
  <dc:subject/>
  <dc:title>IN69B - TALLER DE DISEÑO Y EVALUACIÓN DE NEGOCIOS</dc:title>
</cp:coreProperties>
</file>