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1FF95-623C-4793-85FD-FB62A826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3B280-E92F-426D-8DE1-7A1484D5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B2A8A-35DD-4E19-970A-F42346FC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CB581-5754-452D-B8A0-83B3520A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582AE-760E-44C5-B4A0-06854195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E21CD-8B2C-4007-9933-CFC5EB95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40FC2-5321-498B-A8F5-CA55B3D6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2876D-AF74-439E-A4BB-F08D1B91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99366-763A-4AC4-9D66-E1BDA2B2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9544E-1012-4916-814B-CB3D67D3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335B6-7E51-4E76-ADF4-ADB7DC6C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29DBF-1010-4ED9-AC89-A0032551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 Primavera 2008           8-</a:t>
            </a:r>
            <a:fld id="{AF8CBC28-91DD-4A61-B02E-5F98D84F1E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419640" y="115920"/>
            <a:ext cx="24732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644A-D62B-4D2C-8319-8A7D2FB7BF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9400" y="426600"/>
            <a:ext cx="76788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IN69B - 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TALLER DE DISEÑO Y EVALUACIÓN DE NEGOC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95480" y="2860560"/>
            <a:ext cx="55627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SEMESTRE Primaver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Fuentes de Produc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bre (Necesi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en o serv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ente en medios de Comunicación (ej. Diari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ndos de Fomento (Corfo, Inn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regar valor (+valor, -costo, aumento del valor de la empres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ovación (tecnología, procesos de negocio, modelos de negocios, etc,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aracterísticas del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Mérito innovativo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tencial de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Dificultad vs. Desafí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uentes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INFORME FINAL : 6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PARTICIPACIÓN: 3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AMEN: 1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n este curso se reprueb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GRANDES REGL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Con respecto a los alumno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ntualidad: 0-5 min:presente; + 5 min: aus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sistencia controlada por módulo en cualquier mo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esentación formal (para las presentacion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Rigurosidad: Ortografía, lenguaje y ac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Ética:cumplir acuerdo ético del D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Con respecto a los profesor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ntu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usencias comunic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erminar segundo bloque a la 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Respecto mutuo universal (relación alumno-alumno y alumno-profeso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NOTA PARTICIP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articipación en cl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Cumplimiento de reglas (asistencia, identificación, puntualidad, no excederse en los tiempos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Aportes que hacen a los proyectos de sus compañeros en cl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reso (desde una situación de evaluación a otra mejor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Liderazgo y trabajo en equipo (dentro de su equipo y en el curso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ortamiento adecuado a un clima de negocios durante el desarrollo del curso (ética, manera de dirigirse a compañeros y profesores, capacidad de disentir, agregar valor con ideas innovadoras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Actitud general en el cur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990720" y="644220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eguntas (durante la presentación o al final?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umen ejecutivo y copias para los profe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cretario ejecutivo que toma nota de los aportes de c/u (profesores y compañer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aluación por alumnos y por profesores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as intervenciones de los alumnos son evaluadas por los profesores para ver su particip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rtografía y lengua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ente de los datos/cuad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idades de medi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ndamentación y datos respaldantes (Encuesta, entrevista, focus group y otr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36776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objetivo fundamental del curso es la INTEGRACIÓN de los contenidos y conocimientos entregados en la carrera a través de la generación, diseño y evaluación de negoci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68A y 69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IN68A 5 UD  -   </a:t>
            </a:r>
            <a:r>
              <a:rPr b="1" lang="es-MX" sz="3000" spc="-1" strike="noStrike">
                <a:solidFill>
                  <a:srgbClr val="000000"/>
                </a:solidFill>
                <a:latin typeface="Verdana"/>
              </a:rPr>
              <a:t>IN69B 15 U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os profesores del curso IN68A revisarán modelos de negocios en sus clas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metodología utilizada en el curso para cumplir el objetivo es la ELABORACIÓN DE UN PLAN DE NEGOC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Preocupación por el proceso de aprendizaje y el camino de avance hacia un plan de negoc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rabajo en equipos de 3 person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CTIVIDADES PRINCIP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POSICIONES DE AVANCE Y PRESENTACIONES FORMALES PERIÓDIC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NTREGAS DE INFORMES (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HARLAS DE EJECUTIVOS Y EMPRES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ESAFÍOS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Integrar lo aprendido en la carr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onectarse e involucrarse con la industria y 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idiar con dificultades y temas desconoci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Trabajar realmente en equi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conocer deficiencias y lidiar con ell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esarrollar su autonomía y crite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Rol de los Profeso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Apoyo y acompañamiento al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esarrollo de los planes de negoc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urso lo hacen los alumn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rientar y hacer preguntas que abran la reflexión. No dicen lo que los grupos y alumnos tienen que hac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tres profesores no necesariamente comparten las opiniones, observaciones o evaluaciones. Incluso pueden estar en desacuer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Horario Comú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1840" y="1904760"/>
            <a:ext cx="8713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e informará de un módulo semanal en el cuál se podrá citar a todas las secciones. Este horario es parte del cur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este módulo se reunirán con todas las secciones, presentaciones de temas específicos y/o se harán charlas de ejecutivos, emprendedores y/o empresar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días que no se tenga actividad programada deberá ser usado para reuniones formales internas de los equipos de trabaj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Fuentes de Proyec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Una Empresa donde se haya detectado claramente una oportunidad de generar val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niciativas de emprendimiento gestadas por los propios alumn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royectos empresariales de amigos, exalumnos, incubados en el DII, parientes o conocidos que requieran del desarrollo de un plan de negoc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amaño vs. Desafí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20:58:03Z</dcterms:created>
  <dc:creator>UNIVERSIDAD DE CHILE</dc:creator>
  <dc:description/>
  <dc:language>en-US</dc:language>
  <cp:lastModifiedBy>Antonio</cp:lastModifiedBy>
  <dcterms:modified xsi:type="dcterms:W3CDTF">2008-07-30T15:21:11Z</dcterms:modified>
  <cp:revision>7</cp:revision>
  <dc:subject/>
  <dc:title>IN69B - TALLER DE DISEÑO Y EVALUACIÓN DE NEGOCIOS</dc:title>
</cp:coreProperties>
</file>