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3C3B-C92A-45A1-97C3-244E6C0FF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1C02-B841-4A91-AA57-F8E30CE58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D0D7-8045-4140-886A-1FDCF517A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32E8-2703-4F1E-A650-A7D203E71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8A50-8ED8-450A-A195-892539F99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409A-2439-48B1-84B3-40202B4AD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6EAC-B233-4918-90FB-0AE1CB496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A192-37C6-4DF2-A5B9-45610949B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0C54-183C-433A-B4D8-F65B6595D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72B8-6129-4287-9A58-61196D5A9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2E03-67B7-4874-8CF0-BDA9338C8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ACC1-6338-48A5-B633-B88FBABAE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6D6DB-BB80-4A57-9BE8-7781EF5A6F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1200"/>
            <a:ext cx="7560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Diseño de ofer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odelos de Oferta.                        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istemas cíclicos: simple, con carga de retorno, general; los casos  t(k). Teoría de la circulación: el problema t(q), diagrama espacio-tiempo. Variables y relaciones: flujo, velocidad, concentración; capacidad de medios fijos. Función de transporte con demanda endógena: reglas de operación y nivel de servicio; capacidad y fluj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 Capítulo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056240" y="37980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396216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Productividad marginal de la capacidad de carga/ descar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609480" y="914400"/>
                <a:ext cx="44290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rPr>
                        <m:lit/>
                        <m:nor/>
                      </m:rPr>
                      <m:t xml:space="preserve">Bk</m:t>
                    </m:r>
                    <m:r>
                      <m:t xml:space="preserve">=</m:t>
                    </m:r>
                    <m:r>
                      <m:t xml:space="preserve">λ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831960" y="2333520"/>
                <a:ext cx="4136760" cy="10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ηk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λ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η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 flipV="1">
            <a:off x="5867280" y="106632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867280" y="3200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5880" y="1143000"/>
            <a:ext cx="2133720" cy="1600200"/>
          </a:xfrm>
          <a:custGeom>
            <a:avLst/>
            <a:gdLst/>
            <a:ahLst/>
            <a:rect l="l" t="t" r="r" b="b"/>
            <a:pathLst>
              <a:path w="1536" h="976">
                <a:moveTo>
                  <a:pt x="0" y="0"/>
                </a:moveTo>
                <a:cubicBezTo>
                  <a:pt x="64" y="328"/>
                  <a:pt x="128" y="656"/>
                  <a:pt x="384" y="816"/>
                </a:cubicBezTo>
                <a:cubicBezTo>
                  <a:pt x="640" y="976"/>
                  <a:pt x="1088" y="968"/>
                  <a:pt x="1536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88200" y="1141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773840" y="3123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609480" y="5029200"/>
                <a:ext cx="3395880" cy="15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5257800" y="4952880"/>
                <a:ext cx="109548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¿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λ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μ</m:t>
                        </m:r>
                      </m:den>
                    </m:f>
                    <m:r>
                      <m:t xml:space="preserve"> 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500"/>
                            </p:stCondLst>
                            <p:childTnLst>
                              <p:par>
                                <p:cTn id="4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991880" y="151200"/>
            <a:ext cx="524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antidad almacenada en 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373284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tidad almacenada por un vehículo durante un cic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752480" y="79344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19320" y="86904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752480" y="292752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088040" y="292644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1752480" y="1707840"/>
            <a:ext cx="914400" cy="1219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66880" y="17082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6238400">
            <a:off x="2133360" y="2622240"/>
            <a:ext cx="76320" cy="83844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87200" y="3185280"/>
            <a:ext cx="67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1752480" y="1708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90040" y="1462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66880" y="1708200"/>
            <a:ext cx="2971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638680" y="17082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6238400">
            <a:off x="4113000" y="1566720"/>
            <a:ext cx="76320" cy="2971800"/>
          </a:xfrm>
          <a:custGeom>
            <a:avLst/>
            <a:gdLst>
              <a:gd name="textAreaLeft" fmla="*/ 48960 w 76320"/>
              <a:gd name="textAreaRight" fmla="*/ 76320 w 7632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01680" y="32313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(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5638680" y="1707840"/>
            <a:ext cx="914400" cy="1219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38400">
            <a:off x="6095880" y="262260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905080" y="3185280"/>
            <a:ext cx="61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609480" y="4191120"/>
                <a:ext cx="228600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895480" y="4114800"/>
                <a:ext cx="495144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547640" y="5207040"/>
                <a:ext cx="444528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52280" y="272160"/>
            <a:ext cx="223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antidad almacenada por el sistema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666880" y="31860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tidad almacenada por un vehículo durante un cic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792400" y="883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172200" y="15084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úmero de ciclos en un peri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72200" y="111276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324480" y="120348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uración del peri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251460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066680" y="2362320"/>
                <a:ext cx="151632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2437200" y="10058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895480" y="2160720"/>
                <a:ext cx="1616040" cy="10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572000" y="2133720"/>
                <a:ext cx="434340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4267080" y="3124080"/>
                <a:ext cx="464688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λ</m:t>
                        </m:r>
                        <m:r>
                          <m:t xml:space="preserve">⋅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80880" y="4510080"/>
            <a:ext cx="861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iempo medio de permanencia de lo transportado en el sist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1200240" y="5334120"/>
                <a:ext cx="407340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5410080" y="56520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ivel de servic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80880" y="30384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Instalaciones de carga y descar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609480" y="160020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1143000" y="1644840"/>
            <a:ext cx="262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iempo de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4800600" y="167652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5334120" y="19040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iempo de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3885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¿Qué pasa si k/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+ &gt; 1/f ?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1007280"/>
            <a:ext cx="800100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ti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stalación que permite cargar o descargar un vehíc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782640" y="2666880"/>
                <a:ext cx="44784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219320" y="28944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intervalo entre vehíc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3885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cesito más de un sit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42354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esto no se cumple, de todas maneras puedo necesitar más de un sitio, debido al tiempo de posicionamien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54082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p: tiempo de posicionamiento: tiempo que transcurre entre la llegada de un vehículo al sitio y que este se encuentre listo para cargar/descargar.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 flipV="1">
            <a:off x="205740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480060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057400" y="438156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352680" y="438156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8128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7672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68680" y="396252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48120" y="3962520"/>
            <a:ext cx="53316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57400" y="49528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0552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81280" y="49528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05520" y="438156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84600" y="4381560"/>
            <a:ext cx="53352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962520"/>
            <a:ext cx="53316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400800" y="438156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62940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324480" y="495288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05520" y="49528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86200" y="4381560"/>
            <a:ext cx="6858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80880" y="30384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Instalaciones de carga y descar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0880" y="1120320"/>
            <a:ext cx="8001000" cy="45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rig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+ sitios de carg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 capacidad de carga (UF/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cada sitio está en operación una proporción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 del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número de sitios en servicio en un instante da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capacidad de carga: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Debe cumplirse: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gt;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4952880" y="5334120"/>
                <a:ext cx="1811520" cy="109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≥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sSubSup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880" y="30384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Instalaciones de carga y descar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534600"/>
            <a:ext cx="8001000" cy="57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f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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 intensidad relativa del flujo de transporte con respecto a la capacidad de carg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número mínimo de sitios que en promedio deben estar en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=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Para descarga se analiza de igual form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 k</a:t>
            </a:r>
            <a:r>
              <a:rPr b="0" lang="es-ES_tradnl" sz="2400" spc="-1" strike="noStrike">
                <a:solidFill>
                  <a:srgbClr val="ff3300"/>
                </a:solidFill>
                <a:latin typeface="Symbol"/>
                <a:ea typeface="Symbol"/>
              </a:rPr>
              <a:t></a:t>
            </a:r>
            <a:r>
              <a:rPr b="0" lang="es-ES_tradnl" sz="2400" spc="-1" strike="noStrike" baseline="30000">
                <a:solidFill>
                  <a:srgbClr val="ff33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+ t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&gt; 1/f ==&gt; se necesita más de un si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Graficar operación de un terminal de carga con tres sit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Analizar tiempo de esp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" action="ppaction://hlinkshowjump?jump=lastslide"/>
          </p:cNvPr>
          <p:cNvSpPr/>
          <p:nvPr/>
        </p:nvSpPr>
        <p:spPr>
          <a:xfrm>
            <a:off x="8077320" y="49528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94120" y="53244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1100160"/>
            <a:ext cx="8001000" cy="22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 sistema cíclico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stalaciones de carga y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3962520" y="914400"/>
                <a:ext cx="335268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5334120" y="2133720"/>
                <a:ext cx="265248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≥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)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268920" y="3047400"/>
            <a:ext cx="31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iempo de esp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609480" y="35809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9480" y="563868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609480" y="4038120"/>
            <a:ext cx="2286000" cy="16002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18440" y="3961440"/>
            <a:ext cx="193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legadas a tas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1752480" y="48769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447920" y="563796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3960" y="6095160"/>
            <a:ext cx="22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legada de vehícu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38280" y="563796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2819520" y="411444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609120" y="4869000"/>
            <a:ext cx="1143000" cy="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6440" y="46314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609120" y="41148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5960" y="39614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1142640" y="4876920"/>
            <a:ext cx="609480" cy="76176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316160" y="5096520"/>
            <a:ext cx="41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209680" y="4114800"/>
            <a:ext cx="609840" cy="76212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383200" y="4334400"/>
            <a:ext cx="41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76520" y="4876920"/>
            <a:ext cx="53316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15840" y="5240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708360" y="471564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114080" y="4707720"/>
            <a:ext cx="235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/2·k·1/f - 1/2·k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·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735360" y="539352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191840" y="5385600"/>
            <a:ext cx="166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(1/2f - k/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759480" y="6058440"/>
            <a:ext cx="459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31480" y="607140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/2f - k/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05800" y="6079320"/>
            <a:ext cx="77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/k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657600" y="5943600"/>
            <a:ext cx="2438280" cy="6858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4" dur="indefinite" restart="never" nodeType="tmRoot">
          <p:childTnLst>
            <p:seq>
              <p:cTn id="955" dur="indefinite" nodeType="mainSeq">
                <p:childTnLst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500"/>
                            </p:stCondLst>
                            <p:childTnLst>
                              <p:par>
                                <p:cTn id="10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643400" y="3798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0880" y="1166400"/>
            <a:ext cx="84582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upuesto: el retorno se utiliza para el transporte de un segundo produc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La frecuencia de servicio debe ser suficiente para absorbe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recuencia necesari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4260960" y="3073320"/>
                <a:ext cx="13111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5958000" y="3073320"/>
                <a:ext cx="13492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0" name=""/>
          <p:cNvSpPr/>
          <p:nvPr/>
        </p:nvSpPr>
        <p:spPr>
          <a:xfrm>
            <a:off x="533520" y="4390920"/>
            <a:ext cx="84582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ormas de oper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Plena utilización de la capacidad de carg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Igualación de las frecuencias de ida y reto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2" dur="indefinite" restart="never" nodeType="tmRoot">
          <p:childTnLst>
            <p:seq>
              <p:cTn id="1123" dur="indefinite" nodeType="mainSeq">
                <p:childTnLst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959480" y="1512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235160" y="3208320"/>
                <a:ext cx="171900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380880" y="1593720"/>
                <a:ext cx="7954920" cy="12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>
            <a:off x="385920" y="685080"/>
            <a:ext cx="774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gualación de las frecuencias de ida y reto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4505400" y="3271680"/>
                <a:ext cx="1411200" cy="114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6" name=""/>
          <p:cNvSpPr/>
          <p:nvPr/>
        </p:nvSpPr>
        <p:spPr>
          <a:xfrm>
            <a:off x="448920" y="4647600"/>
            <a:ext cx="749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peración con frecuencia única (flota únic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3327480" y="5232240"/>
                <a:ext cx="1617480" cy="11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η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2" dur="indefinite" restart="never" nodeType="tmRoot">
          <p:childTnLst>
            <p:seq>
              <p:cTn id="1173" dur="indefinite" nodeType="mainSeq">
                <p:childTnLst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713320" y="1197720"/>
            <a:ext cx="335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Diseño de ofer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2261160"/>
            <a:ext cx="8512200" cy="37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La tecnología de transpor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(X,Y)&gt;= 0 (función de transformació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Y: Demanda (vector de flujos OD, periodo, mod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X: Insumos (vías, terminales, vehículos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Cómo combino los X para producir Y en forma óptim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 Capítulo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910160" y="3798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4920" y="15228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ena carg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1143000" y="1981080"/>
                <a:ext cx="1309680" cy="12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2743200" y="1371600"/>
                <a:ext cx="1444680" cy="228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4831920" y="1975680"/>
            <a:ext cx="3612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n general distintas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ubdividir la fl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4920" y="3559320"/>
            <a:ext cx="868680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B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: vehículos que transportan producto 1 con retorno vací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B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: vehículos que transportan producto 1 a la ida y producto 2 en el 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B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: vehículos que transportan producto 2 con retorno vací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0" dur="indefinite" restart="never" nodeType="tmRoot">
          <p:childTnLst>
            <p:seq>
              <p:cTn id="1211" dur="indefinite" nodeType="mainSeq">
                <p:childTnLst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910160" y="3798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4920" y="913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empos de cic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3809880" y="914400"/>
                <a:ext cx="46166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762120" y="4563000"/>
            <a:ext cx="868680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t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(K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) &gt;= t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(0)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&gt;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     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&gt;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+ 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- 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= t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(0) + t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(0) &g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1447920" y="2133720"/>
                <a:ext cx="69418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3505320" y="3505320"/>
                <a:ext cx="48513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0" dur="indefinite" restart="never" nodeType="tmRoot">
          <p:childTnLst>
            <p:seq>
              <p:cTn id="1261" dur="indefinite" nodeType="mainSeq">
                <p:childTnLst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910160" y="3798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8600" y="959760"/>
            <a:ext cx="861048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cantidad de vehículos en cada flota depende de la magnitud relativa en las frecuencias. 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’ &gt;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’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" y="3949560"/>
            <a:ext cx="86868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(y vicever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ar B con ambos tipos de 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puesto: ¿qué elementos de este sistema son “optimizables”? ¿cóm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2590920" y="2063880"/>
                <a:ext cx="2965320" cy="11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η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2666880" y="3130560"/>
                <a:ext cx="2152800" cy="18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η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4" dur="indefinite" restart="never" nodeType="tmRoot">
          <p:childTnLst>
            <p:seq>
              <p:cTn id="1305" dur="indefinite" nodeType="mainSeq">
                <p:childTnLst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6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0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1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3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685800" y="685800"/>
            <a:ext cx="7924680" cy="56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ropues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= 30 ton, 25 m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os vehículos requieren mantenimiento durante 1 día/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v(k)=L/Vmax+0,0001k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[horas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=500[kg/min]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=800[kg/min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=100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ducto 1: materia prima, densidad 2 [ton/m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].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300[ton/hora]. Vmax=100[km/hora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ducto 2: producto elaborado, densidad 0,8 [ton/m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].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340[ton/hora]. Vmax=50[km/hora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 pid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mensionar la flota requerida con operación de frecuencia únic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mensionar la flota requerida con operación a plena 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139480" y="91332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33520" y="1533600"/>
            <a:ext cx="8001000" cy="50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viaje en el vehículo tramo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--&gt;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+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amaño de embarque en el tramo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--&gt;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rendimiento de carga/descarga (+/-) en punt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número de sitios de carga/descarga (+/-) en punt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: frecuencia (úni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de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isten n puntos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en los que hay demanda de ingreso y/o salida del sist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4" dur="indefinite" restart="never" nodeType="tmRoot">
          <p:childTnLst>
            <p:seq>
              <p:cTn id="1355" dur="indefinite" nodeType="mainSeq">
                <p:childTnLst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7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139480" y="91332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" y="1645920"/>
            <a:ext cx="80010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uesto: producto ún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demandas de ingreso y egreso en el terminal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743200" y="2743200"/>
                <a:ext cx="256536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609480" y="3825360"/>
            <a:ext cx="8001000" cy="24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in(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&gt;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(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&lt;=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s procesos de carga/descarga pueden ser simultáneos o secuenciales, según sean las características del vehículo/termi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0" dur="indefinite" restart="never" nodeType="tmRoot">
          <p:childTnLst>
            <p:seq>
              <p:cTn id="1411" dur="indefinite" nodeType="mainSeq">
                <p:childTnLst>
                  <p:par>
                    <p:cTn id="1412" fill="hold">
                      <p:stCondLst>
                        <p:cond delay="indefinite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6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fill="hold">
                      <p:stCondLst>
                        <p:cond delay="indefinite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0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1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fill="hold">
                      <p:stCondLst>
                        <p:cond delay="indefinite"/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139480" y="37980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57200" y="14148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rga/descarga secuen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5181480" y="1143000"/>
                <a:ext cx="2565360" cy="13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6" name=""/>
          <p:cNvSpPr/>
          <p:nvPr/>
        </p:nvSpPr>
        <p:spPr>
          <a:xfrm>
            <a:off x="304920" y="274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cuación de continuida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4343400" y="2743200"/>
                <a:ext cx="32115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380880" y="41677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rga/descarga simultá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4649760" y="3860640"/>
                <a:ext cx="3476520" cy="14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Sup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+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+</m:t>
                                </m:r>
                              </m:sup>
                            </m:sSubSup>
                          </m:den>
                        </m:f>
                        <m:r>
                          <m:t xml:space="preserve"> </m:t>
                        </m:r>
                        <m:f>
                          <m:num>
                            <m:sSubSup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477720" y="5160960"/>
                <a:ext cx="389268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 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8" dur="indefinite" restart="never" nodeType="tmRoot">
          <p:childTnLst>
            <p:seq>
              <p:cTn id="1449" dur="indefinite" nodeType="mainSeq">
                <p:childTnLst>
                  <p:par>
                    <p:cTn id="1450" fill="hold">
                      <p:stCondLst>
                        <p:cond delay="indefinite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6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fill="hold">
                      <p:stCondLst>
                        <p:cond delay="indefinite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8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fill="hold">
                      <p:stCondLst>
                        <p:cond delay="indefinite"/>
                      </p:stCondLst>
                      <p:childTnLst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2139480" y="45612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1268640"/>
            <a:ext cx="8001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intensidad de flujo desde i hacia j (matriz origen-destin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2133720" y="1752480"/>
                <a:ext cx="2041560" cy="13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5029200" y="1752480"/>
                <a:ext cx="2077920" cy="13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45" name=""/>
          <p:cNvSpPr/>
          <p:nvPr/>
        </p:nvSpPr>
        <p:spPr>
          <a:xfrm>
            <a:off x="5181480" y="4308480"/>
            <a:ext cx="342900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¿f?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áx {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=k &lt;=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838080" y="5181480"/>
                <a:ext cx="152424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η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7" name=""/>
          <p:cNvSpPr/>
          <p:nvPr/>
        </p:nvSpPr>
        <p:spPr>
          <a:xfrm>
            <a:off x="228600" y="3123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cuación de recurrenc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685800" y="3581280"/>
                <a:ext cx="336240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2" dur="indefinite" restart="never" nodeType="tmRoot">
          <p:childTnLst>
            <p:seq>
              <p:cTn id="1493" dur="indefinite" nodeType="mainSeq">
                <p:childTnLst>
                  <p:par>
                    <p:cTn id="1494" fill="hold">
                      <p:stCondLst>
                        <p:cond delay="indefinite"/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9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7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fill="hold">
                      <p:stCondLst>
                        <p:cond delay="indefinite"/>
                      </p:stCondLst>
                      <p:childTnLst>
                        <p:par>
                          <p:cTn id="1519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0" fill="hold">
                      <p:stCondLst>
                        <p:cond delay="indefinite"/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4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5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fill="hold">
                      <p:stCondLst>
                        <p:cond delay="indefinite"/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0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1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2139480" y="45612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439560" y="3733920"/>
                <a:ext cx="270216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α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304920" y="1162440"/>
            <a:ext cx="8001000" cy="22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bs: Si tenemos un conjunto de valores 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que cumple con la ecuación de recurrencia, entonces 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‘= 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 C también cum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sustituimos f por f’=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 ==&gt; las ecuaciones serán satisfechas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3962520" y="3124080"/>
                <a:ext cx="441936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3886200" y="4495680"/>
                <a:ext cx="441972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861480" y="6094800"/>
            <a:ext cx="32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--&gt; método de cál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2" dur="indefinite" restart="never" nodeType="tmRoot">
          <p:childTnLst>
            <p:seq>
              <p:cTn id="1543" dur="indefinite" nodeType="mainSeq">
                <p:childTnLst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8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fill="hold">
                      <p:stCondLst>
                        <p:cond delay="indefinite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4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5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fill="hold">
                      <p:stCondLst>
                        <p:cond delay="indefinite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fill="hold">
                      <p:stCondLst>
                        <p:cond delay="indefinite"/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2139480" y="456120"/>
            <a:ext cx="34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étodo de cálculo de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0880" y="1082880"/>
            <a:ext cx="18288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up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in{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{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=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557440" y="5284080"/>
            <a:ext cx="2610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--&gt; demos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ej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819520" y="1134000"/>
            <a:ext cx="541008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Def {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} tal 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+1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 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      i=1, ... 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553080" y="1057680"/>
            <a:ext cx="2590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o es como usar una frecuencia unitaria, puede no satisfacer restricciones de carga  máx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57200" y="3368880"/>
            <a:ext cx="541008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e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=mín{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=máx {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352680" y="3696480"/>
            <a:ext cx="5181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recuencia:   f=(Q-q)/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amaño de embarque: ki=(qi-q)/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132000" y="3573360"/>
            <a:ext cx="5400720" cy="1368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0" dur="indefinite" restart="never" nodeType="tmRoot">
          <p:childTnLst>
            <p:seq>
              <p:cTn id="1581" dur="indefinite" nodeType="mainSeq">
                <p:childTnLst>
                  <p:par>
                    <p:cTn id="1582" fill="hold">
                      <p:stCondLst>
                        <p:cond delay="indefinite"/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6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8" fill="hold">
                      <p:stCondLst>
                        <p:cond delay="indefinite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2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3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4" fill="hold">
                      <p:stCondLst>
                        <p:cond delay="indefinite"/>
                      </p:stCondLst>
                      <p:childTnLst>
                        <p:par>
                          <p:cTn id="1595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8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9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0" fill="hold">
                      <p:stCondLst>
                        <p:cond delay="indefinite"/>
                      </p:stCondLst>
                      <p:childTnLst>
                        <p:par>
                          <p:cTn id="1601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4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5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6" fill="hold">
                      <p:stCondLst>
                        <p:cond delay="indefinite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0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1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fill="hold">
                      <p:stCondLst>
                        <p:cond delay="indefinite"/>
                      </p:stCondLst>
                      <p:childTnLst>
                        <p:par>
                          <p:cTn id="1613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6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7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8" fill="hold">
                      <p:stCondLst>
                        <p:cond delay="indefinite"/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4" fill="hold">
                      <p:stCondLst>
                        <p:cond delay="indefinite"/>
                      </p:stCondLst>
                      <p:childTnLst>
                        <p:par>
                          <p:cTn id="1625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8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9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0" fill="hold">
                      <p:stCondLst>
                        <p:cond delay="indefinite"/>
                      </p:stCondLst>
                      <p:childTnLst>
                        <p:par>
                          <p:cTn id="1631" fill="hold">
                            <p:stCondLst>
                              <p:cond delay="0"/>
                            </p:stCondLst>
                            <p:childTnLst>
                              <p:par>
                                <p:cTn id="16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4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5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6" fill="hold">
                      <p:stCondLst>
                        <p:cond delay="indefinite"/>
                      </p:stCondLst>
                      <p:childTnLst>
                        <p:par>
                          <p:cTn id="1637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0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1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2" fill="hold">
                      <p:stCondLst>
                        <p:cond delay="indefinite"/>
                      </p:stCondLst>
                      <p:childTnLst>
                        <p:par>
                          <p:cTn id="1643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6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7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8" fill="hold">
                      <p:stCondLst>
                        <p:cond delay="indefinite"/>
                      </p:stCondLst>
                      <p:childTnLst>
                        <p:par>
                          <p:cTn id="1649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2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3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4" fill="hold">
                      <p:stCondLst>
                        <p:cond delay="indefinite"/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208520" y="91332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504800"/>
            <a:ext cx="80010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 sistema cíclico si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ider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stema id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cre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 operación cíclica de frecuencia f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 vehículos idénticos e intercamb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525744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xiste demanda de Transporte en un par origen-destino único, con un producto único de naturaleza continua y con demanda estaciona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8348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La función de oferta de las ví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15640" y="36446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Comic Sans MS"/>
              </a:rPr>
              <a:t>Teoría de la circulació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0" dur="indefinite" restart="never" nodeType="tmRoot">
          <p:childTnLst>
            <p:seq>
              <p:cTn id="1661" dur="indefinite" nodeType="mainSeq">
                <p:childTnLst>
                  <p:par>
                    <p:cTn id="1662" fill="hold">
                      <p:stCondLst>
                        <p:cond delay="indefinite"/>
                      </p:stCondLst>
                      <p:childTnLst>
                        <p:par>
                          <p:cTn id="1663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6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7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Teoría de la circul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2362320" y="25146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362320" y="571500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914400" y="2209680"/>
            <a:ext cx="12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ancia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172200" y="5791320"/>
            <a:ext cx="106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empo 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819520" y="2514600"/>
            <a:ext cx="3581280" cy="3200400"/>
          </a:xfrm>
          <a:custGeom>
            <a:avLst/>
            <a:gdLst/>
            <a:ahLst/>
            <a:rect l="l" t="t" r="r" b="b"/>
            <a:pathLst>
              <a:path w="2256" h="2016">
                <a:moveTo>
                  <a:pt x="0" y="2016"/>
                </a:moveTo>
                <a:cubicBezTo>
                  <a:pt x="532" y="1968"/>
                  <a:pt x="1064" y="1920"/>
                  <a:pt x="1440" y="1584"/>
                </a:cubicBezTo>
                <a:cubicBezTo>
                  <a:pt x="1816" y="1248"/>
                  <a:pt x="2036" y="624"/>
                  <a:pt x="225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362320" y="3048120"/>
            <a:ext cx="4952880" cy="2133360"/>
          </a:xfrm>
          <a:custGeom>
            <a:avLst/>
            <a:gdLst/>
            <a:ahLst/>
            <a:rect l="l" t="t" r="r" b="b"/>
            <a:pathLst>
              <a:path w="3120" h="1344">
                <a:moveTo>
                  <a:pt x="0" y="1344"/>
                </a:moveTo>
                <a:cubicBezTo>
                  <a:pt x="124" y="1024"/>
                  <a:pt x="248" y="704"/>
                  <a:pt x="768" y="480"/>
                </a:cubicBezTo>
                <a:cubicBezTo>
                  <a:pt x="1288" y="256"/>
                  <a:pt x="2204" y="128"/>
                  <a:pt x="312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467480" y="281952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h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553080" y="220968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h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 flipV="1">
            <a:off x="6172200" y="327672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81680" y="35053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elant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191120" y="3581280"/>
            <a:ext cx="0" cy="190512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114800" y="38098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espaci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514600" y="4800600"/>
            <a:ext cx="281952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895480" y="441972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g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85800" y="594360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ndiente = velo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8" dur="indefinite" restart="never" nodeType="tmRoot">
          <p:childTnLst>
            <p:seq>
              <p:cTn id="1669" dur="indefinite" nodeType="mainSeq">
                <p:childTnLst>
                  <p:par>
                    <p:cTn id="1670" fill="hold">
                      <p:stCondLst>
                        <p:cond delay="indefinite"/>
                      </p:stCondLst>
                      <p:childTnLst>
                        <p:par>
                          <p:cTn id="1671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1" fill="hold">
                      <p:stCondLst>
                        <p:cond delay="indefinite"/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7" fill="hold">
                            <p:stCondLst>
                              <p:cond delay="500"/>
                            </p:stCondLst>
                            <p:childTnLst>
                              <p:par>
                                <p:cTn id="16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fill="hold">
                      <p:stCondLst>
                        <p:cond delay="indefinite"/>
                      </p:stCondLst>
                      <p:childTnLst>
                        <p:par>
                          <p:cTn id="1703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8" fill="hold">
                            <p:stCondLst>
                              <p:cond delay="500"/>
                            </p:stCondLst>
                            <p:childTnLst>
                              <p:par>
                                <p:cTn id="17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3" fill="hold">
                      <p:stCondLst>
                        <p:cond delay="indefinite"/>
                      </p:stCondLst>
                      <p:childTnLst>
                        <p:par>
                          <p:cTn id="1714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fill="hold">
                      <p:stCondLst>
                        <p:cond delay="indefinite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5" fill="hold">
                      <p:stCondLst>
                        <p:cond delay="indefinite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1" fill="hold">
                            <p:stCondLst>
                              <p:cond delay="500"/>
                            </p:stCondLst>
                            <p:childTnLst>
                              <p:par>
                                <p:cTn id="17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6" fill="hold">
                      <p:stCondLst>
                        <p:cond delay="indefinite"/>
                      </p:stCondLst>
                      <p:childTnLst>
                        <p:par>
                          <p:cTn id="1737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2" fill="hold">
                            <p:stCondLst>
                              <p:cond delay="500"/>
                            </p:stCondLst>
                            <p:childTnLst>
                              <p:par>
                                <p:cTn id="1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7" fill="hold">
                      <p:stCondLst>
                        <p:cond delay="indefinite"/>
                      </p:stCondLst>
                      <p:childTnLst>
                        <p:par>
                          <p:cTn id="1748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2000"/>
          </a:bodyPr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res características fundamentales del tráf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flujo (f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número medio de vehículos que pasan por un cierto punto fijo por unidad de ti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densidad (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número medio de vehículos presentes, en un cierto instante, en una sección de cam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elocidad (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puede ser medida de distintas for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: media espa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: media tempo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3" dur="indefinite" restart="never" nodeType="tmRoot">
          <p:childTnLst>
            <p:seq>
              <p:cTn id="1754" dur="indefinite" nodeType="mainSeq">
                <p:childTnLst>
                  <p:par>
                    <p:cTn id="1755" fill="hold">
                      <p:stCondLst>
                        <p:cond delay="indefinite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9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0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5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6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1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2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3" fill="hold">
                      <p:stCondLst>
                        <p:cond delay="indefinite"/>
                      </p:stCondLst>
                      <p:childTnLst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7" dur="5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8" dur="5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fill="hold">
                      <p:stCondLst>
                        <p:cond delay="indefinite"/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3" dur="5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4" dur="5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fill="hold">
                      <p:stCondLst>
                        <p:cond delay="indefinite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9" dur="500" fill="hold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0" dur="500" fill="hold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1" fill="hold">
                      <p:stCondLst>
                        <p:cond delay="indefinite"/>
                      </p:stCondLst>
                      <p:childTnLst>
                        <p:par>
                          <p:cTn id="1792" fill="hold">
                            <p:stCondLst>
                              <p:cond delay="0"/>
                            </p:stCondLst>
                            <p:childTnLst>
                              <p:par>
                                <p:cTn id="1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5" dur="500" fill="hold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6" dur="500" fill="hold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7" fill="hold">
                      <p:stCondLst>
                        <p:cond delay="indefinite"/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1" dur="500" fill="hold"/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2" dur="500" fill="hold"/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3" fill="hold">
                      <p:stCondLst>
                        <p:cond delay="indefinite"/>
                      </p:stCondLst>
                      <p:childTnLst>
                        <p:par>
                          <p:cTn id="1804" fill="hold">
                            <p:stCondLst>
                              <p:cond delay="0"/>
                            </p:stCondLst>
                            <p:childTnLst>
                              <p:par>
                                <p:cTn id="1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7" dur="500" fill="hold"/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8" dur="500" fill="hold"/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cuación fundamental del tráf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-13356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f(veh/hr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= 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s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(km/hr) ·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K (veh/km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j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447920" y="3581280"/>
            <a:ext cx="228600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0880" y="2743200"/>
            <a:ext cx="4572000" cy="2590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1142640" y="32004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47920" y="3048120"/>
            <a:ext cx="685800" cy="39888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447920" y="4648320"/>
            <a:ext cx="685800" cy="39888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13372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886200" y="4191120"/>
            <a:ext cx="762120" cy="398880"/>
          </a:xfrm>
          <a:prstGeom prst="rect">
            <a:avLst/>
          </a:prstGeom>
          <a:noFill/>
          <a:ln w="572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4648320" y="4038120"/>
            <a:ext cx="152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105520" y="1828800"/>
            <a:ext cx="380988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= 2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nsidad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= 3veh/2km = 1,5 veh/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lujo: si me paro en un punto y observo por 1 hora veré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50 veces el vehículo ro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70 veces vehículo ver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60 veces vehículo azu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33520" y="5334120"/>
            <a:ext cx="86104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otal = 180 veh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s=(120+140+100)/3=120km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t=(100*50+140*70+120*60)/180=122km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15000" y="56386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=120*1,5=180(veh/h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9" dur="indefinite" restart="never" nodeType="tmRoot">
          <p:childTnLst>
            <p:seq>
              <p:cTn id="1810" dur="indefinite" nodeType="mainSeq">
                <p:childTnLst>
                  <p:par>
                    <p:cTn id="1811" fill="hold">
                      <p:stCondLst>
                        <p:cond delay="indefinite"/>
                      </p:stCondLst>
                      <p:childTnLst>
                        <p:par>
                          <p:cTn id="1812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6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7" fill="hold">
                      <p:stCondLst>
                        <p:cond delay="indefinite"/>
                      </p:stCondLst>
                      <p:childTnLst>
                        <p:par>
                          <p:cTn id="1818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1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2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3" fill="hold">
                      <p:stCondLst>
                        <p:cond delay="indefinite"/>
                      </p:stCondLst>
                      <p:childTnLst>
                        <p:par>
                          <p:cTn id="1824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7" dur="5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8" dur="5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9" fill="hold">
                      <p:stCondLst>
                        <p:cond delay="indefinite"/>
                      </p:stCondLst>
                      <p:childTnLst>
                        <p:par>
                          <p:cTn id="1830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5" fill="hold">
                            <p:stCondLst>
                              <p:cond delay="500"/>
                            </p:stCondLst>
                            <p:childTnLst>
                              <p:par>
                                <p:cTn id="18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0" fill="hold">
                      <p:stCondLst>
                        <p:cond delay="indefinite"/>
                      </p:stCondLst>
                      <p:childTnLst>
                        <p:par>
                          <p:cTn id="1841" fill="hold">
                            <p:stCondLst>
                              <p:cond delay="0"/>
                            </p:stCondLst>
                            <p:childTnLst>
                              <p:par>
                                <p:cTn id="1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6" fill="hold">
                            <p:stCondLst>
                              <p:cond delay="500"/>
                            </p:stCondLst>
                            <p:childTnLst>
                              <p:par>
                                <p:cTn id="18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1" fill="hold">
                      <p:stCondLst>
                        <p:cond delay="indefinite"/>
                      </p:stCondLst>
                      <p:childTnLst>
                        <p:par>
                          <p:cTn id="1852" fill="hold">
                            <p:stCondLst>
                              <p:cond delay="0"/>
                            </p:stCondLst>
                            <p:childTnLst>
                              <p:par>
                                <p:cTn id="1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7" fill="hold">
                            <p:stCondLst>
                              <p:cond delay="500"/>
                            </p:stCondLst>
                            <p:childTnLst>
                              <p:par>
                                <p:cTn id="18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2" fill="hold">
                      <p:stCondLst>
                        <p:cond delay="indefinite"/>
                      </p:stCondLst>
                      <p:childTnLst>
                        <p:par>
                          <p:cTn id="1863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8" fill="hold">
                            <p:stCondLst>
                              <p:cond delay="500"/>
                            </p:stCondLst>
                            <p:childTnLst>
                              <p:par>
                                <p:cTn id="18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3" fill="hold">
                      <p:stCondLst>
                        <p:cond delay="indefinite"/>
                      </p:stCondLst>
                      <p:childTnLst>
                        <p:par>
                          <p:cTn id="1874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7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fill="hold">
                      <p:stCondLst>
                        <p:cond delay="indefinite"/>
                      </p:stCondLst>
                      <p:childTnLst>
                        <p:par>
                          <p:cTn id="1880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3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4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9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0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1" fill="hold">
                      <p:stCondLst>
                        <p:cond delay="indefinite"/>
                      </p:stCondLst>
                      <p:childTnLst>
                        <p:par>
                          <p:cTn id="1892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5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6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fill="hold">
                      <p:stCondLst>
                        <p:cond delay="indefinite"/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1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2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3" fill="hold">
                      <p:stCondLst>
                        <p:cond delay="indefinite"/>
                      </p:stCondLst>
                      <p:childTnLst>
                        <p:par>
                          <p:cTn id="1904" fill="hold">
                            <p:stCondLst>
                              <p:cond delay="0"/>
                            </p:stCondLst>
                            <p:childTnLst>
                              <p:par>
                                <p:cTn id="19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7" dur="5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8" dur="5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9" fill="hold">
                      <p:stCondLst>
                        <p:cond delay="indefinite"/>
                      </p:stCondLst>
                      <p:childTnLst>
                        <p:par>
                          <p:cTn id="1910" fill="hold">
                            <p:stCondLst>
                              <p:cond delay="0"/>
                            </p:stCondLst>
                            <p:childTnLst>
                              <p:par>
                                <p:cTn id="19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3" dur="500" fill="hold"/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4" dur="500" fill="hold"/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5" fill="hold">
                      <p:stCondLst>
                        <p:cond delay="indefinite"/>
                      </p:stCondLst>
                      <p:childTnLst>
                        <p:par>
                          <p:cTn id="1916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9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0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1" fill="hold">
                      <p:stCondLst>
                        <p:cond delay="indefinite"/>
                      </p:stCondLst>
                      <p:childTnLst>
                        <p:par>
                          <p:cTn id="1922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5" dur="5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6" dur="5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7" fill="hold">
                      <p:stCondLst>
                        <p:cond delay="indefinite"/>
                      </p:stCondLst>
                      <p:childTnLst>
                        <p:par>
                          <p:cTn id="1928" fill="hold">
                            <p:stCondLst>
                              <p:cond delay="0"/>
                            </p:stCondLst>
                            <p:childTnLst>
                              <p:par>
                                <p:cTn id="1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1" dur="5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2" dur="5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3" fill="hold">
                      <p:stCondLst>
                        <p:cond delay="indefinite"/>
                      </p:stCondLst>
                      <p:childTnLst>
                        <p:par>
                          <p:cTn id="1934" fill="hold">
                            <p:stCondLst>
                              <p:cond delay="0"/>
                            </p:stCondLst>
                            <p:childTnLst>
                              <p:par>
                                <p:cTn id="1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8000"/>
          </a:bodyPr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elaci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-6156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la velocidad decrece con la dens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típico: v(K)=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.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: velocidad de flujo lib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: densidad máxima (jam density, parking lot syndro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9" dur="indefinite" restart="never" nodeType="tmRoot">
          <p:childTnLst>
            <p:seq>
              <p:cTn id="1940" dur="indefinite" nodeType="mainSeq">
                <p:childTnLst>
                  <p:par>
                    <p:cTn id="1941" fill="hold">
                      <p:stCondLst>
                        <p:cond delay="indefinite"/>
                      </p:stCondLst>
                      <p:childTnLst>
                        <p:par>
                          <p:cTn id="1942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5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6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7" fill="hold">
                      <p:stCondLst>
                        <p:cond delay="indefinite"/>
                      </p:stCondLst>
                      <p:childTnLst>
                        <p:par>
                          <p:cTn id="1948" fill="hold">
                            <p:stCondLst>
                              <p:cond delay="0"/>
                            </p:stCondLst>
                            <p:childTnLst>
                              <p:par>
                                <p:cTn id="19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1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2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3" fill="hold">
                      <p:stCondLst>
                        <p:cond delay="indefinite"/>
                      </p:stCondLst>
                      <p:childTnLst>
                        <p:par>
                          <p:cTn id="1954" fill="hold">
                            <p:stCondLst>
                              <p:cond delay="0"/>
                            </p:stCondLst>
                            <p:childTnLst>
                              <p:par>
                                <p:cTn id="19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7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8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fill="hold">
                      <p:stCondLst>
                        <p:cond delay="indefinite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3" dur="5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4" dur="5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5" fill="hold">
                      <p:stCondLst>
                        <p:cond delay="indefinite"/>
                      </p:stCondLst>
                      <p:childTnLst>
                        <p:par>
                          <p:cTn id="1966" fill="hold">
                            <p:stCondLst>
                              <p:cond delay="0"/>
                            </p:stCondLst>
                            <p:childTnLst>
                              <p:par>
                                <p:cTn id="19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9" dur="500" fill="hold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0" dur="500" fill="hold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(k)=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·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(k)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219320" y="1447920"/>
            <a:ext cx="838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n-US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81080" y="1447920"/>
            <a:ext cx="2895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685800" y="2139840"/>
          <a:ext cx="8077320" cy="452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39840"/>
                    <a:ext cx="8077320" cy="452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"/>
          <p:cNvSpPr/>
          <p:nvPr/>
        </p:nvSpPr>
        <p:spPr>
          <a:xfrm flipH="1">
            <a:off x="1295280" y="2895480"/>
            <a:ext cx="335304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52280" y="266616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a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1" dur="indefinite" restart="never" nodeType="tmRoot">
          <p:childTnLst>
            <p:seq>
              <p:cTn id="1972" dur="indefinite" nodeType="mainSeq">
                <p:childTnLst>
                  <p:par>
                    <p:cTn id="1973" fill="hold">
                      <p:stCondLst>
                        <p:cond delay="indefinite"/>
                      </p:stCondLst>
                      <p:childTnLst>
                        <p:par>
                          <p:cTn id="1974" fill="hold">
                            <p:stCondLst>
                              <p:cond delay="0"/>
                            </p:stCondLst>
                            <p:childTnLst>
                              <p:par>
                                <p:cTn id="19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7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8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9" fill="hold">
                      <p:stCondLst>
                        <p:cond delay="indefinite"/>
                      </p:stCondLst>
                      <p:childTnLst>
                        <p:par>
                          <p:cTn id="1980" fill="hold">
                            <p:stCondLst>
                              <p:cond delay="0"/>
                            </p:stCondLst>
                            <p:childTnLst>
                              <p:par>
                                <p:cTn id="19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3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4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1" fill="hold">
                      <p:stCondLst>
                        <p:cond delay="indefinite"/>
                      </p:stCondLst>
                      <p:childTnLst>
                        <p:par>
                          <p:cTn id="1992" fill="hold">
                            <p:stCondLst>
                              <p:cond delay="0"/>
                            </p:stCondLst>
                            <p:childTnLst>
                              <p:par>
                                <p:cTn id="19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7" fill="hold">
                      <p:stCondLst>
                        <p:cond delay="indefinite"/>
                      </p:stCondLst>
                      <p:childTnLst>
                        <p:par>
                          <p:cTn id="1998" fill="hold">
                            <p:stCondLst>
                              <p:cond delay="0"/>
                            </p:stCondLst>
                            <p:childTnLst>
                              <p:par>
                                <p:cTn id="19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3" fill="hold">
                      <p:stCondLst>
                        <p:cond delay="indefinite"/>
                      </p:stCondLst>
                      <p:childTnLst>
                        <p:par>
                          <p:cTn id="2004" fill="hold">
                            <p:stCondLst>
                              <p:cond delay="0"/>
                            </p:stCondLst>
                            <p:childTnLst>
                              <p:par>
                                <p:cTn id="20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9" fill="hold">
                      <p:stCondLst>
                        <p:cond delay="indefinite"/>
                      </p:stCondLst>
                      <p:childTnLst>
                        <p:par>
                          <p:cTn id="2010" fill="hold">
                            <p:stCondLst>
                              <p:cond delay="0"/>
                            </p:stCondLst>
                            <p:childTnLst>
                              <p:par>
                                <p:cTn id="20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(k)=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·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(k)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19320" y="1447920"/>
            <a:ext cx="838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n-US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81080" y="1447920"/>
            <a:ext cx="2895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990720" y="2209680"/>
          <a:ext cx="6912000" cy="387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209680"/>
                    <a:ext cx="6912000" cy="38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"/>
          <p:cNvSpPr/>
          <p:nvPr/>
        </p:nvSpPr>
        <p:spPr>
          <a:xfrm flipV="1">
            <a:off x="6781680" y="3885840"/>
            <a:ext cx="0" cy="160020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172200" y="540936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a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5" dur="indefinite" restart="never" nodeType="tmRoot">
          <p:childTnLst>
            <p:seq>
              <p:cTn id="2016" dur="indefinite" nodeType="mainSeq">
                <p:childTnLst>
                  <p:par>
                    <p:cTn id="2017" fill="hold">
                      <p:stCondLst>
                        <p:cond delay="indefinite"/>
                      </p:stCondLst>
                      <p:childTnLst>
                        <p:par>
                          <p:cTn id="2018" fill="hold">
                            <p:stCondLst>
                              <p:cond delay="0"/>
                            </p:stCondLst>
                            <p:childTnLst>
                              <p:par>
                                <p:cTn id="20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3" fill="hold">
                      <p:stCondLst>
                        <p:cond delay="indefinite"/>
                      </p:stCondLst>
                      <p:childTnLst>
                        <p:par>
                          <p:cTn id="2024" fill="hold">
                            <p:stCondLst>
                              <p:cond delay="0"/>
                            </p:stCondLst>
                            <p:childTnLst>
                              <p:par>
                                <p:cTn id="20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9" fill="hold">
                      <p:stCondLst>
                        <p:cond delay="indefinite"/>
                      </p:stCondLst>
                      <p:childTnLst>
                        <p:par>
                          <p:cTn id="2030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lación tiempo flu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57200" y="167652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En la práctica no se observa ese retorno hacia atrá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33520" y="3276720"/>
            <a:ext cx="792468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Trabajar con curvas monótonamente crecient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rincipales demoras están en intersec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ntersecciones semaforiz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ntersecciones de prio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5410080" y="304920"/>
          <a:ext cx="3505320" cy="261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304920"/>
                    <a:ext cx="3505320" cy="26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5" dur="indefinite" restart="never" nodeType="tmRoot">
          <p:childTnLst>
            <p:seq>
              <p:cTn id="2036" dur="indefinite" nodeType="mainSeq">
                <p:childTnLst>
                  <p:par>
                    <p:cTn id="2037" fill="hold">
                      <p:stCondLst>
                        <p:cond delay="indefinite"/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1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2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3" fill="hold">
                      <p:stCondLst>
                        <p:cond delay="indefinite"/>
                      </p:stCondLst>
                      <p:childTnLst>
                        <p:par>
                          <p:cTn id="2044" fill="hold">
                            <p:stCondLst>
                              <p:cond delay="0"/>
                            </p:stCondLst>
                            <p:childTnLst>
                              <p:par>
                                <p:cTn id="2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9" fill="hold">
                      <p:stCondLst>
                        <p:cond delay="indefinite"/>
                      </p:stCondLst>
                      <p:childTnLst>
                        <p:par>
                          <p:cTn id="2050" fill="hold">
                            <p:stCondLst>
                              <p:cond delay="0"/>
                            </p:stCondLst>
                            <p:childTnLst>
                              <p:par>
                                <p:cTn id="2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5" fill="hold">
                      <p:stCondLst>
                        <p:cond delay="indefinite"/>
                      </p:stCondLst>
                      <p:childTnLst>
                        <p:par>
                          <p:cTn id="2056" fill="hold">
                            <p:stCondLst>
                              <p:cond delay="0"/>
                            </p:stCondLst>
                            <p:childTnLst>
                              <p:par>
                                <p:cTn id="2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9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0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fill="hold">
                      <p:stCondLst>
                        <p:cond delay="indefinite"/>
                      </p:stCondLst>
                      <p:childTnLst>
                        <p:par>
                          <p:cTn id="2062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5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6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7" fill="hold">
                      <p:stCondLst>
                        <p:cond delay="indefinite"/>
                      </p:stCondLst>
                      <p:childTnLst>
                        <p:par>
                          <p:cTn id="2068" fill="hold">
                            <p:stCondLst>
                              <p:cond delay="0"/>
                            </p:stCondLst>
                            <p:childTnLst>
                              <p:par>
                                <p:cTn id="20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1" dur="5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2" dur="5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3" fill="hold">
                      <p:stCondLst>
                        <p:cond delay="indefinite"/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7" dur="500" fill="hold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8" dur="500" fill="hold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ntersecciones semaforiz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rot="16200000">
            <a:off x="-142560" y="3036240"/>
            <a:ext cx="297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Demora esperada (seg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590920" y="502920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Tasa de llegada (veh/hr-pis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2057400" y="1523520"/>
            <a:ext cx="0" cy="312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057400" y="464832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600920" y="40377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600920" y="2208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600920" y="26661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600920" y="31233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600920" y="35805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828800" y="4647240"/>
            <a:ext cx="43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0    400    600    800   1000   12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057400" y="1752480"/>
            <a:ext cx="3581280" cy="2667240"/>
          </a:xfrm>
          <a:custGeom>
            <a:avLst/>
            <a:gdLst/>
            <a:ahLst/>
            <a:rect l="l" t="t" r="r" b="b"/>
            <a:pathLst>
              <a:path w="2400" h="1680">
                <a:moveTo>
                  <a:pt x="0" y="1680"/>
                </a:moveTo>
                <a:cubicBezTo>
                  <a:pt x="784" y="1652"/>
                  <a:pt x="1568" y="1624"/>
                  <a:pt x="1968" y="1344"/>
                </a:cubicBezTo>
                <a:cubicBezTo>
                  <a:pt x="2368" y="1064"/>
                  <a:pt x="2384" y="532"/>
                  <a:pt x="240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057400" y="1752480"/>
            <a:ext cx="2286000" cy="2133720"/>
          </a:xfrm>
          <a:custGeom>
            <a:avLst/>
            <a:gdLst/>
            <a:ahLst/>
            <a:rect l="l" t="t" r="r" b="b"/>
            <a:pathLst>
              <a:path w="1152" h="1344">
                <a:moveTo>
                  <a:pt x="0" y="1344"/>
                </a:moveTo>
                <a:cubicBezTo>
                  <a:pt x="360" y="1312"/>
                  <a:pt x="720" y="1280"/>
                  <a:pt x="912" y="1056"/>
                </a:cubicBezTo>
                <a:cubicBezTo>
                  <a:pt x="1104" y="832"/>
                  <a:pt x="1128" y="416"/>
                  <a:pt x="115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419720" y="1597320"/>
            <a:ext cx="83808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=9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=4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867280" y="1749600"/>
            <a:ext cx="83844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=9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=6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127680" y="5866920"/>
            <a:ext cx="179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uente: Sheffi 19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9" dur="indefinite" restart="never" nodeType="tmRoot">
          <p:childTnLst>
            <p:seq>
              <p:cTn id="2080" dur="indefinite" nodeType="mainSeq">
                <p:childTnLst>
                  <p:par>
                    <p:cTn id="2081" fill="hold">
                      <p:stCondLst>
                        <p:cond delay="indefinite"/>
                      </p:stCondLst>
                      <p:childTnLst>
                        <p:par>
                          <p:cTn id="2082" fill="hold">
                            <p:stCondLst>
                              <p:cond delay="0"/>
                            </p:stCondLst>
                            <p:childTnLst>
                              <p:par>
                                <p:cTn id="20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7" fill="hold">
                            <p:stCondLst>
                              <p:cond delay="2500"/>
                            </p:stCondLst>
                            <p:childTnLst>
                              <p:par>
                                <p:cTn id="2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2" fill="hold">
                      <p:stCondLst>
                        <p:cond delay="indefinite"/>
                      </p:stCondLst>
                      <p:childTnLst>
                        <p:par>
                          <p:cTn id="2113" fill="hold">
                            <p:stCondLst>
                              <p:cond delay="0"/>
                            </p:stCondLst>
                            <p:childTnLst>
                              <p:par>
                                <p:cTn id="2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8" fill="hold">
                      <p:stCondLst>
                        <p:cond delay="indefinite"/>
                      </p:stCondLst>
                      <p:childTnLst>
                        <p:par>
                          <p:cTn id="2119" fill="hold">
                            <p:stCondLst>
                              <p:cond delay="0"/>
                            </p:stCondLst>
                            <p:childTnLst>
                              <p:par>
                                <p:cTn id="2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4" fill="hold">
                            <p:stCondLst>
                              <p:cond delay="500"/>
                            </p:stCondLst>
                            <p:childTnLst>
                              <p:par>
                                <p:cTn id="2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9" fill="hold">
                      <p:stCondLst>
                        <p:cond delay="indefinite"/>
                      </p:stCondLst>
                      <p:childTnLst>
                        <p:par>
                          <p:cTn id="2130" fill="hold">
                            <p:stCondLst>
                              <p:cond delay="0"/>
                            </p:stCondLst>
                            <p:childTnLst>
                              <p:par>
                                <p:cTn id="2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3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4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5" fill="hold">
                      <p:stCondLst>
                        <p:cond delay="indefinite"/>
                      </p:stCondLst>
                      <p:childTnLst>
                        <p:par>
                          <p:cTn id="2136" fill="hold">
                            <p:stCondLst>
                              <p:cond delay="0"/>
                            </p:stCondLst>
                            <p:childTnLst>
                              <p:par>
                                <p:cTn id="2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1" fill="hold">
                      <p:stCondLst>
                        <p:cond delay="indefinite"/>
                      </p:stCondLst>
                      <p:childTnLst>
                        <p:par>
                          <p:cTn id="2142" fill="hold">
                            <p:stCondLst>
                              <p:cond delay="0"/>
                            </p:stCondLst>
                            <p:childTnLst>
                              <p:par>
                                <p:cTn id="2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7" fill="hold">
                      <p:stCondLst>
                        <p:cond delay="indefinite"/>
                      </p:stCondLst>
                      <p:childTnLst>
                        <p:par>
                          <p:cTn id="2148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3" fill="hold">
                      <p:stCondLst>
                        <p:cond delay="indefinite"/>
                      </p:stCondLst>
                      <p:childTnLst>
                        <p:par>
                          <p:cTn id="2154" fill="hold">
                            <p:stCondLst>
                              <p:cond delay="0"/>
                            </p:stCondLst>
                            <p:childTnLst>
                              <p:par>
                                <p:cTn id="2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Intersecciones de prio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rot="16200000">
            <a:off x="-750240" y="2958480"/>
            <a:ext cx="46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Tiempo medio de espera en cola (seg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666880" y="609588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Tasa de llegada (veh/hr-pis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2057400" y="15238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057400" y="563868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600920" y="4342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920" y="19040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600920" y="31233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905120" y="563796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    200    300    400    500    600    700    800   9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438280" y="18288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100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057400" y="1752480"/>
            <a:ext cx="1523880" cy="2895840"/>
          </a:xfrm>
          <a:custGeom>
            <a:avLst/>
            <a:gdLst/>
            <a:ahLst/>
            <a:rect l="l" t="t" r="r" b="b"/>
            <a:pathLst>
              <a:path w="960" h="1824">
                <a:moveTo>
                  <a:pt x="0" y="1824"/>
                </a:moveTo>
                <a:cubicBezTo>
                  <a:pt x="208" y="1760"/>
                  <a:pt x="416" y="1696"/>
                  <a:pt x="576" y="1392"/>
                </a:cubicBezTo>
                <a:cubicBezTo>
                  <a:pt x="736" y="1088"/>
                  <a:pt x="848" y="544"/>
                  <a:pt x="96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828800"/>
            <a:ext cx="1219320" cy="2743200"/>
          </a:xfrm>
          <a:custGeom>
            <a:avLst/>
            <a:gdLst/>
            <a:ahLst/>
            <a:rect l="l" t="t" r="r" b="b"/>
            <a:pathLst>
              <a:path w="768" h="1728">
                <a:moveTo>
                  <a:pt x="0" y="1728"/>
                </a:moveTo>
                <a:cubicBezTo>
                  <a:pt x="224" y="1584"/>
                  <a:pt x="448" y="1440"/>
                  <a:pt x="576" y="1152"/>
                </a:cubicBezTo>
                <a:cubicBezTo>
                  <a:pt x="704" y="864"/>
                  <a:pt x="736" y="432"/>
                  <a:pt x="768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057400" y="1752480"/>
            <a:ext cx="2743200" cy="3276720"/>
          </a:xfrm>
          <a:custGeom>
            <a:avLst/>
            <a:gdLst/>
            <a:ahLst/>
            <a:rect l="l" t="t" r="r" b="b"/>
            <a:pathLst>
              <a:path w="1728" h="2064">
                <a:moveTo>
                  <a:pt x="0" y="2064"/>
                </a:moveTo>
                <a:cubicBezTo>
                  <a:pt x="456" y="1972"/>
                  <a:pt x="912" y="1880"/>
                  <a:pt x="1200" y="1536"/>
                </a:cubicBezTo>
                <a:cubicBezTo>
                  <a:pt x="1488" y="1192"/>
                  <a:pt x="1640" y="256"/>
                  <a:pt x="17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057400" y="1676520"/>
            <a:ext cx="2514600" cy="3352680"/>
          </a:xfrm>
          <a:custGeom>
            <a:avLst/>
            <a:gdLst/>
            <a:ahLst/>
            <a:rect l="l" t="t" r="r" b="b"/>
            <a:pathLst>
              <a:path w="1728" h="2064">
                <a:moveTo>
                  <a:pt x="0" y="2064"/>
                </a:moveTo>
                <a:cubicBezTo>
                  <a:pt x="456" y="1972"/>
                  <a:pt x="912" y="1880"/>
                  <a:pt x="1200" y="1536"/>
                </a:cubicBezTo>
                <a:cubicBezTo>
                  <a:pt x="1488" y="1192"/>
                  <a:pt x="1640" y="256"/>
                  <a:pt x="1728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057400" y="1981080"/>
            <a:ext cx="4876920" cy="3276720"/>
          </a:xfrm>
          <a:custGeom>
            <a:avLst/>
            <a:gdLst/>
            <a:ahLst/>
            <a:rect l="l" t="t" r="r" b="b"/>
            <a:pathLst>
              <a:path w="3552" h="1200">
                <a:moveTo>
                  <a:pt x="0" y="1200"/>
                </a:moveTo>
                <a:cubicBezTo>
                  <a:pt x="1072" y="1084"/>
                  <a:pt x="2144" y="968"/>
                  <a:pt x="2736" y="768"/>
                </a:cubicBezTo>
                <a:cubicBezTo>
                  <a:pt x="3328" y="568"/>
                  <a:pt x="3416" y="128"/>
                  <a:pt x="355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057400" y="2895480"/>
            <a:ext cx="5410080" cy="2438640"/>
          </a:xfrm>
          <a:custGeom>
            <a:avLst/>
            <a:gdLst/>
            <a:ahLst/>
            <a:rect l="l" t="t" r="r" b="b"/>
            <a:pathLst>
              <a:path w="3552" h="1200">
                <a:moveTo>
                  <a:pt x="0" y="1200"/>
                </a:moveTo>
                <a:cubicBezTo>
                  <a:pt x="1072" y="1084"/>
                  <a:pt x="2144" y="968"/>
                  <a:pt x="2736" y="768"/>
                </a:cubicBezTo>
                <a:cubicBezTo>
                  <a:pt x="3328" y="568"/>
                  <a:pt x="3416" y="128"/>
                  <a:pt x="3552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848720" y="3809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079840" y="358092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gap cr 5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848720" y="4343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079840" y="41144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gap cr 6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648320" y="20574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100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86200" y="167652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75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858000" y="167652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75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391520" y="259092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50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352680" y="24382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125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9" dur="indefinite" restart="never" nodeType="tmRoot">
          <p:childTnLst>
            <p:seq>
              <p:cTn id="2160" dur="indefinite" nodeType="mainSeq">
                <p:childTnLst>
                  <p:par>
                    <p:cTn id="2161" fill="hold">
                      <p:stCondLst>
                        <p:cond delay="0"/>
                      </p:stCondLst>
                      <p:childTnLst>
                        <p:par>
                          <p:cTn id="2162" fill="hold">
                            <p:stCondLst>
                              <p:cond delay="0"/>
                            </p:stCondLst>
                            <p:childTnLst>
                              <p:par>
                                <p:cTn id="21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7" fill="hold">
                            <p:stCondLst>
                              <p:cond delay="500"/>
                            </p:stCondLst>
                            <p:childTnLst>
                              <p:par>
                                <p:cTn id="21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1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7" fill="hold">
                            <p:stCondLst>
                              <p:cond delay="2500"/>
                            </p:stCondLst>
                            <p:childTnLst>
                              <p:par>
                                <p:cTn id="2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7" fill="hold">
                            <p:stCondLst>
                              <p:cond delay="3500"/>
                            </p:stCondLst>
                            <p:childTnLst>
                              <p:par>
                                <p:cTn id="21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0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1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2" fill="hold">
                            <p:stCondLst>
                              <p:cond delay="4000"/>
                            </p:stCondLst>
                            <p:childTnLst>
                              <p:par>
                                <p:cTn id="22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7" fill="hold">
                            <p:stCondLst>
                              <p:cond delay="4500"/>
                            </p:stCondLst>
                            <p:childTnLst>
                              <p:par>
                                <p:cTn id="22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2" fill="hold">
                      <p:stCondLst>
                        <p:cond delay="indefinite"/>
                      </p:stCondLst>
                      <p:childTnLst>
                        <p:par>
                          <p:cTn id="2223" fill="hold">
                            <p:stCondLst>
                              <p:cond delay="0"/>
                            </p:stCondLst>
                            <p:childTnLst>
                              <p:par>
                                <p:cTn id="2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3" fill="hold">
                      <p:stCondLst>
                        <p:cond delay="indefinite"/>
                      </p:stCondLst>
                      <p:childTnLst>
                        <p:par>
                          <p:cTn id="2234" fill="hold">
                            <p:stCondLst>
                              <p:cond delay="0"/>
                            </p:stCondLst>
                            <p:childTnLst>
                              <p:par>
                                <p:cTn id="2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2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4" fill="hold">
                      <p:stCondLst>
                        <p:cond delay="indefinite"/>
                      </p:stCondLst>
                      <p:childTnLst>
                        <p:par>
                          <p:cTn id="2245" fill="hold">
                            <p:stCondLst>
                              <p:cond delay="0"/>
                            </p:stCondLst>
                            <p:childTnLst>
                              <p:par>
                                <p:cTn id="2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2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5" fill="hold">
                      <p:stCondLst>
                        <p:cond delay="indefinite"/>
                      </p:stCondLst>
                      <p:childTnLst>
                        <p:par>
                          <p:cTn id="2256" fill="hold">
                            <p:stCondLst>
                              <p:cond delay="0"/>
                            </p:stCondLst>
                            <p:childTnLst>
                              <p:par>
                                <p:cTn id="2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2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6" fill="hold">
                      <p:stCondLst>
                        <p:cond delay="indefinite"/>
                      </p:stCondLst>
                      <p:childTnLst>
                        <p:par>
                          <p:cTn id="2267" fill="hold">
                            <p:stCondLst>
                              <p:cond delay="0"/>
                            </p:stCondLst>
                            <p:childTnLst>
                              <p:par>
                                <p:cTn id="2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2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7" fill="hold">
                      <p:stCondLst>
                        <p:cond delay="indefinite"/>
                      </p:stCondLst>
                      <p:childTnLst>
                        <p:par>
                          <p:cTn id="2278" fill="hold">
                            <p:stCondLst>
                              <p:cond delay="0"/>
                            </p:stCondLst>
                            <p:childTnLst>
                              <p:par>
                                <p:cTn id="2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2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056240" y="37980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044720"/>
            <a:ext cx="8534160" cy="47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tensidad del flujo de transport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constan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expresar la cantidad de medios de transporte necesarios como función de la intensidad de flu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ámetr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: máxima cantidad de lo transportado que es posible cargar en cada vehículo (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apacida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restricciones que establecen 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vehículo, vía) (peso, volum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: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amaño de embarqu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525744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tidad realmente cargada en un vehículo en un ciclo dado (k&lt;=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2000"/>
          </a:bodyPr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costo de los arcos de la red, que consideran tramos de calles e interse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s separables ==&gt;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f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racterísticas deseables de las funciones flujo-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realista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no decrec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ontinuas y diferenc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 podría ser constante para valores pequeños de flu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sto percibido por el usuario del arc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cada usuario que es asignado al arco a percibe ese 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8" dur="indefinite" restart="never" nodeType="tmRoot">
          <p:childTnLst>
            <p:seq>
              <p:cTn id="2289" dur="indefinite" nodeType="mainSeq">
                <p:childTnLst>
                  <p:par>
                    <p:cTn id="2290" fill="hold">
                      <p:stCondLst>
                        <p:cond delay="indefinite"/>
                      </p:stCondLst>
                      <p:childTnLst>
                        <p:par>
                          <p:cTn id="2291" fill="hold">
                            <p:stCondLst>
                              <p:cond delay="0"/>
                            </p:stCondLst>
                            <p:childTnLst>
                              <p:par>
                                <p:cTn id="2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4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5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6" fill="hold">
                      <p:stCondLst>
                        <p:cond delay="indefinite"/>
                      </p:stCondLst>
                      <p:childTnLst>
                        <p:par>
                          <p:cTn id="2297" fill="hold">
                            <p:stCondLst>
                              <p:cond delay="0"/>
                            </p:stCondLst>
                            <p:childTnLst>
                              <p:par>
                                <p:cTn id="2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0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1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2" fill="hold">
                      <p:stCondLst>
                        <p:cond delay="indefinite"/>
                      </p:stCondLst>
                      <p:childTnLst>
                        <p:par>
                          <p:cTn id="2303" fill="hold">
                            <p:stCondLst>
                              <p:cond delay="0"/>
                            </p:stCondLst>
                            <p:childTnLst>
                              <p:par>
                                <p:cTn id="2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6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7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8" fill="hold">
                      <p:stCondLst>
                        <p:cond delay="indefinite"/>
                      </p:stCondLst>
                      <p:childTnLst>
                        <p:par>
                          <p:cTn id="2309" fill="hold">
                            <p:stCondLst>
                              <p:cond delay="0"/>
                            </p:stCondLst>
                            <p:childTnLst>
                              <p:par>
                                <p:cTn id="2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2" dur="5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3" dur="5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4" fill="hold">
                      <p:stCondLst>
                        <p:cond delay="indefinite"/>
                      </p:stCondLst>
                      <p:childTnLst>
                        <p:par>
                          <p:cTn id="2315" fill="hold">
                            <p:stCondLst>
                              <p:cond delay="0"/>
                            </p:stCondLst>
                            <p:childTnLst>
                              <p:par>
                                <p:cTn id="2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8" dur="5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9" dur="5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0" fill="hold">
                      <p:stCondLst>
                        <p:cond delay="indefinite"/>
                      </p:stCondLst>
                      <p:childTnLst>
                        <p:par>
                          <p:cTn id="2321" fill="hold">
                            <p:stCondLst>
                              <p:cond delay="0"/>
                            </p:stCondLst>
                            <p:childTnLst>
                              <p:par>
                                <p:cTn id="2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4" dur="5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5" dur="5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6" fill="hold">
                      <p:stCondLst>
                        <p:cond delay="indefinite"/>
                      </p:stCondLst>
                      <p:childTnLst>
                        <p:par>
                          <p:cTn id="2327" fill="hold">
                            <p:stCondLst>
                              <p:cond delay="0"/>
                            </p:stCondLst>
                            <p:childTnLst>
                              <p:par>
                                <p:cTn id="2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0" dur="5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1" dur="5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2" fill="hold">
                      <p:stCondLst>
                        <p:cond delay="indefinite"/>
                      </p:stCondLst>
                      <p:childTnLst>
                        <p:par>
                          <p:cTn id="2333" fill="hold">
                            <p:stCondLst>
                              <p:cond delay="0"/>
                            </p:stCondLst>
                            <p:childTnLst>
                              <p:par>
                                <p:cTn id="2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6" dur="500" fill="hold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7" dur="500" fill="hold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8" fill="hold">
                      <p:stCondLst>
                        <p:cond delay="indefinite"/>
                      </p:stCondLst>
                      <p:childTnLst>
                        <p:par>
                          <p:cTn id="2339" fill="hold">
                            <p:stCondLst>
                              <p:cond delay="0"/>
                            </p:stCondLst>
                            <p:childTnLst>
                              <p:par>
                                <p:cTn id="2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2" dur="500" fill="hold"/>
                                        <p:tgtEl>
                                          <p:spTgt spid="3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3" dur="500" fill="hold"/>
                                        <p:tgtEl>
                                          <p:spTgt spid="3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6000"/>
          </a:bodyPr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sto percibido por el usuario del arco a --&gt; cada usuario que es asignado al arco a percibe ese 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 total de operación del arco a:    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·f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uc/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precio óptimo desde el punto de vista soci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8800" y="3199320"/>
            <a:ext cx="263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&gt;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osto margi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819520" y="319824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cuánto sube el costo total de operación de un arco al ingresar un usuario adicional a ese ar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17600" y="4905720"/>
            <a:ext cx="27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precio percibi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282480" y="4846680"/>
            <a:ext cx="488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109600" y="5464080"/>
            <a:ext cx="250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¿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&gt;&lt;= c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4" dur="indefinite" restart="never" nodeType="tmRoot">
          <p:childTnLst>
            <p:seq>
              <p:cTn id="2345" dur="indefinite" nodeType="mainSeq">
                <p:childTnLst>
                  <p:par>
                    <p:cTn id="2346" fill="hold">
                      <p:stCondLst>
                        <p:cond delay="indefinite"/>
                      </p:stCondLst>
                      <p:childTnLst>
                        <p:par>
                          <p:cTn id="2347" fill="hold">
                            <p:stCondLst>
                              <p:cond delay="0"/>
                            </p:stCondLst>
                            <p:childTnLst>
                              <p:par>
                                <p:cTn id="2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0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1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2" fill="hold">
                      <p:stCondLst>
                        <p:cond delay="indefinite"/>
                      </p:stCondLst>
                      <p:childTnLst>
                        <p:par>
                          <p:cTn id="2353" fill="hold">
                            <p:stCondLst>
                              <p:cond delay="0"/>
                            </p:stCondLst>
                            <p:childTnLst>
                              <p:par>
                                <p:cTn id="2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6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7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8" fill="hold">
                      <p:stCondLst>
                        <p:cond delay="indefinite"/>
                      </p:stCondLst>
                      <p:childTnLst>
                        <p:par>
                          <p:cTn id="2359" fill="hold">
                            <p:stCondLst>
                              <p:cond delay="0"/>
                            </p:stCondLst>
                            <p:childTnLst>
                              <p:par>
                                <p:cTn id="2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2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3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4" fill="hold">
                      <p:stCondLst>
                        <p:cond delay="indefinite"/>
                      </p:stCondLst>
                      <p:childTnLst>
                        <p:par>
                          <p:cTn id="2365" fill="hold">
                            <p:stCondLst>
                              <p:cond delay="0"/>
                            </p:stCondLst>
                            <p:childTnLst>
                              <p:par>
                                <p:cTn id="2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0" fill="hold">
                      <p:stCondLst>
                        <p:cond delay="indefinite"/>
                      </p:stCondLst>
                      <p:childTnLst>
                        <p:par>
                          <p:cTn id="2371" fill="hold">
                            <p:stCondLst>
                              <p:cond delay="0"/>
                            </p:stCondLst>
                            <p:childTnLst>
                              <p:par>
                                <p:cTn id="2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6" fill="hold">
                      <p:stCondLst>
                        <p:cond delay="indefinite"/>
                      </p:stCondLst>
                      <p:childTnLst>
                        <p:par>
                          <p:cTn id="2377" fill="hold">
                            <p:stCondLst>
                              <p:cond delay="0"/>
                            </p:stCondLst>
                            <p:childTnLst>
                              <p:par>
                                <p:cTn id="2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2" fill="hold">
                      <p:stCondLst>
                        <p:cond delay="indefinite"/>
                      </p:stCondLst>
                      <p:childTnLst>
                        <p:par>
                          <p:cTn id="2383" fill="hold">
                            <p:stCondLst>
                              <p:cond delay="0"/>
                            </p:stCondLst>
                            <p:childTnLst>
                              <p:par>
                                <p:cTn id="2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8" fill="hold">
                      <p:stCondLst>
                        <p:cond delay="indefinite"/>
                      </p:stCondLst>
                      <p:childTnLst>
                        <p:par>
                          <p:cTn id="2389" fill="hold">
                            <p:stCondLst>
                              <p:cond delay="0"/>
                            </p:stCondLst>
                            <p:childTnLst>
                              <p:par>
                                <p:cTn id="2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1371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660680" y="1265040"/>
            <a:ext cx="988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·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971800" y="1493640"/>
            <a:ext cx="1905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·1 +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583880" y="126504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670640" y="179712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452200" y="1493640"/>
            <a:ext cx="698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· 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857600" y="184464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600200" y="182880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572000" y="182880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rot="16126800">
            <a:off x="3695400" y="1866600"/>
            <a:ext cx="75960" cy="609480"/>
          </a:xfrm>
          <a:custGeom>
            <a:avLst/>
            <a:gdLst>
              <a:gd name="textAreaLeft" fmla="*/ 48600 w 75960"/>
              <a:gd name="textAreaRight" fmla="*/ 76320 w 7596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971800" y="2208600"/>
            <a:ext cx="139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sto percib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801320" y="989640"/>
            <a:ext cx="51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≥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rot="16126800">
            <a:off x="5332320" y="1744200"/>
            <a:ext cx="75960" cy="1295280"/>
          </a:xfrm>
          <a:custGeom>
            <a:avLst/>
            <a:gdLst>
              <a:gd name="textAreaLeft" fmla="*/ 48600 w 75960"/>
              <a:gd name="textAreaRight" fmla="*/ 76320 w 7596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419720" y="2432880"/>
            <a:ext cx="47242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tribución a la demora del resto debido a la incorporación de un vehículo adi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926280" y="385596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013040" y="438768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914400" y="441972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676520" y="4084560"/>
            <a:ext cx="3429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==&gt; 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=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020400" y="4795560"/>
            <a:ext cx="413388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ólo en la parte plana de la cur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no existe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4" dur="indefinite" restart="never" nodeType="tmRoot">
          <p:childTnLst>
            <p:seq>
              <p:cTn id="2395" dur="indefinite" nodeType="mainSeq">
                <p:childTnLst>
                  <p:par>
                    <p:cTn id="2396" fill="hold">
                      <p:stCondLst>
                        <p:cond delay="indefinite"/>
                      </p:stCondLst>
                      <p:childTnLst>
                        <p:par>
                          <p:cTn id="2397" fill="hold">
                            <p:stCondLst>
                              <p:cond delay="0"/>
                            </p:stCondLst>
                            <p:childTnLst>
                              <p:par>
                                <p:cTn id="2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0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1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2" fill="hold">
                      <p:stCondLst>
                        <p:cond delay="indefinite"/>
                      </p:stCondLst>
                      <p:childTnLst>
                        <p:par>
                          <p:cTn id="2403" fill="hold">
                            <p:stCondLst>
                              <p:cond delay="0"/>
                            </p:stCondLst>
                            <p:childTnLst>
                              <p:par>
                                <p:cTn id="2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8" fill="hold">
                      <p:stCondLst>
                        <p:cond delay="indefinite"/>
                      </p:stCondLst>
                      <p:childTnLst>
                        <p:par>
                          <p:cTn id="2409" fill="hold">
                            <p:stCondLst>
                              <p:cond delay="0"/>
                            </p:stCondLst>
                            <p:childTnLst>
                              <p:par>
                                <p:cTn id="2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4" fill="hold">
                      <p:stCondLst>
                        <p:cond delay="indefinite"/>
                      </p:stCondLst>
                      <p:childTnLst>
                        <p:par>
                          <p:cTn id="2415" fill="hold">
                            <p:stCondLst>
                              <p:cond delay="0"/>
                            </p:stCondLst>
                            <p:childTnLst>
                              <p:par>
                                <p:cTn id="2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0" fill="hold">
                      <p:stCondLst>
                        <p:cond delay="indefinite"/>
                      </p:stCondLst>
                      <p:childTnLst>
                        <p:par>
                          <p:cTn id="2421" fill="hold">
                            <p:stCondLst>
                              <p:cond delay="0"/>
                            </p:stCondLst>
                            <p:childTnLst>
                              <p:par>
                                <p:cTn id="2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6" fill="hold">
                      <p:stCondLst>
                        <p:cond delay="indefinite"/>
                      </p:stCondLst>
                      <p:childTnLst>
                        <p:par>
                          <p:cTn id="2427" fill="hold">
                            <p:stCondLst>
                              <p:cond delay="0"/>
                            </p:stCondLst>
                            <p:childTnLst>
                              <p:par>
                                <p:cTn id="2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2" fill="hold">
                      <p:stCondLst>
                        <p:cond delay="indefinite"/>
                      </p:stCondLst>
                      <p:childTnLst>
                        <p:par>
                          <p:cTn id="2433" fill="hold">
                            <p:stCondLst>
                              <p:cond delay="0"/>
                            </p:stCondLst>
                            <p:childTnLst>
                              <p:par>
                                <p:cTn id="2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8" fill="hold">
                      <p:stCondLst>
                        <p:cond delay="indefinite"/>
                      </p:stCondLst>
                      <p:childTnLst>
                        <p:par>
                          <p:cTn id="2439" fill="hold">
                            <p:stCondLst>
                              <p:cond delay="0"/>
                            </p:stCondLst>
                            <p:childTnLst>
                              <p:par>
                                <p:cTn id="2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4" fill="hold">
                      <p:stCondLst>
                        <p:cond delay="indefinite"/>
                      </p:stCondLst>
                      <p:childTnLst>
                        <p:par>
                          <p:cTn id="2445" fill="hold">
                            <p:stCondLst>
                              <p:cond delay="0"/>
                            </p:stCondLst>
                            <p:childTnLst>
                              <p:par>
                                <p:cTn id="2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0" fill="hold">
                      <p:stCondLst>
                        <p:cond delay="indefinite"/>
                      </p:stCondLst>
                      <p:childTnLst>
                        <p:par>
                          <p:cTn id="2451" fill="hold">
                            <p:stCondLst>
                              <p:cond delay="0"/>
                            </p:stCondLst>
                            <p:childTnLst>
                              <p:par>
                                <p:cTn id="2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6" fill="hold">
                      <p:stCondLst>
                        <p:cond delay="indefinite"/>
                      </p:stCondLst>
                      <p:childTnLst>
                        <p:par>
                          <p:cTn id="2457" fill="hold">
                            <p:stCondLst>
                              <p:cond delay="0"/>
                            </p:stCondLst>
                            <p:childTnLst>
                              <p:par>
                                <p:cTn id="2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2" fill="hold">
                      <p:stCondLst>
                        <p:cond delay="indefinite"/>
                      </p:stCondLst>
                      <p:childTnLst>
                        <p:par>
                          <p:cTn id="2463" fill="hold">
                            <p:stCondLst>
                              <p:cond delay="0"/>
                            </p:stCondLst>
                            <p:childTnLst>
                              <p:par>
                                <p:cTn id="2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8" fill="hold">
                      <p:stCondLst>
                        <p:cond delay="indefinite"/>
                      </p:stCondLst>
                      <p:childTnLst>
                        <p:par>
                          <p:cTn id="2469" fill="hold">
                            <p:stCondLst>
                              <p:cond delay="0"/>
                            </p:stCondLst>
                            <p:childTnLst>
                              <p:par>
                                <p:cTn id="2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4" fill="hold">
                      <p:stCondLst>
                        <p:cond delay="indefinite"/>
                      </p:stCondLst>
                      <p:childTnLst>
                        <p:par>
                          <p:cTn id="2475" fill="hold">
                            <p:stCondLst>
                              <p:cond delay="0"/>
                            </p:stCondLst>
                            <p:childTnLst>
                              <p:par>
                                <p:cTn id="2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8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9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0" fill="hold">
                      <p:stCondLst>
                        <p:cond delay="indefinite"/>
                      </p:stCondLst>
                      <p:childTnLst>
                        <p:par>
                          <p:cTn id="2481" fill="hold">
                            <p:stCondLst>
                              <p:cond delay="0"/>
                            </p:stCondLst>
                            <p:childTnLst>
                              <p:par>
                                <p:cTn id="2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4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5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6" fill="hold">
                      <p:stCondLst>
                        <p:cond delay="indefinite"/>
                      </p:stCondLst>
                      <p:childTnLst>
                        <p:par>
                          <p:cTn id="2487" fill="hold">
                            <p:stCondLst>
                              <p:cond delay="0"/>
                            </p:stCondLst>
                            <p:childTnLst>
                              <p:par>
                                <p:cTn id="2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2" fill="hold">
                      <p:stCondLst>
                        <p:cond delay="indefinite"/>
                      </p:stCondLst>
                      <p:childTnLst>
                        <p:par>
                          <p:cTn id="2493" fill="hold">
                            <p:stCondLst>
                              <p:cond delay="0"/>
                            </p:stCondLst>
                            <p:childTnLst>
                              <p:par>
                                <p:cTn id="2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8" fill="hold">
                      <p:stCondLst>
                        <p:cond delay="indefinite"/>
                      </p:stCondLst>
                      <p:childTnLst>
                        <p:par>
                          <p:cTn id="2499" fill="hold">
                            <p:stCondLst>
                              <p:cond delay="0"/>
                            </p:stCondLst>
                            <p:childTnLst>
                              <p:par>
                                <p:cTn id="2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4" fill="hold">
                      <p:stCondLst>
                        <p:cond delay="indefinite"/>
                      </p:stCondLst>
                      <p:childTnLst>
                        <p:par>
                          <p:cTn id="2505" fill="hold">
                            <p:stCondLst>
                              <p:cond delay="0"/>
                            </p:stCondLst>
                            <p:childTnLst>
                              <p:par>
                                <p:cTn id="2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0" fill="hold">
                      <p:stCondLst>
                        <p:cond delay="indefinite"/>
                      </p:stCondLst>
                      <p:childTnLst>
                        <p:par>
                          <p:cTn id="2511" fill="hold">
                            <p:stCondLst>
                              <p:cond delay="0"/>
                            </p:stCondLst>
                            <p:childTnLst>
                              <p:par>
                                <p:cTn id="2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4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5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6" fill="hold">
                      <p:stCondLst>
                        <p:cond delay="indefinite"/>
                      </p:stCondLst>
                      <p:childTnLst>
                        <p:par>
                          <p:cTn id="2517" fill="hold">
                            <p:stCondLst>
                              <p:cond delay="0"/>
                            </p:stCondLst>
                            <p:childTnLst>
                              <p:par>
                                <p:cTn id="2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0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1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 flipV="1">
            <a:off x="205740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057400" y="480060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057400" y="438156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352680" y="438156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812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74320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035160" y="3962520"/>
            <a:ext cx="129564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514600" y="3962520"/>
            <a:ext cx="53352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057400" y="4952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025880" y="355608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505320" y="3556080"/>
            <a:ext cx="53316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343400" y="396252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321160" y="355608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886200" y="4381560"/>
            <a:ext cx="6094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304812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03848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73392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048120" y="4952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403848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02920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724280" y="495288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038480" y="4952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502920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01992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1500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29200" y="4952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601992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029200" y="438156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508640" y="4381560"/>
            <a:ext cx="53316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324480" y="438156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876920" y="3962520"/>
            <a:ext cx="6094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019920" y="396252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499000" y="3962520"/>
            <a:ext cx="53352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315200" y="396252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867280" y="3556080"/>
            <a:ext cx="6098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010280" y="3556080"/>
            <a:ext cx="129564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489720" y="3556080"/>
            <a:ext cx="53352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8305920" y="3556080"/>
            <a:ext cx="53316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>
            <a:hlinkClick r:id="" action="ppaction://hlinkshowjump?jump=previousslide"/>
          </p:cNvPr>
          <p:cNvSpPr/>
          <p:nvPr/>
        </p:nvSpPr>
        <p:spPr>
          <a:xfrm>
            <a:off x="685800" y="9144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2" dur="indefinite" restart="never" nodeType="tmRoot">
          <p:childTnLst>
            <p:seq>
              <p:cTn id="2523" dur="indefinite" nodeType="mainSeq">
                <p:childTnLst>
                  <p:par>
                    <p:cTn id="2524" fill="hold">
                      <p:stCondLst>
                        <p:cond delay="indefinite"/>
                      </p:stCondLst>
                      <p:childTnLst>
                        <p:par>
                          <p:cTn id="2525" fill="hold">
                            <p:stCondLst>
                              <p:cond delay="0"/>
                            </p:stCondLst>
                            <p:childTnLst>
                              <p:par>
                                <p:cTn id="2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0" fill="hold">
                      <p:stCondLst>
                        <p:cond delay="indefinite"/>
                      </p:stCondLst>
                      <p:childTnLst>
                        <p:par>
                          <p:cTn id="2531" fill="hold">
                            <p:stCondLst>
                              <p:cond delay="0"/>
                            </p:stCondLst>
                            <p:childTnLst>
                              <p:par>
                                <p:cTn id="2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6" fill="hold">
                      <p:stCondLst>
                        <p:cond delay="indefinite"/>
                      </p:stCondLst>
                      <p:childTnLst>
                        <p:par>
                          <p:cTn id="2537" fill="hold">
                            <p:stCondLst>
                              <p:cond delay="0"/>
                            </p:stCondLst>
                            <p:childTnLst>
                              <p:par>
                                <p:cTn id="2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1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2" fill="hold">
                      <p:stCondLst>
                        <p:cond delay="indefinite"/>
                      </p:stCondLst>
                      <p:childTnLst>
                        <p:par>
                          <p:cTn id="2543" fill="hold">
                            <p:stCondLst>
                              <p:cond delay="0"/>
                            </p:stCondLst>
                            <p:childTnLst>
                              <p:par>
                                <p:cTn id="2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8" fill="hold">
                      <p:stCondLst>
                        <p:cond delay="indefinite"/>
                      </p:stCondLst>
                      <p:childTnLst>
                        <p:par>
                          <p:cTn id="2549" fill="hold">
                            <p:stCondLst>
                              <p:cond delay="0"/>
                            </p:stCondLst>
                            <p:childTnLst>
                              <p:par>
                                <p:cTn id="2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4" fill="hold">
                      <p:stCondLst>
                        <p:cond delay="indefinite"/>
                      </p:stCondLst>
                      <p:childTnLst>
                        <p:par>
                          <p:cTn id="2555" fill="hold">
                            <p:stCondLst>
                              <p:cond delay="0"/>
                            </p:stCondLst>
                            <p:childTnLst>
                              <p:par>
                                <p:cTn id="2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0" fill="hold">
                      <p:stCondLst>
                        <p:cond delay="indefinite"/>
                      </p:stCondLst>
                      <p:childTnLst>
                        <p:par>
                          <p:cTn id="2561" fill="hold">
                            <p:stCondLst>
                              <p:cond delay="0"/>
                            </p:stCondLst>
                            <p:childTnLst>
                              <p:par>
                                <p:cTn id="2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6" fill="hold">
                      <p:stCondLst>
                        <p:cond delay="indefinite"/>
                      </p:stCondLst>
                      <p:childTnLst>
                        <p:par>
                          <p:cTn id="2567" fill="hold">
                            <p:stCondLst>
                              <p:cond delay="0"/>
                            </p:stCondLst>
                            <p:childTnLst>
                              <p:par>
                                <p:cTn id="2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2" fill="hold">
                      <p:stCondLst>
                        <p:cond delay="indefinite"/>
                      </p:stCondLst>
                      <p:childTnLst>
                        <p:par>
                          <p:cTn id="2573" fill="hold">
                            <p:stCondLst>
                              <p:cond delay="0"/>
                            </p:stCondLst>
                            <p:childTnLst>
                              <p:par>
                                <p:cTn id="2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8" fill="hold">
                      <p:stCondLst>
                        <p:cond delay="indefinite"/>
                      </p:stCondLst>
                      <p:childTnLst>
                        <p:par>
                          <p:cTn id="2579" fill="hold">
                            <p:stCondLst>
                              <p:cond delay="0"/>
                            </p:stCondLst>
                            <p:childTnLst>
                              <p:par>
                                <p:cTn id="2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4" fill="hold">
                      <p:stCondLst>
                        <p:cond delay="indefinite"/>
                      </p:stCondLst>
                      <p:childTnLst>
                        <p:par>
                          <p:cTn id="2585" fill="hold">
                            <p:stCondLst>
                              <p:cond delay="0"/>
                            </p:stCondLst>
                            <p:childTnLst>
                              <p:par>
                                <p:cTn id="2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0" fill="hold">
                      <p:stCondLst>
                        <p:cond delay="indefinite"/>
                      </p:stCondLst>
                      <p:childTnLst>
                        <p:par>
                          <p:cTn id="2591" fill="hold">
                            <p:stCondLst>
                              <p:cond delay="0"/>
                            </p:stCondLst>
                            <p:childTnLst>
                              <p:par>
                                <p:cTn id="2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6" fill="hold">
                      <p:stCondLst>
                        <p:cond delay="indefinite"/>
                      </p:stCondLst>
                      <p:childTnLst>
                        <p:par>
                          <p:cTn id="2597" fill="hold">
                            <p:stCondLst>
                              <p:cond delay="0"/>
                            </p:stCondLst>
                            <p:childTnLst>
                              <p:par>
                                <p:cTn id="2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2" fill="hold">
                      <p:stCondLst>
                        <p:cond delay="indefinite"/>
                      </p:stCondLst>
                      <p:childTnLst>
                        <p:par>
                          <p:cTn id="2603" fill="hold">
                            <p:stCondLst>
                              <p:cond delay="0"/>
                            </p:stCondLst>
                            <p:childTnLst>
                              <p:par>
                                <p:cTn id="2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8" fill="hold">
                      <p:stCondLst>
                        <p:cond delay="indefinite"/>
                      </p:stCondLst>
                      <p:childTnLst>
                        <p:par>
                          <p:cTn id="2609" fill="hold">
                            <p:stCondLst>
                              <p:cond delay="0"/>
                            </p:stCondLst>
                            <p:childTnLst>
                              <p:par>
                                <p:cTn id="2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4" fill="hold">
                      <p:stCondLst>
                        <p:cond delay="indefinite"/>
                      </p:stCondLst>
                      <p:childTnLst>
                        <p:par>
                          <p:cTn id="2615" fill="hold">
                            <p:stCondLst>
                              <p:cond delay="0"/>
                            </p:stCondLst>
                            <p:childTnLst>
                              <p:par>
                                <p:cTn id="2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0" fill="hold">
                      <p:stCondLst>
                        <p:cond delay="indefinite"/>
                      </p:stCondLst>
                      <p:childTnLst>
                        <p:par>
                          <p:cTn id="2621" fill="hold">
                            <p:stCondLst>
                              <p:cond delay="0"/>
                            </p:stCondLst>
                            <p:childTnLst>
                              <p:par>
                                <p:cTn id="2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6" fill="hold">
                      <p:stCondLst>
                        <p:cond delay="indefinite"/>
                      </p:stCondLst>
                      <p:childTnLst>
                        <p:par>
                          <p:cTn id="2627" fill="hold">
                            <p:stCondLst>
                              <p:cond delay="0"/>
                            </p:stCondLst>
                            <p:childTnLst>
                              <p:par>
                                <p:cTn id="2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2" fill="hold">
                      <p:stCondLst>
                        <p:cond delay="indefinite"/>
                      </p:stCondLst>
                      <p:childTnLst>
                        <p:par>
                          <p:cTn id="2633" fill="hold">
                            <p:stCondLst>
                              <p:cond delay="0"/>
                            </p:stCondLst>
                            <p:childTnLst>
                              <p:par>
                                <p:cTn id="2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8" fill="hold">
                      <p:stCondLst>
                        <p:cond delay="indefinite"/>
                      </p:stCondLst>
                      <p:childTnLst>
                        <p:par>
                          <p:cTn id="2639" fill="hold">
                            <p:stCondLst>
                              <p:cond delay="0"/>
                            </p:stCondLst>
                            <p:childTnLst>
                              <p:par>
                                <p:cTn id="2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4" fill="hold">
                      <p:stCondLst>
                        <p:cond delay="indefinite"/>
                      </p:stCondLst>
                      <p:childTnLst>
                        <p:par>
                          <p:cTn id="2645" fill="hold">
                            <p:stCondLst>
                              <p:cond delay="0"/>
                            </p:stCondLst>
                            <p:childTnLst>
                              <p:par>
                                <p:cTn id="2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0" fill="hold">
                      <p:stCondLst>
                        <p:cond delay="indefinite"/>
                      </p:stCondLst>
                      <p:childTnLst>
                        <p:par>
                          <p:cTn id="2651" fill="hold">
                            <p:stCondLst>
                              <p:cond delay="0"/>
                            </p:stCondLst>
                            <p:childTnLst>
                              <p:par>
                                <p:cTn id="2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6" fill="hold">
                      <p:stCondLst>
                        <p:cond delay="indefinite"/>
                      </p:stCondLst>
                      <p:childTnLst>
                        <p:par>
                          <p:cTn id="2657" fill="hold">
                            <p:stCondLst>
                              <p:cond delay="0"/>
                            </p:stCondLst>
                            <p:childTnLst>
                              <p:par>
                                <p:cTn id="2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2" fill="hold">
                      <p:stCondLst>
                        <p:cond delay="indefinite"/>
                      </p:stCondLst>
                      <p:childTnLst>
                        <p:par>
                          <p:cTn id="2663" fill="hold">
                            <p:stCondLst>
                              <p:cond delay="0"/>
                            </p:stCondLst>
                            <p:childTnLst>
                              <p:par>
                                <p:cTn id="2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8" fill="hold">
                      <p:stCondLst>
                        <p:cond delay="indefinite"/>
                      </p:stCondLst>
                      <p:childTnLst>
                        <p:par>
                          <p:cTn id="2669" fill="hold">
                            <p:stCondLst>
                              <p:cond delay="0"/>
                            </p:stCondLst>
                            <p:childTnLst>
                              <p:par>
                                <p:cTn id="2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4" fill="hold">
                      <p:stCondLst>
                        <p:cond delay="indefinite"/>
                      </p:stCondLst>
                      <p:childTnLst>
                        <p:par>
                          <p:cTn id="2675" fill="hold">
                            <p:stCondLst>
                              <p:cond delay="0"/>
                            </p:stCondLst>
                            <p:childTnLst>
                              <p:par>
                                <p:cTn id="2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0" fill="hold">
                      <p:stCondLst>
                        <p:cond delay="indefinite"/>
                      </p:stCondLst>
                      <p:childTnLst>
                        <p:par>
                          <p:cTn id="2681" fill="hold">
                            <p:stCondLst>
                              <p:cond delay="0"/>
                            </p:stCondLst>
                            <p:childTnLst>
                              <p:par>
                                <p:cTn id="2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6" fill="hold">
                      <p:stCondLst>
                        <p:cond delay="indefinite"/>
                      </p:stCondLst>
                      <p:childTnLst>
                        <p:par>
                          <p:cTn id="2687" fill="hold">
                            <p:stCondLst>
                              <p:cond delay="0"/>
                            </p:stCondLst>
                            <p:childTnLst>
                              <p:par>
                                <p:cTn id="2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2" fill="hold">
                      <p:stCondLst>
                        <p:cond delay="indefinite"/>
                      </p:stCondLst>
                      <p:childTnLst>
                        <p:par>
                          <p:cTn id="2693" fill="hold">
                            <p:stCondLst>
                              <p:cond delay="0"/>
                            </p:stCondLst>
                            <p:childTnLst>
                              <p:par>
                                <p:cTn id="2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8" fill="hold">
                      <p:stCondLst>
                        <p:cond delay="indefinite"/>
                      </p:stCondLst>
                      <p:childTnLst>
                        <p:par>
                          <p:cTn id="2699" fill="hold">
                            <p:stCondLst>
                              <p:cond delay="0"/>
                            </p:stCondLst>
                            <p:childTnLst>
                              <p:par>
                                <p:cTn id="2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4" fill="hold">
                      <p:stCondLst>
                        <p:cond delay="indefinite"/>
                      </p:stCondLst>
                      <p:childTnLst>
                        <p:par>
                          <p:cTn id="2705" fill="hold">
                            <p:stCondLst>
                              <p:cond delay="0"/>
                            </p:stCondLst>
                            <p:childTnLst>
                              <p:par>
                                <p:cTn id="2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0" fill="hold">
                      <p:stCondLst>
                        <p:cond delay="indefinite"/>
                      </p:stCondLst>
                      <p:childTnLst>
                        <p:par>
                          <p:cTn id="2711" fill="hold">
                            <p:stCondLst>
                              <p:cond delay="0"/>
                            </p:stCondLst>
                            <p:childTnLst>
                              <p:par>
                                <p:cTn id="2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6" fill="hold">
                      <p:stCondLst>
                        <p:cond delay="indefinite"/>
                      </p:stCondLst>
                      <p:childTnLst>
                        <p:par>
                          <p:cTn id="2717" fill="hold">
                            <p:stCondLst>
                              <p:cond delay="0"/>
                            </p:stCondLst>
                            <p:childTnLst>
                              <p:par>
                                <p:cTn id="2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2" fill="hold">
                      <p:stCondLst>
                        <p:cond delay="indefinite"/>
                      </p:stCondLst>
                      <p:childTnLst>
                        <p:par>
                          <p:cTn id="2723" fill="hold">
                            <p:stCondLst>
                              <p:cond delay="0"/>
                            </p:stCondLst>
                            <p:childTnLst>
                              <p:par>
                                <p:cTn id="2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8" fill="hold">
                      <p:stCondLst>
                        <p:cond delay="indefinite"/>
                      </p:stCondLst>
                      <p:childTnLst>
                        <p:par>
                          <p:cTn id="2729" fill="hold">
                            <p:stCondLst>
                              <p:cond delay="0"/>
                            </p:stCondLst>
                            <p:childTnLst>
                              <p:par>
                                <p:cTn id="2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4" fill="hold">
                      <p:stCondLst>
                        <p:cond delay="indefinite"/>
                      </p:stCondLst>
                      <p:childTnLst>
                        <p:par>
                          <p:cTn id="2735" fill="hold">
                            <p:stCondLst>
                              <p:cond delay="0"/>
                            </p:stCondLst>
                            <p:childTnLst>
                              <p:par>
                                <p:cTn id="2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57920" y="729000"/>
            <a:ext cx="469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apacidad de Carga y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321560"/>
            <a:ext cx="86104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uesto: existen instalaciones de carga y descarga en el origen y el destino respectiv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úmero de sitios de atenció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cada sitio atiende a un solo vehícul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pacidad de carg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cantidad de lo transportado que es posible cargar en el vehículo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pacidad de descarg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cantidad de lo transportado que es posible descargar del vehículo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tir: pasajeros, carga en contenedores, graneles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30480" y="837000"/>
            <a:ext cx="335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Frecuencia de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1221120"/>
            <a:ext cx="861048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: número de vehículos que pasan por un punto de la trayectoria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f=interva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t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(k)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iempo de viaje 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úmero de vehículo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tamaño de flo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porción de vehículos en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F: unidad fís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T: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80880" y="214920"/>
            <a:ext cx="8610840" cy="26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k): tiempo de viaje origen-destino (k&lt;=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0): tiempo de viaje destino-origen (k=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un ciclo; i.e. Suma de los tiempos de carga y descarga y de los tiempos de viaje para un vehículo d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Obtención de la función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609480" y="297180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1143000" y="3016440"/>
            <a:ext cx="262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iempo de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4800600" y="304812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5334120" y="32756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iempo de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85800" y="4191120"/>
                <a:ext cx="426708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304920" y="54853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ecuencia necesari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4114800" y="5334120"/>
                <a:ext cx="114300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6018480" y="571392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jempl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80880" y="845280"/>
            <a:ext cx="86108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número de vehículos en servicio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B debe ser suficiente para ofrecer esa frecu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Frecuencia ofreci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3886200" y="1523880"/>
                <a:ext cx="129384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B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685800" y="2286000"/>
                <a:ext cx="2678040" cy="12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981080" y="3505320"/>
                <a:ext cx="4300560" cy="15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533520" y="555984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Función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208520" y="91332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443600"/>
            <a:ext cx="8591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rivaciones a partir de la función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1981080" y="2057400"/>
                <a:ext cx="4300560" cy="15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304920" y="4104000"/>
            <a:ext cx="85341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ustitución entre número de vehículos y capacidad de carg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pacidad media de carga/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5791320" y="5029200"/>
                <a:ext cx="289548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3T02:00:03Z</dcterms:created>
  <dc:creator>Marcela Munizaga</dc:creator>
  <dc:description/>
  <dc:language>en-US</dc:language>
  <cp:lastModifiedBy>Marcela Munizaga</cp:lastModifiedBy>
  <dcterms:modified xsi:type="dcterms:W3CDTF">2008-10-13T14:11:37Z</dcterms:modified>
  <cp:revision>53</cp:revision>
  <dc:subject/>
  <dc:title>Sin título de diapositiva</dc:title>
</cp:coreProperties>
</file>