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65C-4629-4E02-B94B-2FAA6C63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12A-9F4F-45D1-B18A-1912084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A10-2CA5-4E17-82A6-4A3998E3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73E-9537-4798-800E-EC1B2663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847-89CA-4B41-A084-D7CAE725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4F1-B0F2-441C-936F-F8DDE9C7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026-19CF-4A21-9421-1990CDCC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3B7-4FF4-430D-ABA2-0B1046D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58A-F930-405D-96FC-EA726F2A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8D3-3960-44EE-9CAA-3AE551BB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AA0-3A6C-4629-8B5E-C65978B1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2BD-BFBD-47B7-BF57-AA57BDD9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47FB-F47C-45E3-B3C3-9AF08B293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9-07T16:00:12Z</dcterms:modified>
  <cp:revision>60</cp:revision>
  <dc:subject/>
  <dc:title>Sin título de diapositiva</dc:title>
</cp:coreProperties>
</file>