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BF06-5D39-48DA-A827-27DF6594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9058-58DD-4A99-9BB0-C600E244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A499-24B1-4919-893F-BD2BA10A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B245-8F2C-429E-B255-80AC35C5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80E0-26EB-4F8B-9EB4-C858F7A6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04F-73E2-44AA-AE35-1E134093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4F32-6164-4134-928F-0781ED51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7977-954D-46AC-8959-3F78A6A4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5ADE-1E67-4ADA-8D07-B60E66BF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E5A3-94F2-4046-942A-85FC0F50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6503-33FD-40DB-8BA2-F9E8ADB89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4E4C-B1D2-4F76-A5F8-B56FE7EE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C6FD0-E55A-47DF-83E3-09C7ADAE8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1200"/>
            <a:ext cx="7560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odelos de Oferta.                 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stemas cíclicos: simple, con carga de retorno, general; los casos  t(k). Teoría de la circulación: el problema t(q), diagrama espacio-tiempo. Variables y relaciones: flujo, velocidad, concentración; capacidad de medios fijos. Función de transporte con demanda endógena: reglas de operación y nivel de servicio; capacidad y fluj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39621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roductividad marginal de la capacidad de carga/ descar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09480" y="914400"/>
                <a:ext cx="44290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rPr>
                        <m:lit/>
                        <m:nor/>
                      </m:rPr>
                      <m:t xml:space="preserve">Bk</m:t>
                    </m:r>
                    <m:r>
                      <m:t xml:space="preserve">=</m:t>
                    </m:r>
                    <m:r>
                      <m:t xml:space="preserve">λ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1960" y="2333520"/>
                <a:ext cx="413676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ηk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η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 flipV="1">
            <a:off x="5867280" y="106632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3200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1143000"/>
            <a:ext cx="2133720" cy="1600200"/>
          </a:xfrm>
          <a:custGeom>
            <a:avLst/>
            <a:gdLst/>
            <a:ahLst/>
            <a:rect l="l" t="t" r="r" b="b"/>
            <a:pathLst>
              <a:path w="1536" h="976">
                <a:moveTo>
                  <a:pt x="0" y="0"/>
                </a:moveTo>
                <a:cubicBezTo>
                  <a:pt x="64" y="328"/>
                  <a:pt x="128" y="656"/>
                  <a:pt x="384" y="816"/>
                </a:cubicBezTo>
                <a:cubicBezTo>
                  <a:pt x="640" y="976"/>
                  <a:pt x="1088" y="968"/>
                  <a:pt x="1536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8200" y="11419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73840" y="3123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609480" y="5029200"/>
                <a:ext cx="339588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257800" y="4952880"/>
                <a:ext cx="10954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¿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λ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 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50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5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991880" y="151200"/>
            <a:ext cx="524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en 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37328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752480" y="79344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86904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52480" y="29275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088040" y="29264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7524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6668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6238400">
            <a:off x="2133360" y="2622240"/>
            <a:ext cx="76320" cy="83844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7200" y="3185280"/>
            <a:ext cx="67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752480" y="17082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90040" y="1462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1708200"/>
            <a:ext cx="297180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638680" y="170820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38400">
            <a:off x="4113000" y="1566720"/>
            <a:ext cx="76320" cy="2971800"/>
          </a:xfrm>
          <a:custGeom>
            <a:avLst/>
            <a:gdLst>
              <a:gd name="textAreaLeft" fmla="*/ 48960 w 76320"/>
              <a:gd name="textAreaRight" fmla="*/ 76320 w 7632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01680" y="32313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1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 flipV="1">
            <a:off x="5638680" y="1707840"/>
            <a:ext cx="914400" cy="1219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38400">
            <a:off x="6095880" y="26226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05080" y="3185280"/>
            <a:ext cx="61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09480" y="4191120"/>
                <a:ext cx="228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895480" y="4114800"/>
                <a:ext cx="495144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547640" y="5207040"/>
                <a:ext cx="44452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⋅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272160"/>
            <a:ext cx="2233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ntidad almacenada por el sistem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31860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almacenada por un vehículo durante un cic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92400" y="8834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15084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úmero de ciclos en un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111276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324480" y="12034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ración del peri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5146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066680" y="2362320"/>
                <a:ext cx="15163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2437200" y="10058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2160720"/>
                <a:ext cx="161604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2133720"/>
                <a:ext cx="43434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4267080" y="3124080"/>
                <a:ext cx="464688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t xml:space="preserve">λ</m:t>
                        </m:r>
                        <m:r>
                          <m:t xml:space="preserve">⋅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380880" y="451008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medio de permanencia de lo transportado en 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200240" y="5334120"/>
                <a:ext cx="407340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5410080" y="5652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ivel de serv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09480" y="16002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1143000" y="16448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800600" y="16765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5334120" y="19040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Qué pasa si k/</a:t>
            </a:r>
            <a:r>
              <a:rPr b="0" lang="en-US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+ &gt; 1/f ?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1007280"/>
            <a:ext cx="80010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ti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ón que permite cargar o descargar un vehí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782640" y="2666880"/>
                <a:ext cx="44784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219320" y="28944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ervalo entre veh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3885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cesito más de un sit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42354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esto no se cumple, de todas maneras puedo necesitar más de un sitio, debido al tiempo de posicion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5408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tp: tiempo de posicionamiento: tiempo que transcurre entre la llegada de un vehículo al sitio y que este se encuentre listo para cargar/descargar.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6868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96252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49528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0552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84600" y="438156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96252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0080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6294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381560"/>
            <a:ext cx="6858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1120320"/>
            <a:ext cx="8001000" cy="45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+ sitios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capacidad de carga (UF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sitio está en operación una proporción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 d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número de sitios en servicio en un instante d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pacidad de carga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be cumplirse: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4952880" y="5334120"/>
                <a:ext cx="1811520" cy="109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sSubSup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80880" y="303840"/>
            <a:ext cx="861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stalaciones de carga y descarg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534600"/>
            <a:ext cx="8001000" cy="57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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intensidad relativa del flujo de transporte con respecto a la capacidad de carg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mínimo de sitios que en promedio deben estar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·S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&gt;=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ara descarga se analiza de igual for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Si k</a:t>
            </a:r>
            <a:r>
              <a:rPr b="0" lang="es-ES_tradnl" sz="2400" spc="-1" strike="noStrike">
                <a:solidFill>
                  <a:srgbClr val="ff3300"/>
                </a:solidFill>
                <a:latin typeface="Symbol"/>
                <a:ea typeface="Symbol"/>
              </a:rPr>
              <a:t>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+ t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p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&gt; 1/f ==&gt; se necesita más de un si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Graficar operación de un terminal de carga con tres siti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Analizar tiempo de esp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lastslide"/>
          </p:cNvPr>
          <p:cNvSpPr/>
          <p:nvPr/>
        </p:nvSpPr>
        <p:spPr>
          <a:xfrm>
            <a:off x="8077320" y="4952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19956" y="10800"/>
                </a:lnTo>
                <a:lnTo>
                  <a:pt x="5943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94120" y="53244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100160"/>
            <a:ext cx="8001000" cy="22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talaciones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962520" y="914400"/>
                <a:ext cx="335268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334120" y="2133720"/>
                <a:ext cx="265248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68920" y="30474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iempo de esp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09480" y="3580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563868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09480" y="4038120"/>
            <a:ext cx="2286000" cy="16002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8440" y="3961440"/>
            <a:ext cx="193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s a tas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1752480" y="4876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563796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3960" y="6095160"/>
            <a:ext cx="226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legada de vehícul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563796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819520" y="41144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609120" y="4869000"/>
            <a:ext cx="1143000" cy="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6440" y="4631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09120" y="4114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960" y="3961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142640" y="4876920"/>
            <a:ext cx="609480" cy="76176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16160" y="509652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209680" y="4114800"/>
            <a:ext cx="609840" cy="76212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83200" y="4334400"/>
            <a:ext cx="4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76520" y="4876920"/>
            <a:ext cx="53316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5840" y="5240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08360" y="471564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114080" y="4707720"/>
            <a:ext cx="235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·k·1/f - 1/2·k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·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5360" y="539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91840" y="5385600"/>
            <a:ext cx="16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(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59480" y="6058440"/>
            <a:ext cx="459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31480" y="6071400"/>
            <a:ext cx="13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2f - k/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05800" y="6079320"/>
            <a:ext cx="77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/k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657600" y="5943600"/>
            <a:ext cx="243828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500"/>
                            </p:stCondLst>
                            <p:childTnLst>
                              <p:par>
                                <p:cTn id="10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64340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166400"/>
            <a:ext cx="8458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 el retorno se utiliza para el transporte de un segundo produc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La frecuencia de servicio debe ser suficiente para absorbe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recuencia necesa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260960" y="3073320"/>
                <a:ext cx="1311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958000" y="3073320"/>
                <a:ext cx="1349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533520" y="4390920"/>
            <a:ext cx="8458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ormas de oper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Plena utilización de la capacidad de car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959480" y="1512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235160" y="3208320"/>
                <a:ext cx="17190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0880" y="1593720"/>
                <a:ext cx="795492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+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</m:sup>
                                </m:sSup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85920" y="685080"/>
            <a:ext cx="77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gualación de las frecuencias de ida y reto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05400" y="3271680"/>
                <a:ext cx="14112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48920" y="4647600"/>
            <a:ext cx="749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Operación con frecuencia única (flota únic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327480" y="5232240"/>
                <a:ext cx="1617480" cy="11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713320" y="1197720"/>
            <a:ext cx="335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Diseño de ofer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2261160"/>
            <a:ext cx="8512200" cy="372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Comic Sans MS"/>
              </a:rPr>
              <a:t>La tecnología de transpo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X,Y)&gt;= 0 (función de transfor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Y: Demanda (vector de flujos OD, periodo, mo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X: Insumos (vías, terminales, vehículos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combino los X para producir Y en forma óptim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 Capítu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15228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na carg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1143000" y="1981080"/>
                <a:ext cx="1309680" cy="12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743200" y="1371600"/>
                <a:ext cx="1444680" cy="228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831920" y="1975680"/>
            <a:ext cx="3612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n general distintas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ubdividir la fl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3559320"/>
            <a:ext cx="86868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1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1 a la ida y producto 2 en el 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B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vehículos que transportan producto 2 con retorno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913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empos de cic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809880" y="914400"/>
                <a:ext cx="4616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762120" y="4563000"/>
            <a:ext cx="86868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K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) &gt;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&gt;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+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- tc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=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+ t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0) &g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447920" y="2133720"/>
                <a:ext cx="69418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505320" y="3505320"/>
                <a:ext cx="48513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910160" y="379800"/>
            <a:ext cx="53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con carga de reto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959760"/>
            <a:ext cx="86104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cantidad de vehículos en cada flota depende de la magnitud relativa en las frecuencias. 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&gt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’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" y="3949560"/>
            <a:ext cx="868680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(y vice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terminar B con ambos tip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ropuesto: ¿qué elementos de este sistema son “optimizables”? 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063880"/>
                <a:ext cx="2965320" cy="11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666880" y="3130560"/>
                <a:ext cx="2152800" cy="18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'</m:t>
                                </m:r>
                              </m:sup>
                            </m:sSubSup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η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6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5800" y="685800"/>
            <a:ext cx="792468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ropu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0 ton, 25 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vehículos requieren mantenimiento durante 1 día/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v(k)=L/Vmax+0,0001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[hor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+=500[kg/min]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=800[kg/min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=100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1: materia prima, densidad 2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00[ton/hora]. Vmax=10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oducto 2: producto elaborado, densidad 0,8 [ton/m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].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340[ton/hora]. Vmax=50[km/hora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de frecuencia únic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mensionar la flota requerida con operación a plena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1533600"/>
            <a:ext cx="80010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viaje en el vehículo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amaño de embarque en el tramo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--&gt;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rendimiento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sitios de carga/descarga (+/-) en punt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: frecuencia (ún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d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isten n puntos 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en los que hay demanda de ingreso y/o salida del sistem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4" dur="indefinite" restart="never" nodeType="tmRoot">
          <p:childTnLst>
            <p:seq>
              <p:cTn id="1355" dur="indefinite" nodeType="mainSeq">
                <p:childTnLst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139480" y="9133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1645920"/>
            <a:ext cx="8001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producto ún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mandas de ingreso y egreso en el terminal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743200" y="2743200"/>
                <a:ext cx="256536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609480" y="3825360"/>
            <a:ext cx="8001000" cy="240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gt;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(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&lt;=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procesos de carga/descarga pueden ser simultáneos o secuenciales, según sean las características del vehículo/termi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6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fill="hold">
                      <p:stCondLst>
                        <p:cond delay="indefinite"/>
                      </p:stCondLst>
                      <p:childTnLst>
                        <p:par>
                          <p:cTn id="1437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139480" y="379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14148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ecu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181480" y="1143000"/>
                <a:ext cx="25653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304920" y="274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continuid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4343400" y="2743200"/>
                <a:ext cx="32115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380880" y="4167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rga/descarga simultán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4649760" y="3860640"/>
                <a:ext cx="347652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+</m:t>
                                </m:r>
                              </m:sup>
                            </m:sSubSup>
                          </m:den>
                        </m:f>
                        <m:r>
                          <m:t xml:space="preserve"> </m:t>
                        </m:r>
                        <m:f>
                          <m:num>
                            <m:sSubSup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−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77720" y="5160960"/>
                <a:ext cx="389268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8" dur="indefinite" restart="never" nodeType="tmRoot">
          <p:childTnLst>
            <p:seq>
              <p:cTn id="1449" dur="indefinite" nodeType="mainSeq">
                <p:childTnLst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fill="hold">
                      <p:stCondLst>
                        <p:cond delay="indefinite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1268640"/>
            <a:ext cx="8001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intensidad de flujo desde i hacia j (matriz origen-desti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2133720" y="1752480"/>
                <a:ext cx="204156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+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5029200" y="1752480"/>
                <a:ext cx="2077920" cy="13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5181480" y="4308480"/>
            <a:ext cx="3429000" cy="16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¿f?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áx 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 &lt;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838080" y="5181480"/>
                <a:ext cx="152424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η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228600" y="312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cuación de recurrenc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685800" y="3581280"/>
                <a:ext cx="336240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2" dur="indefinite" restart="never" nodeType="tmRoot">
          <p:childTnLst>
            <p:seq>
              <p:cTn id="1493" dur="indefinite" nodeType="mainSeq">
                <p:childTnLst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8" fill="hold">
                      <p:stCondLst>
                        <p:cond delay="indefinite"/>
                      </p:stCondLst>
                      <p:childTnLst>
                        <p:par>
                          <p:cTn id="1519" fill="hold">
                            <p:stCondLst>
                              <p:cond delay="0"/>
                            </p:stCondLst>
                            <p:childTnLst>
                              <p:par>
                                <p:cTn id="15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139480" y="45612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istema cíclico gen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39560" y="3733920"/>
                <a:ext cx="27021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α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1" name=""/>
          <p:cNvSpPr/>
          <p:nvPr/>
        </p:nvSpPr>
        <p:spPr>
          <a:xfrm>
            <a:off x="304920" y="1162440"/>
            <a:ext cx="8001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Si tenemos un conjunto de valor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que cumple con la ecuación de recurrencia, entonces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‘= 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C también cu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 sustituimos f por f’=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 ==&gt; las ecuaciones serán satisfechas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962520" y="3124080"/>
                <a:ext cx="441936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886200" y="4495680"/>
                <a:ext cx="4419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+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sSubSup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−</m:t>
                            </m:r>
                          </m:sup>
                        </m:sSubSup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861480" y="60948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método de cál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2" dur="indefinite" restart="never" nodeType="tmRoot">
          <p:childTnLst>
            <p:seq>
              <p:cTn id="1543" dur="indefinite" nodeType="mainSeq">
                <p:childTnLst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139480" y="456120"/>
            <a:ext cx="34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étodo de cálculo de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0880" y="1082880"/>
            <a:ext cx="18288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u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n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{k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=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57440" y="5284080"/>
            <a:ext cx="261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--&gt; demo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ejemp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1134000"/>
            <a:ext cx="541008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ef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 tal q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+1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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     i=1, ... n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1057680"/>
            <a:ext cx="2590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o es como usar una frecuencia unitaria, puede no satisfacer restricciones de carga 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3368880"/>
            <a:ext cx="54100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Se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ín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Q=máx {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52680" y="3696480"/>
            <a:ext cx="5181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recuencia:   f=(Q-q)/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amaño de embarque: ki=(qi-q)/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573360"/>
            <a:ext cx="5400720" cy="1368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0" dur="indefinite" restart="never" nodeType="tmRoot">
          <p:childTnLst>
            <p:seq>
              <p:cTn id="1581" dur="indefinite" nodeType="mainSeq">
                <p:childTnLst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504800"/>
            <a:ext cx="8001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 sistema cíclico 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stema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r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operación cíclica de frecuencia f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 vehículos idénticos e intercamb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25744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demanda de Transporte en un par origen-destino único, con un producto único de naturaleza continua y con demanda estacion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8348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La función de oferta de las ví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15640" y="3644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Teoría de la circu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362320" y="25146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362320" y="5715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14400" y="220968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ancia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172200" y="5791320"/>
            <a:ext cx="106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 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2514600"/>
            <a:ext cx="3581280" cy="3200400"/>
          </a:xfrm>
          <a:custGeom>
            <a:avLst/>
            <a:gdLst/>
            <a:ahLst/>
            <a:rect l="l" t="t" r="r" b="b"/>
            <a:pathLst>
              <a:path w="2256" h="2016">
                <a:moveTo>
                  <a:pt x="0" y="2016"/>
                </a:moveTo>
                <a:cubicBezTo>
                  <a:pt x="532" y="1968"/>
                  <a:pt x="1064" y="1920"/>
                  <a:pt x="1440" y="1584"/>
                </a:cubicBezTo>
                <a:cubicBezTo>
                  <a:pt x="1816" y="1248"/>
                  <a:pt x="2036" y="62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3048120"/>
            <a:ext cx="4952880" cy="2133360"/>
          </a:xfrm>
          <a:custGeom>
            <a:avLst/>
            <a:gdLst/>
            <a:ahLst/>
            <a:rect l="l" t="t" r="r" b="b"/>
            <a:pathLst>
              <a:path w="3120" h="1344">
                <a:moveTo>
                  <a:pt x="0" y="1344"/>
                </a:moveTo>
                <a:cubicBezTo>
                  <a:pt x="124" y="1024"/>
                  <a:pt x="248" y="704"/>
                  <a:pt x="768" y="480"/>
                </a:cubicBezTo>
                <a:cubicBezTo>
                  <a:pt x="1288" y="256"/>
                  <a:pt x="2204" y="128"/>
                  <a:pt x="312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67480" y="2819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553080" y="220968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h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 flipV="1">
            <a:off x="6172200" y="32767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81680" y="35053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nt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191120" y="3581280"/>
            <a:ext cx="0" cy="1905120"/>
          </a:xfrm>
          <a:prstGeom prst="line">
            <a:avLst/>
          </a:prstGeom>
          <a:ln w="2844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3809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espa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514600" y="4800600"/>
            <a:ext cx="281952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5480" y="4419720"/>
            <a:ext cx="83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Times New Roman"/>
              </a:rPr>
              <a:t>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594360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ndiente =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0"/>
                            </p:stCondLst>
                            <p:childTnLst>
                              <p:par>
                                <p:cTn id="16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8" fill="hold">
                            <p:stCondLst>
                              <p:cond delay="500"/>
                            </p:stCondLst>
                            <p:childTnLst>
                              <p:par>
                                <p:cTn id="17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res características fundamentales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lujo (f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que pasan por un cierto punto fijo por unidad de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densidad (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número medio de vehículos presentes, en un cierto instante, en una sección de cami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elocidad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puede ser medida de distintas f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espa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 media temp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3" dur="indefinite" restart="never" nodeType="tmRoot">
          <p:childTnLst>
            <p:seq>
              <p:cTn id="1754" dur="indefinite" nodeType="mainSeq">
                <p:childTnLst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8" dur="500" fill="hold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6" dur="500" fill="hold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cuación fundamental del tráf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-133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f(veh/hr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 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s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(km/hr) ·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 (veh/km)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33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3581280"/>
            <a:ext cx="2286000" cy="7621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2743200"/>
            <a:ext cx="4572000" cy="2590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1142640" y="32004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3048120"/>
            <a:ext cx="685800" cy="39888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4648320"/>
            <a:ext cx="685800" cy="398880"/>
          </a:xfrm>
          <a:prstGeom prst="rect">
            <a:avLst/>
          </a:pr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4191120"/>
            <a:ext cx="762120" cy="398880"/>
          </a:xfrm>
          <a:prstGeom prst="rect">
            <a:avLst/>
          </a:prstGeom>
          <a:noFill/>
          <a:ln w="572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648320" y="4038120"/>
            <a:ext cx="1522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1828800"/>
            <a:ext cx="380988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= 2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nsida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K= 3veh/2km = 1,5 veh/k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lujo: si me paro en un punto y observo por 1 hora veré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50 veces el vehículo ro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70 veces vehículo v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60 veces vehículo az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5334120"/>
            <a:ext cx="8610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otal = 180 veh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s=(120+140+100)/3=120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vt=(100*50+140*70+120*60)/180=122km/h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15000" y="56386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=120*1,5=180(veh/h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9" dur="indefinite" restart="never" nodeType="tmRoot">
          <p:childTnLst>
            <p:seq>
              <p:cTn id="1810" dur="indefinite" nodeType="mainSeq">
                <p:childTnLst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7" fill="hold">
                      <p:stCondLst>
                        <p:cond delay="indefinite"/>
                      </p:stCondLst>
                      <p:childTnLst>
                        <p:par>
                          <p:cTn id="1818" fill="hold">
                            <p:stCondLst>
                              <p:cond delay="0"/>
                            </p:stCondLst>
                            <p:childTnLst>
                              <p:par>
                                <p:cTn id="1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1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00"/>
                            </p:stCondLst>
                            <p:childTnLst>
                              <p:par>
                                <p:cTn id="18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500"/>
                            </p:stCondLst>
                            <p:childTnLst>
                              <p:par>
                                <p:cTn id="18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500"/>
                            </p:stCondLst>
                            <p:childTnLst>
                              <p:par>
                                <p:cTn id="18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8" fill="hold">
                            <p:stCondLst>
                              <p:cond delay="500"/>
                            </p:stCondLst>
                            <p:childTnLst>
                              <p:par>
                                <p:cTn id="18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8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1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7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3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5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6" dur="5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2" dur="5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6854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l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-6156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la velocidad decrece con la dens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típico: v(K)=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velocidad de flujo lib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: densidad máxima (jam density, parking lot syndro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1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9" dur="indefinite" restart="never" nodeType="tmRoot">
          <p:childTnLst>
            <p:seq>
              <p:cTn id="1940" dur="indefinite" nodeType="mainSeq">
                <p:childTnLst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2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0" dur="500" fill="hold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685800" y="2139840"/>
          <a:ext cx="8077320" cy="452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9840"/>
                    <a:ext cx="8077320" cy="452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 flipH="1">
            <a:off x="1295280" y="2895480"/>
            <a:ext cx="335304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52280" y="26661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1" dur="indefinite" restart="never" nodeType="tmRoot">
          <p:childTnLst>
            <p:seq>
              <p:cTn id="1972" dur="indefinite" nodeType="mainSeq">
                <p:childTnLst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7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(k)=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·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f(k)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19320" y="1447920"/>
            <a:ext cx="838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n-US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1447920"/>
            <a:ext cx="2895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-v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l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/k</a:t>
            </a:r>
            <a:r>
              <a:rPr b="0" lang="es-ES_tradnl" sz="2800" spc="-1" strike="noStrike" baseline="-25000">
                <a:solidFill>
                  <a:srgbClr val="ff3300"/>
                </a:solidFill>
                <a:latin typeface="Comic Sans MS"/>
              </a:rPr>
              <a:t>j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·k</a:t>
            </a:r>
            <a:r>
              <a:rPr b="0" lang="es-ES_tradnl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990720" y="2209680"/>
          <a:ext cx="6912000" cy="387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09680"/>
                    <a:ext cx="6912000" cy="387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 flipV="1">
            <a:off x="6781680" y="3885840"/>
            <a:ext cx="0" cy="1600200"/>
          </a:xfrm>
          <a:prstGeom prst="line">
            <a:avLst/>
          </a:prstGeom>
          <a:ln w="9360">
            <a:solidFill>
              <a:srgbClr val="ff33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172200" y="540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5" dur="indefinite" restart="never" nodeType="tmRoot">
          <p:childTnLst>
            <p:seq>
              <p:cTn id="2016" dur="indefinite" nodeType="mainSeq">
                <p:childTnLst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lación tiempo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67652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la práctica no se observa ese retorno hacia atrá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520" y="3276720"/>
            <a:ext cx="79246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Trabajar con curvas monótonamente crecien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Principales demoras están en intersec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5410080" y="304920"/>
          <a:ext cx="3505320" cy="261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04920"/>
                    <a:ext cx="35053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1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9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5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6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1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2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7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8" dur="500" fill="hold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Intersecciones semafor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-142560" y="3036240"/>
            <a:ext cx="29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Demora esperad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0920" y="502920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2057400" y="15235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6483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00920" y="40377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00920" y="22089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00920" y="26661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0920" y="35805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28800" y="464724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0    400    600    800   1000   12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057400" y="1752480"/>
            <a:ext cx="3581280" cy="2667240"/>
          </a:xfrm>
          <a:custGeom>
            <a:avLst/>
            <a:gdLst/>
            <a:ahLst/>
            <a:rect l="l" t="t" r="r" b="b"/>
            <a:pathLst>
              <a:path w="2400" h="1680">
                <a:moveTo>
                  <a:pt x="0" y="1680"/>
                </a:moveTo>
                <a:cubicBezTo>
                  <a:pt x="784" y="1652"/>
                  <a:pt x="1568" y="1624"/>
                  <a:pt x="1968" y="1344"/>
                </a:cubicBezTo>
                <a:cubicBezTo>
                  <a:pt x="2368" y="1064"/>
                  <a:pt x="2384" y="532"/>
                  <a:pt x="240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057400" y="1752480"/>
            <a:ext cx="2286000" cy="2133720"/>
          </a:xfrm>
          <a:custGeom>
            <a:avLst/>
            <a:gdLst/>
            <a:ahLst/>
            <a:rect l="l" t="t" r="r" b="b"/>
            <a:pathLst>
              <a:path w="1152" h="1344">
                <a:moveTo>
                  <a:pt x="0" y="1344"/>
                </a:moveTo>
                <a:cubicBezTo>
                  <a:pt x="360" y="1312"/>
                  <a:pt x="720" y="1280"/>
                  <a:pt x="912" y="1056"/>
                </a:cubicBezTo>
                <a:cubicBezTo>
                  <a:pt x="1104" y="832"/>
                  <a:pt x="1128" y="416"/>
                  <a:pt x="11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419720" y="1597320"/>
            <a:ext cx="83808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867280" y="1749600"/>
            <a:ext cx="83844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=9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=6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27680" y="5866920"/>
            <a:ext cx="179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Sheffi 19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4" fill="hold">
                            <p:stCondLst>
                              <p:cond delay="500"/>
                            </p:stCondLst>
                            <p:childTnLst>
                              <p:par>
                                <p:cTn id="2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ntersecciones de p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rot="16200000">
            <a:off x="-750240" y="2958480"/>
            <a:ext cx="464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iempo medio de espera en cola (seg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666880" y="60958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Tasa de llegada (veh/hr-pis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057400" y="1523880"/>
            <a:ext cx="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057400" y="563868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600920" y="434232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920" y="19040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600920" y="312336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05120" y="5637960"/>
            <a:ext cx="609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   200    300    400    500    600    700    800   9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18288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57400" y="1752480"/>
            <a:ext cx="1523880" cy="2895840"/>
          </a:xfrm>
          <a:custGeom>
            <a:avLst/>
            <a:gdLst/>
            <a:ahLst/>
            <a:rect l="l" t="t" r="r" b="b"/>
            <a:pathLst>
              <a:path w="960" h="1824">
                <a:moveTo>
                  <a:pt x="0" y="1824"/>
                </a:moveTo>
                <a:cubicBezTo>
                  <a:pt x="208" y="1760"/>
                  <a:pt x="416" y="1696"/>
                  <a:pt x="576" y="1392"/>
                </a:cubicBezTo>
                <a:cubicBezTo>
                  <a:pt x="736" y="1088"/>
                  <a:pt x="848" y="544"/>
                  <a:pt x="96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828800"/>
            <a:ext cx="1219320" cy="2743200"/>
          </a:xfrm>
          <a:custGeom>
            <a:avLst/>
            <a:gdLst/>
            <a:ahLst/>
            <a:rect l="l" t="t" r="r" b="b"/>
            <a:pathLst>
              <a:path w="768" h="1728">
                <a:moveTo>
                  <a:pt x="0" y="1728"/>
                </a:moveTo>
                <a:cubicBezTo>
                  <a:pt x="224" y="1584"/>
                  <a:pt x="448" y="1440"/>
                  <a:pt x="576" y="1152"/>
                </a:cubicBezTo>
                <a:cubicBezTo>
                  <a:pt x="704" y="864"/>
                  <a:pt x="736" y="432"/>
                  <a:pt x="76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057400" y="1752480"/>
            <a:ext cx="2743200" cy="327672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057400" y="1676520"/>
            <a:ext cx="2514600" cy="3352680"/>
          </a:xfrm>
          <a:custGeom>
            <a:avLst/>
            <a:gdLst/>
            <a:ahLst/>
            <a:rect l="l" t="t" r="r" b="b"/>
            <a:pathLst>
              <a:path w="1728" h="2064">
                <a:moveTo>
                  <a:pt x="0" y="2064"/>
                </a:moveTo>
                <a:cubicBezTo>
                  <a:pt x="456" y="1972"/>
                  <a:pt x="912" y="1880"/>
                  <a:pt x="1200" y="1536"/>
                </a:cubicBezTo>
                <a:cubicBezTo>
                  <a:pt x="1488" y="1192"/>
                  <a:pt x="1640" y="25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057400" y="1981080"/>
            <a:ext cx="4876920" cy="327672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057400" y="2895480"/>
            <a:ext cx="5410080" cy="2438640"/>
          </a:xfrm>
          <a:custGeom>
            <a:avLst/>
            <a:gdLst/>
            <a:ahLst/>
            <a:rect l="l" t="t" r="r" b="b"/>
            <a:pathLst>
              <a:path w="3552" h="1200">
                <a:moveTo>
                  <a:pt x="0" y="1200"/>
                </a:moveTo>
                <a:cubicBezTo>
                  <a:pt x="1072" y="1084"/>
                  <a:pt x="2144" y="968"/>
                  <a:pt x="2736" y="768"/>
                </a:cubicBezTo>
                <a:cubicBezTo>
                  <a:pt x="3328" y="568"/>
                  <a:pt x="3416" y="128"/>
                  <a:pt x="3552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84872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9840" y="35809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5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8487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079840" y="41144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gap cr 6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648320" y="20574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0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862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16765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7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391520" y="259092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50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352680" y="243828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=1250 veh/h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9" dur="indefinite" restart="never" nodeType="tmRoot">
          <p:childTnLst>
            <p:seq>
              <p:cTn id="2160" dur="indefinite" nodeType="mainSeq">
                <p:childTnLst>
                  <p:par>
                    <p:cTn id="2161" fill="hold">
                      <p:stCondLst>
                        <p:cond delay="0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500"/>
                            </p:stCondLst>
                            <p:childTnLst>
                              <p:par>
                                <p:cTn id="21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3500"/>
                            </p:stCondLst>
                            <p:childTnLst>
                              <p:par>
                                <p:cTn id="21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0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7" fill="hold">
                            <p:stCondLst>
                              <p:cond delay="4500"/>
                            </p:stCondLst>
                            <p:childTnLst>
                              <p:par>
                                <p:cTn id="22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fill="hold">
                      <p:stCondLst>
                        <p:cond delay="indefinite"/>
                      </p:stCondLst>
                      <p:childTnLst>
                        <p:par>
                          <p:cTn id="2223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9" fill="hold">
                            <p:stCondLst>
                              <p:cond delay="500"/>
                            </p:stCondLst>
                            <p:childTnLst>
                              <p:par>
                                <p:cTn id="2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2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2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56240" y="37980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044720"/>
            <a:ext cx="8534160" cy="47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intensidad del flujo de transpor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(const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xpresar la cantidad de medios de transporte necesarios como función de la intensidad de flu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á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máxima cantidad de lo transportado que es posible cargar en cada vehículo (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apacida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restricciones que establecen 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vehículo, vía) (peso, volum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: 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amaño de embarq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525744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tidad realmente cargada en un vehículo en un ciclo dado (k&lt;=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costo de los arcos de la red, que consideran tramos de calles e inters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 separables ==&gt;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f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erísticas deseables de las funciones flujo-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realist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no decre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ontinuas y diferenc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-41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 podría ser constante para valores pequeños de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3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fill="hold">
                      <p:stCondLst>
                        <p:cond delay="indefinite"/>
                      </p:stCondLst>
                      <p:childTnLst>
                        <p:par>
                          <p:cTn id="2333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3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3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s-ES_tradnl" sz="24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costo percibido por el usuario del arco a --&gt; cada usuario que es asignado al arco a percibe ese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 total de operación del arco a:   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·f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uc/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recio óptimo desde el punto de vista soci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8800" y="319932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&gt;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osto margi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819520" y="3198240"/>
            <a:ext cx="403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cuánto sube el costo total de operación de un arco al ingresar un usuario adicional a ese ar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7600" y="490572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precio percibi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282480" y="4846680"/>
            <a:ext cx="488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09600" y="5464080"/>
            <a:ext cx="250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¿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&gt;&lt;= c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4" dur="indefinite" restart="never" nodeType="tmRoot">
          <p:childTnLst>
            <p:seq>
              <p:cTn id="2345" dur="indefinite" nodeType="mainSeq">
                <p:childTnLst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fill="hold">
                      <p:stCondLst>
                        <p:cond delay="indefinite"/>
                      </p:stCondLst>
                      <p:childTnLst>
                        <p:par>
                          <p:cTn id="2389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7696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Teoría de la circul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1371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660680" y="1265040"/>
            <a:ext cx="988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1493640"/>
            <a:ext cx="190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·1 +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83880" y="126504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70640" y="179712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452200" y="1493640"/>
            <a:ext cx="6987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· 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857600" y="184464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600200" y="18288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1828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6126800">
            <a:off x="3695400" y="1866600"/>
            <a:ext cx="75960" cy="60948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971800" y="2208600"/>
            <a:ext cx="1390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sto percib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801320" y="989640"/>
            <a:ext cx="51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6126800">
            <a:off x="5332320" y="1744200"/>
            <a:ext cx="75960" cy="1295280"/>
          </a:xfrm>
          <a:custGeom>
            <a:avLst/>
            <a:gdLst>
              <a:gd name="textAreaLeft" fmla="*/ 48600 w 75960"/>
              <a:gd name="textAreaRight" fmla="*/ 76320 w 7596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419720" y="2432880"/>
            <a:ext cx="4724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ción a la demora del resto debido a la incorporación de un vehículo adi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26280" y="3855960"/>
            <a:ext cx="749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13040" y="4387680"/>
            <a:ext cx="607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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f</a:t>
            </a:r>
            <a:r>
              <a:rPr b="0" lang="en-US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44197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76520" y="4084560"/>
            <a:ext cx="3429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==&gt; 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cmg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= 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c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a</a:t>
            </a:r>
            <a:r>
              <a:rPr b="1" lang="es-ES_tradnl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20400" y="4795560"/>
            <a:ext cx="413388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ólo en la parte plana de la cur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-&gt; no existe 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onge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4" dur="indefinite" restart="never" nodeType="tmRoot">
          <p:childTnLst>
            <p:seq>
              <p:cTn id="2395" dur="indefinite" nodeType="mainSeq">
                <p:childTnLst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8" fill="hold">
                      <p:stCondLst>
                        <p:cond delay="indefinite"/>
                      </p:stCondLst>
                      <p:childTnLst>
                        <p:par>
                          <p:cTn id="2439" fill="hold">
                            <p:stCondLst>
                              <p:cond delay="0"/>
                            </p:stCondLst>
                            <p:childTnLst>
                              <p:par>
                                <p:cTn id="2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2" fill="hold">
                      <p:stCondLst>
                        <p:cond delay="indefinite"/>
                      </p:stCondLst>
                      <p:childTnLst>
                        <p:par>
                          <p:cTn id="2463" fill="hold">
                            <p:stCondLst>
                              <p:cond delay="0"/>
                            </p:stCondLst>
                            <p:childTnLst>
                              <p:par>
                                <p:cTn id="2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4" fill="hold">
                      <p:stCondLst>
                        <p:cond delay="indefinite"/>
                      </p:stCondLst>
                      <p:childTnLst>
                        <p:par>
                          <p:cTn id="2475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0" fill="hold">
                      <p:stCondLst>
                        <p:cond delay="indefinite"/>
                      </p:stCondLst>
                      <p:childTnLst>
                        <p:par>
                          <p:cTn id="2481" fill="hold">
                            <p:stCondLst>
                              <p:cond delay="0"/>
                            </p:stCondLst>
                            <p:childTnLst>
                              <p:par>
                                <p:cTn id="2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4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5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2" fill="hold">
                      <p:stCondLst>
                        <p:cond delay="indefinite"/>
                      </p:stCondLst>
                      <p:childTnLst>
                        <p:par>
                          <p:cTn id="2493" fill="hold">
                            <p:stCondLst>
                              <p:cond delay="0"/>
                            </p:stCondLst>
                            <p:childTnLst>
                              <p:par>
                                <p:cTn id="2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6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2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3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4" fill="hold">
                      <p:stCondLst>
                        <p:cond delay="indefinite"/>
                      </p:stCondLst>
                      <p:childTnLst>
                        <p:par>
                          <p:cTn id="2505" fill="hold">
                            <p:stCondLst>
                              <p:cond delay="0"/>
                            </p:stCondLst>
                            <p:childTnLst>
                              <p:par>
                                <p:cTn id="2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0" fill="hold">
                      <p:stCondLst>
                        <p:cond delay="indefinite"/>
                      </p:stCondLst>
                      <p:childTnLst>
                        <p:par>
                          <p:cTn id="2511" fill="hold">
                            <p:stCondLst>
                              <p:cond delay="0"/>
                            </p:stCondLst>
                            <p:childTnLst>
                              <p:par>
                                <p:cTn id="2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4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5" dur="500" fill="hold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 flipV="1">
            <a:off x="20574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57400" y="480060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0574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3526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81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7432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035160" y="396252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5146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0574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25880" y="355608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505320" y="355608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3434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321160" y="355608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886200" y="438156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0481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03848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73392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048120" y="4952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03848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24280" y="495288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03848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502920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19920" y="48006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952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1/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495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019920" y="137124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29200" y="438156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508640" y="4381560"/>
            <a:ext cx="53316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24480" y="438156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876920" y="3962520"/>
            <a:ext cx="6094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3962520"/>
            <a:ext cx="129528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99000" y="396252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315200" y="3962520"/>
            <a:ext cx="53352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3556080"/>
            <a:ext cx="609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3556080"/>
            <a:ext cx="129564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489720" y="3556080"/>
            <a:ext cx="533520" cy="398880"/>
          </a:xfrm>
          <a:prstGeom prst="rect">
            <a:avLst/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305920" y="3556080"/>
            <a:ext cx="533160" cy="3988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>
            <a:hlinkClick r:id="" action="ppaction://hlinkshowjump?jump=previousslide"/>
          </p:cNvPr>
          <p:cNvSpPr/>
          <p:nvPr/>
        </p:nvSpPr>
        <p:spPr>
          <a:xfrm>
            <a:off x="685800" y="9144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2" dur="indefinite" restart="never" nodeType="tmRoot">
          <p:childTnLst>
            <p:seq>
              <p:cTn id="2523" dur="indefinite" nodeType="mainSeq">
                <p:childTnLst>
                  <p:par>
                    <p:cTn id="2524" fill="hold">
                      <p:stCondLst>
                        <p:cond delay="indefinite"/>
                      </p:stCondLst>
                      <p:childTnLst>
                        <p:par>
                          <p:cTn id="2525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fill="hold">
                      <p:stCondLst>
                        <p:cond delay="indefinite"/>
                      </p:stCondLst>
                      <p:childTnLst>
                        <p:par>
                          <p:cTn id="2531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1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2" fill="hold">
                      <p:stCondLst>
                        <p:cond delay="indefinite"/>
                      </p:stCondLst>
                      <p:childTnLst>
                        <p:par>
                          <p:cTn id="2543" fill="hold">
                            <p:stCondLst>
                              <p:cond delay="0"/>
                            </p:stCondLst>
                            <p:childTnLst>
                              <p:par>
                                <p:cTn id="2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8" fill="hold">
                      <p:stCondLst>
                        <p:cond delay="indefinite"/>
                      </p:stCondLst>
                      <p:childTnLst>
                        <p:par>
                          <p:cTn id="2549" fill="hold">
                            <p:stCondLst>
                              <p:cond delay="0"/>
                            </p:stCondLst>
                            <p:childTnLst>
                              <p:par>
                                <p:cTn id="2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4" fill="hold">
                      <p:stCondLst>
                        <p:cond delay="indefinite"/>
                      </p:stCondLst>
                      <p:childTnLst>
                        <p:par>
                          <p:cTn id="2555" fill="hold">
                            <p:stCondLst>
                              <p:cond delay="0"/>
                            </p:stCondLst>
                            <p:childTnLst>
                              <p:par>
                                <p:cTn id="2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6" fill="hold">
                      <p:stCondLst>
                        <p:cond delay="indefinite"/>
                      </p:stCondLst>
                      <p:childTnLst>
                        <p:par>
                          <p:cTn id="2567" fill="hold">
                            <p:stCondLst>
                              <p:cond delay="0"/>
                            </p:stCondLst>
                            <p:childTnLst>
                              <p:par>
                                <p:cTn id="2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8" fill="hold">
                      <p:stCondLst>
                        <p:cond delay="indefinite"/>
                      </p:stCondLst>
                      <p:childTnLst>
                        <p:par>
                          <p:cTn id="2579" fill="hold">
                            <p:stCondLst>
                              <p:cond delay="0"/>
                            </p:stCondLst>
                            <p:childTnLst>
                              <p:par>
                                <p:cTn id="2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2" fill="hold">
                      <p:stCondLst>
                        <p:cond delay="indefinite"/>
                      </p:stCondLst>
                      <p:childTnLst>
                        <p:par>
                          <p:cTn id="2603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fill="hold">
                      <p:stCondLst>
                        <p:cond delay="indefinite"/>
                      </p:stCondLst>
                      <p:childTnLst>
                        <p:par>
                          <p:cTn id="2609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0" fill="hold">
                      <p:stCondLst>
                        <p:cond delay="indefinite"/>
                      </p:stCondLst>
                      <p:childTnLst>
                        <p:par>
                          <p:cTn id="2621" fill="hold">
                            <p:stCondLst>
                              <p:cond delay="0"/>
                            </p:stCondLst>
                            <p:childTnLst>
                              <p:par>
                                <p:cTn id="2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8" fill="hold">
                      <p:stCondLst>
                        <p:cond delay="indefinite"/>
                      </p:stCondLst>
                      <p:childTnLst>
                        <p:par>
                          <p:cTn id="2639" fill="hold">
                            <p:stCondLst>
                              <p:cond delay="0"/>
                            </p:stCondLst>
                            <p:childTnLst>
                              <p:par>
                                <p:cTn id="2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4" fill="hold">
                      <p:stCondLst>
                        <p:cond delay="indefinite"/>
                      </p:stCondLst>
                      <p:childTnLst>
                        <p:par>
                          <p:cTn id="2645" fill="hold">
                            <p:stCondLst>
                              <p:cond delay="0"/>
                            </p:stCondLst>
                            <p:childTnLst>
                              <p:par>
                                <p:cTn id="2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fill="hold">
                      <p:stCondLst>
                        <p:cond delay="indefinite"/>
                      </p:stCondLst>
                      <p:childTnLst>
                        <p:par>
                          <p:cTn id="2651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8" fill="hold">
                      <p:stCondLst>
                        <p:cond delay="indefinite"/>
                      </p:stCondLst>
                      <p:childTnLst>
                        <p:par>
                          <p:cTn id="2669" fill="hold">
                            <p:stCondLst>
                              <p:cond delay="0"/>
                            </p:stCondLst>
                            <p:childTnLst>
                              <p:par>
                                <p:cTn id="26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4" fill="hold">
                      <p:stCondLst>
                        <p:cond delay="indefinite"/>
                      </p:stCondLst>
                      <p:childTnLst>
                        <p:par>
                          <p:cTn id="2675" fill="hold">
                            <p:stCondLst>
                              <p:cond delay="0"/>
                            </p:stCondLst>
                            <p:childTnLst>
                              <p:par>
                                <p:cTn id="2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6" fill="hold">
                      <p:stCondLst>
                        <p:cond delay="indefinite"/>
                      </p:stCondLst>
                      <p:childTnLst>
                        <p:par>
                          <p:cTn id="2687" fill="hold">
                            <p:stCondLst>
                              <p:cond delay="0"/>
                            </p:stCondLst>
                            <p:childTnLst>
                              <p:par>
                                <p:cTn id="26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2" fill="hold">
                      <p:stCondLst>
                        <p:cond delay="indefinite"/>
                      </p:stCondLst>
                      <p:childTnLst>
                        <p:par>
                          <p:cTn id="2693" fill="hold">
                            <p:stCondLst>
                              <p:cond delay="0"/>
                            </p:stCondLst>
                            <p:childTnLst>
                              <p:par>
                                <p:cTn id="2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fill="hold">
                      <p:stCondLst>
                        <p:cond delay="indefinite"/>
                      </p:stCondLst>
                      <p:childTnLst>
                        <p:par>
                          <p:cTn id="2699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7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257920" y="729000"/>
            <a:ext cx="46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Capacidad de Carga y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1321560"/>
            <a:ext cx="861048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upuesto: existen instalaciones de carga y descarga en el origen y el destino respectiv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sitios de aten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da sitio atiende a un solo vehícu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cargar en 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apacidad de des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cantidad de lo transportado que es posible descargar del vehículo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 pasajeros, carga en contenedores, graneles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30480" y="83700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recuencia de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1221120"/>
            <a:ext cx="861048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: número de vehículos que pasan por un punto de la trayectoria por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/f=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(k)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iempo de viaje 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número de vehícul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amaño de flo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oporción de vehículos en 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F: unidad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T: unidad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80880" y="214920"/>
            <a:ext cx="8610840" cy="26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k): tiempo de viaje origen-destino (k&lt;=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0): tiempo de viaje destino-origen (k=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c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iempo de un ciclo; i.e. Suma de los tiempos de carga y descarga y de los tiempos de viaje para un vehículo d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Obtención de la 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09480" y="297180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1143000" y="3016440"/>
            <a:ext cx="262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800600" y="3048120"/>
                <a:ext cx="6429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5334120" y="327564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iempo de 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685800" y="4191120"/>
                <a:ext cx="42670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sSup>
                          <m:e>
                            <m:r>
                              <m:t xml:space="preserve">μ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04920" y="54853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recuencia necesa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114800" y="5334120"/>
                <a:ext cx="1143000" cy="10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018480" y="571392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ejemp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0880" y="845280"/>
            <a:ext cx="8610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número de vehículos en servici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 debe ser suficiente para ofrecer esa frecu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Frecuencia ofreci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886200" y="1523880"/>
                <a:ext cx="1293840" cy="10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B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85800" y="2286000"/>
                <a:ext cx="26780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1981080" y="3505320"/>
                <a:ext cx="4300560" cy="15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533520" y="555984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Función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08520" y="913320"/>
            <a:ext cx="649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iseño de Oferta de Servici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443600"/>
            <a:ext cx="8591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rivaciones a partir de la función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280" y="30492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981080" y="2057400"/>
                <a:ext cx="4300560" cy="15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η</m:t>
                        </m:r>
                        <m:r>
                          <m:rPr>
                            <m:lit/>
                            <m:nor/>
                          </m:rPr>
                          <m:t xml:space="preserve">Bk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304920" y="4104000"/>
            <a:ext cx="85341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Sustitución entre número de vehículos y capacidad de carg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pacidad media de carga/des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91320" y="5029200"/>
                <a:ext cx="28954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3T02:00:03Z</dcterms:created>
  <dc:creator>Marcela Munizaga</dc:creator>
  <dc:description/>
  <dc:language>en-US</dc:language>
  <cp:lastModifiedBy>Marcela Munizaga</cp:lastModifiedBy>
  <dcterms:modified xsi:type="dcterms:W3CDTF">2008-10-13T14:11:37Z</dcterms:modified>
  <cp:revision>53</cp:revision>
  <dc:subject/>
  <dc:title>Sin título de diapositiva</dc:title>
</cp:coreProperties>
</file>