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E4D-5057-4808-8B6D-9355AA4F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847-55EA-495F-8329-5E0A62DB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667-AB7E-4AC0-B207-B424269D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775-2DDB-443C-B0CC-1FE6ED5A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99C-0BB9-415D-8C94-B1C1E4AF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65B-1463-4BEE-87AD-2367EBA1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A83-9A99-4B28-9C07-81694E21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FEB-7F24-4402-82D1-DD7F8B15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04E-FAD1-4ED5-B3A0-04528175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5A2-13F2-4DF1-BDA0-0CE1DE6C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A21-A7EC-45EA-8C5D-E66F37BD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9F1-F9D8-41BF-968D-6BE06185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14A1-2280-4A4F-918C-F5112B323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9-07T16:00:12Z</dcterms:modified>
  <cp:revision>60</cp:revision>
  <dc:subject/>
  <dc:title>Sin título de diapositiva</dc:title>
</cp:coreProperties>
</file>