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593C-34C5-4A7C-BBF2-5DEDB8FE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4D9-8F5F-4093-8341-9E835229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E7D-203E-4FC9-818C-8AEE1672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94B-1533-4020-A4B5-E7D86F7D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6A4F-3BB1-4BED-8320-FDDB01CE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331-E006-4AFF-8F1F-C513B999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37D-85B8-4CA1-8036-87AFEB71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CB5-892C-4546-AB8A-C252B2D6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CBAE-3401-4C61-886D-2FB3D63D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36AA-B519-480E-B582-CDBAB2F2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F29E-490C-4D8C-89EF-480704E7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B8E-983C-4C77-9985-8D115389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970F-1522-430F-929B-6F320E48B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3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4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7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8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590920"/>
            <a:ext cx="28195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os a considerar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bser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750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8000"/>
                            </p:stCondLst>
                            <p:childTnLst>
                              <p:par>
                                <p:cTn id="7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90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95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76320" y="1447920"/>
            <a:ext cx="8729280" cy="2314440"/>
            <a:chOff x="76320" y="1447920"/>
            <a:chExt cx="8729280" cy="2314440"/>
          </a:xfrm>
        </p:grpSpPr>
        <p:sp>
          <p:nvSpPr>
            <p:cNvPr id="75" name=""/>
            <p:cNvSpPr/>
            <p:nvPr/>
          </p:nvSpPr>
          <p:spPr>
            <a:xfrm>
              <a:off x="92160" y="1463400"/>
              <a:ext cx="8693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160" y="1463400"/>
              <a:ext cx="8693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160" y="1463400"/>
              <a:ext cx="1800" cy="2298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160" y="1463400"/>
              <a:ext cx="15840" cy="229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160" y="1463400"/>
              <a:ext cx="8693280" cy="299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160" y="1746000"/>
              <a:ext cx="1216080" cy="201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57360" y="14792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74000" y="1479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23040" y="14792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38880" y="147924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7920" y="147924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37160" y="1479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20640" y="1479240"/>
              <a:ext cx="984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O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1120" y="17636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252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4 9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8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7436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246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57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028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2 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4088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719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0620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 8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550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882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768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72360" y="176364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7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3792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02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89000" y="17636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6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0344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23 24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87800" y="17636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688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1840" y="2046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5844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7 9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086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415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58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5 7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2424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9028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3 47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408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719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0620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4 3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5500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82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2212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89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12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041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37920" y="2046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1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000" y="20462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868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3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29 6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87800" y="20462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8688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480" y="233028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544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 73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97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50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9136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1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2568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10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7436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7 9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4016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620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5 13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55000" y="23302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88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3768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84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723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3732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092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0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88640" y="23302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0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0344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45 9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87800" y="23302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868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1480" y="261288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544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0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097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508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9136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9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2568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910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9028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95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4088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719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0620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 75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5500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882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3768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3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723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73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792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5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89000" y="261288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868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1936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7 6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88520" y="26128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864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1120" y="289548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5844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76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086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415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7436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43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246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578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028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3 3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408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1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0620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 2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550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88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0476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9 45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0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2092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 88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8640" y="28954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20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0344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35 1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7800" y="28954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8688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1120" y="317952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844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1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086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415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91360" y="31795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4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25680" y="317952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10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9028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1 8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408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9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0620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 9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5500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82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212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6 15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712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41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0500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3 2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8756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664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0344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31 7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8780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8688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0760" y="3462120"/>
              <a:ext cx="974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D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252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4 6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083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584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04 9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242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743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4 5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4016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888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16 3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54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047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88 86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709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00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93 9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7560" y="34621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6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21640" y="3462120"/>
              <a:ext cx="96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 743 3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867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921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216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29096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9096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30688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0688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32280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2280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33872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3872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3550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550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37092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7092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5693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6936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8000" y="1447920"/>
              <a:ext cx="8677440" cy="3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7696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7696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8000" y="174600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8000" y="174600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8000" y="20304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8000" y="203040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000" y="23130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8000" y="231300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8000" y="25970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8000" y="25970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8000" y="28796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000" y="28796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8000" y="31622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8000" y="316224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8000" y="344628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8000" y="344628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20" y="1447920"/>
              <a:ext cx="31680" cy="231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096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096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0688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0688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2280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2280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3872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3872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5500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98680" y="101520"/>
            <a:ext cx="6222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D Santia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unta Mañana, pax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952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terz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2895480"/>
            <a:ext cx="86868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1447920"/>
            <a:ext cx="106668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1447920"/>
            <a:ext cx="99072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lastslide"/>
          </p:cNvPr>
          <p:cNvSpPr/>
          <p:nvPr/>
        </p:nvSpPr>
        <p:spPr>
          <a:xfrm>
            <a:off x="8153280" y="3962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14400" y="11430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 que proviene de l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io de Maximización de la Entropí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2743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100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38098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86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1790640" y="23238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2324160" y="354312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23880" y="274320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09680" y="3809880"/>
            <a:ext cx="7621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502920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500"/>
                            </p:stCondLst>
                            <p:childTnLst>
                              <p:par>
                                <p:cTn id="1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1143000"/>
            <a:ext cx="7696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ipót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falta de mayor información, todos los microestados son equiprob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ado un 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erá aquel que tenga un mayor número de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cr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so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9144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zonas, 2 habi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O1=O2=2        D1=D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compatibles con ese macro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914400" y="5181480"/>
          <a:ext cx="25052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81480"/>
                    <a:ext cx="25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3886200" y="5105520"/>
          <a:ext cx="2295360" cy="155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105520"/>
                    <a:ext cx="229536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6705720" y="5029200"/>
          <a:ext cx="2295360" cy="15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0292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microestados asociados a cada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eso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04920" y="1676520"/>
          <a:ext cx="175248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17524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28600" y="4191120"/>
          <a:ext cx="1676520" cy="113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16765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5791320" y="4038480"/>
          <a:ext cx="1676160" cy="11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038480"/>
                    <a:ext cx="1676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2057400" y="1143000"/>
          <a:ext cx="5943600" cy="261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143000"/>
                    <a:ext cx="59436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905120" y="4114800"/>
          <a:ext cx="2825640" cy="127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114800"/>
                    <a:ext cx="28256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5334120" y="5181480"/>
          <a:ext cx="3047760" cy="1374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181480"/>
                    <a:ext cx="304776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144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son (1971) demostró qu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1066680" y="3200400"/>
            <a:ext cx="769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: entropía = número de microestados asociados al mesoestado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380880" y="4572000"/>
                <a:ext cx="8382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1440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s probable ==&gt; maximizar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1066680" y="32004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unción difícil de optimi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aproximación de Stir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n (N!) ~ N ln N - N     (para N grande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09680" y="19051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685800" y="5334120"/>
                <a:ext cx="243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809880" y="5410080"/>
                <a:ext cx="54864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 rot="5350800">
            <a:off x="3161880" y="552420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576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00"/>
                            </p:stCondLst>
                            <p:childTnLst>
                              <p:par>
                                <p:cTn id="1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. 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33520" y="2819520"/>
                <a:ext cx="3047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533520" y="17524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962520" y="2133720"/>
            <a:ext cx="49528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maximización de la entropía doblemente acotado con restricción de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411480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 a gravi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ere calibra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ado que no conocemo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11430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371600"/>
            <a:ext cx="8229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{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anterior (actual)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Métodos de Factor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actor de crecimien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utiliza información de variación e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267080" y="2438280"/>
                <a:ext cx="30862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380880" y="33526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1) n=0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/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 n=n+1 calcular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alcular c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omparar con 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on parecidos parar, si no, ir a pa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3)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133720" y="5105520"/>
                <a:ext cx="670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690840" y="1066680"/>
            <a:ext cx="46551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S(~W) s.a. O, D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bra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método              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0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petir 2 y 3 hasta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7" dur="indefinite" restart="never" nodeType="tmRoot">
          <p:childTnLst>
            <p:seq>
              <p:cTn id="1818" dur="indefinite" nodeType="mainSeq">
                <p:childTnLst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1143000"/>
            <a:ext cx="769608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a pri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os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deri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5" dur="indefinite" restart="never" nodeType="tmRoot">
          <p:childTnLst>
            <p:seq>
              <p:cTn id="1886" dur="indefinite" nodeType="mainSeq">
                <p:childTnLst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6200" y="396252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>
            <a:hlinkClick r:id="" action="ppaction://hlinkshowjump?jump=previousslide"/>
          </p:cNvPr>
          <p:cNvSpPr/>
          <p:nvPr/>
        </p:nvSpPr>
        <p:spPr>
          <a:xfrm>
            <a:off x="8381880" y="685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5" name=""/>
          <p:cNvCxnSpPr>
            <a:stCxn id="614" idx="3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6" name=""/>
          <p:cNvSpPr/>
          <p:nvPr/>
        </p:nvSpPr>
        <p:spPr>
          <a:xfrm>
            <a:off x="7315200" y="152388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" y="36576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162920" y="52578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1" name=""/>
          <p:cNvCxnSpPr>
            <a:stCxn id="617" idx="3"/>
            <a:endCxn id="609" idx="1"/>
          </p:cNvCxnSpPr>
          <p:nvPr/>
        </p:nvCxnSpPr>
        <p:spPr>
          <a:xfrm>
            <a:off x="2063880" y="4356000"/>
            <a:ext cx="49896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8" idx="3"/>
            <a:endCxn id="607" idx="1"/>
          </p:cNvCxnSpPr>
          <p:nvPr/>
        </p:nvCxnSpPr>
        <p:spPr>
          <a:xfrm flipV="1">
            <a:off x="1919160" y="5673240"/>
            <a:ext cx="17344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20" idx="1"/>
          </p:cNvCxnSpPr>
          <p:nvPr/>
        </p:nvCxnSpPr>
        <p:spPr>
          <a:xfrm flipH="1" flipV="1">
            <a:off x="6322320" y="5484240"/>
            <a:ext cx="84060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16" idx="1"/>
          </p:cNvCxnSpPr>
          <p:nvPr/>
        </p:nvCxnSpPr>
        <p:spPr>
          <a:xfrm flipH="1">
            <a:off x="5881320" y="222228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endCxn id="611" idx="3"/>
          </p:cNvCxnSpPr>
          <p:nvPr/>
        </p:nvCxnSpPr>
        <p:spPr>
          <a:xfrm flipH="1">
            <a:off x="4750920" y="4063680"/>
            <a:ext cx="16120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1219320"/>
            <a:ext cx="82296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simp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íge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29200" y="1676520"/>
                <a:ext cx="140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80880" y="304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ti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105520" y="2919240"/>
                <a:ext cx="14158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Se cumplen las 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976320" y="5029200"/>
                <a:ext cx="178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249800" y="5029200"/>
                <a:ext cx="1940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219320"/>
            <a:ext cx="8229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114800" y="1828800"/>
          <a:ext cx="229536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80880" y="2133720"/>
            <a:ext cx="3505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futuro =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400800" y="1295280"/>
          <a:ext cx="7714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6400800" y="3352680"/>
          <a:ext cx="77148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3526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33520" y="34290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=(69/51)=1,3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04920" y="4572000"/>
          <a:ext cx="2409840" cy="155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743200" y="4038480"/>
          <a:ext cx="8571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8571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572000" y="41911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1911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56386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638680" y="4724280"/>
          <a:ext cx="2295720" cy="1552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72428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7696080" y="1295280"/>
          <a:ext cx="87660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1295280"/>
                    <a:ext cx="8766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8001000" y="4191120"/>
          <a:ext cx="771480" cy="25812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4191120"/>
                    <a:ext cx="7714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1219320"/>
            <a:ext cx="82296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dob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i además tengo información de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actor prome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nuestro ejemp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038480" y="2743200"/>
                <a:ext cx="22860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295280" y="838080"/>
          <a:ext cx="24098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733920" y="304920"/>
          <a:ext cx="8571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920"/>
                    <a:ext cx="857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533520" y="2438280"/>
          <a:ext cx="316224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162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648320" y="304920"/>
          <a:ext cx="87624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04920"/>
                    <a:ext cx="8762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80880" y="2971800"/>
          <a:ext cx="329580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5562720" y="3049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049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80880" y="3505320"/>
          <a:ext cx="3295800" cy="523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50532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80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295280" y="4800600"/>
          <a:ext cx="2295720" cy="1552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480060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057400" y="4267080"/>
          <a:ext cx="771480" cy="5241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7400" y="42670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876920" y="3124080"/>
          <a:ext cx="2295360" cy="20671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3124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V="1">
            <a:off x="3886200" y="4191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7238880" y="3124080"/>
          <a:ext cx="77148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3124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114800" y="5257800"/>
          <a:ext cx="3819600" cy="52380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14800" y="5257800"/>
                    <a:ext cx="381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1219320"/>
            <a:ext cx="87631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-&gt; factor promedio: no se cumple ninguna de las dos familias de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iter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y distintos métodos que se puede u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étodo de Furness :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1,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Usando esos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Usando esos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petir hasta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838080"/>
          <a:ext cx="229536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200400" y="838080"/>
          <a:ext cx="153360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838080"/>
                    <a:ext cx="1533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2280" y="2895480"/>
          <a:ext cx="3819600" cy="10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3819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724280" y="838080"/>
          <a:ext cx="771480" cy="206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838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280" y="3962520"/>
          <a:ext cx="305928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962520"/>
                    <a:ext cx="3059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152280" y="4495680"/>
          <a:ext cx="3059280" cy="524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495680"/>
                    <a:ext cx="30592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651640" y="1341360"/>
          <a:ext cx="3314520" cy="20955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51640" y="1341360"/>
                    <a:ext cx="331452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143680" y="3936960"/>
          <a:ext cx="3377880" cy="2095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3680" y="3936960"/>
                    <a:ext cx="337788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8600" y="5334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más iteraciones para converger a dos decimales. Aquí tenemos convergencia a 1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8-08-22T14:13:28Z</dcterms:modified>
  <cp:revision>28</cp:revision>
  <dc:subject/>
  <dc:title>Sin título de diapositiva</dc:title>
</cp:coreProperties>
</file>