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embeddings/oleObject11.xlsx" ContentType="application/vnd.openxmlformats-officedocument.spreadsheetml.sheet"/>
  <Override PartName="/ppt/embeddings/oleObject12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52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13.wmf" ContentType="image/x-wmf"/>
  <Override PartName="/ppt/media/image50.wmf" ContentType="image/x-wmf"/>
  <Override PartName="/ppt/media/image40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51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2096-6F0A-4CFF-B9D5-4EBED10E3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34F5-2975-4D8C-B9EA-12702059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CD24-EA71-4F3C-83B3-6C57CE76A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5267-87DB-4677-BB78-FCFD41A95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7DF1-767A-4485-930B-6E383647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E3E0-D3C3-4A2F-B65D-4FD2B1A3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B40F-99AB-4B66-BA5D-7CDD4190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68D5-E724-4530-B233-593F9DE9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340B-06FB-4B2C-96DB-34C8E075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4DA7-7310-4649-9E3F-5A002EBE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6B8A-B3BA-4159-9525-793C2B59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297C-446B-4DEC-BC58-4A0722AE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D46C-EE88-4568-85BE-4FA7A76CB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2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33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34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35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36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37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38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39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40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41.wmf"/><Relationship Id="rId2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5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8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8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9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0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51.wmf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7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8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9.wmf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2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3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4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5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6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7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8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9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20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21.wmf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5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26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27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28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29.wm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06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384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06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146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06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590920"/>
            <a:ext cx="2819520" cy="31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mentos a considerar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bserv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9528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055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055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672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672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294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6294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8672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055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8672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1055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434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434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3434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1055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672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3434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6294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6294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055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8672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6294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9528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6294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3434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294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6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300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3500"/>
                            </p:stCondLst>
                            <p:childTnLst>
                              <p:par>
                                <p:cTn id="6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4000"/>
                            </p:stCondLst>
                            <p:childTnLst>
                              <p:par>
                                <p:cTn id="6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4500"/>
                            </p:stCondLst>
                            <p:childTnLst>
                              <p:par>
                                <p:cTn id="6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0"/>
                            </p:stCondLst>
                            <p:childTnLst>
                              <p:par>
                                <p:cTn id="6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500"/>
                            </p:stCondLst>
                            <p:childTnLst>
                              <p:par>
                                <p:cTn id="7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60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65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7000"/>
                            </p:stCondLst>
                            <p:childTnLst>
                              <p:par>
                                <p:cTn id="7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7500"/>
                            </p:stCondLst>
                            <p:childTnLst>
                              <p:par>
                                <p:cTn id="7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8000"/>
                            </p:stCondLst>
                            <p:childTnLst>
                              <p:par>
                                <p:cTn id="7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8500"/>
                            </p:stCondLst>
                            <p:childTnLst>
                              <p:par>
                                <p:cTn id="7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9000"/>
                            </p:stCondLst>
                            <p:childTnLst>
                              <p:par>
                                <p:cTn id="7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9500"/>
                            </p:stCondLst>
                            <p:childTnLst>
                              <p:par>
                                <p:cTn id="7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7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7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1500"/>
                            </p:stCondLst>
                            <p:childTnLst>
                              <p:par>
                                <p:cTn id="7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2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3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685800" y="304920"/>
            <a:ext cx="73915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9480" y="1523880"/>
            <a:ext cx="8153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a vimos: Método de Factor de Crecimiento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ervar estructura de matriz observ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ra familia de mode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ísica de Newton --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o 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371600" y="472428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86200" y="5562720"/>
            <a:ext cx="30492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3716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8620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828800" y="5029200"/>
            <a:ext cx="2057400" cy="60948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0"/>
                </a:moveTo>
                <a:cubicBezTo>
                  <a:pt x="140" y="124"/>
                  <a:pt x="280" y="248"/>
                  <a:pt x="432" y="288"/>
                </a:cubicBezTo>
                <a:cubicBezTo>
                  <a:pt x="584" y="328"/>
                  <a:pt x="768" y="224"/>
                  <a:pt x="912" y="240"/>
                </a:cubicBezTo>
                <a:cubicBezTo>
                  <a:pt x="1056" y="256"/>
                  <a:pt x="1232" y="360"/>
                  <a:pt x="1296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029200" y="441972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f(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tra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ficultad de via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229600" y="4419720"/>
            <a:ext cx="6094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&gt;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&gt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066680" y="457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" y="1371600"/>
            <a:ext cx="82296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población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distancia entre la zona i y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9480" y="34290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86400" y="16002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001000" y="243828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562720" y="1219320"/>
            <a:ext cx="53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001000" y="20574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943600" y="1905120"/>
            <a:ext cx="2057400" cy="609480"/>
          </a:xfrm>
          <a:custGeom>
            <a:avLst/>
            <a:gdLst/>
            <a:ahLst/>
            <a:rect l="l" t="t" r="r" b="b"/>
            <a:pathLst>
              <a:path w="1296" h="384">
                <a:moveTo>
                  <a:pt x="0" y="0"/>
                </a:moveTo>
                <a:cubicBezTo>
                  <a:pt x="140" y="124"/>
                  <a:pt x="280" y="248"/>
                  <a:pt x="432" y="288"/>
                </a:cubicBezTo>
                <a:cubicBezTo>
                  <a:pt x="584" y="328"/>
                  <a:pt x="768" y="224"/>
                  <a:pt x="912" y="240"/>
                </a:cubicBezTo>
                <a:cubicBezTo>
                  <a:pt x="1056" y="256"/>
                  <a:pt x="1232" y="360"/>
                  <a:pt x="1296" y="3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0" y="1905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1600200" y="3048120"/>
                <a:ext cx="279396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1676520" y="4114800"/>
                <a:ext cx="26668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1752480" y="5181480"/>
                <a:ext cx="259092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2" name=""/>
          <p:cNvSpPr/>
          <p:nvPr/>
        </p:nvSpPr>
        <p:spPr>
          <a:xfrm>
            <a:off x="609480" y="44956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56386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29200" y="5486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 Restriccio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500"/>
                            </p:stCondLst>
                            <p:childTnLst>
                              <p:par>
                                <p:cTn id="9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000"/>
                            </p:stCondLst>
                            <p:childTnLst>
                              <p:par>
                                <p:cTn id="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500"/>
                            </p:stCondLst>
                            <p:childTnLst>
                              <p:par>
                                <p:cTn id="9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2000"/>
                            </p:stCondLst>
                            <p:childTnLst>
                              <p:par>
                                <p:cTn id="9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00"/>
                            </p:stCondLst>
                            <p:childTnLst>
                              <p:par>
                                <p:cTn id="9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500"/>
                            </p:stCondLst>
                            <p:childTnLst>
                              <p:par>
                                <p:cTn id="9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500"/>
                            </p:stCondLst>
                            <p:childTnLst>
                              <p:par>
                                <p:cTn id="9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0880" y="1219320"/>
            <a:ext cx="822960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K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K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cuál usam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62120" y="2743200"/>
            <a:ext cx="5029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50000">
                <a:solidFill>
                  <a:srgbClr val="000000"/>
                </a:solidFill>
                <a:latin typeface="Comic Sans MS"/>
              </a:rPr>
              <a:t>-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57200" y="35053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restricciones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838080" y="4191120"/>
                <a:ext cx="14623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914400" y="5486400"/>
                <a:ext cx="14479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3505320" y="3962520"/>
                <a:ext cx="251460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3581280" y="5334120"/>
                <a:ext cx="243864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3" name=""/>
          <p:cNvSpPr/>
          <p:nvPr/>
        </p:nvSpPr>
        <p:spPr>
          <a:xfrm>
            <a:off x="2514600" y="44197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590920" y="5791320"/>
            <a:ext cx="838080" cy="75960"/>
          </a:xfrm>
          <a:prstGeom prst="rightArrow">
            <a:avLst>
              <a:gd name="adj1" fmla="val 50000"/>
              <a:gd name="adj2" fmla="val 27582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500"/>
                            </p:stCondLst>
                            <p:childTnLst>
                              <p:par>
                                <p:cTn id="10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4920" y="914400"/>
            <a:ext cx="8229600" cy="72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--&gt; costo generalizado de vi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(costo monetario, tiempo, comodidad, segur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unción --&gt; exponencial o cualquier ot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n ·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: factores de balance se calculan ite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1: darse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1, calcular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2: con esos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calcular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aso 3: con esos 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, calcular B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562720" y="5791320"/>
            <a:ext cx="304560" cy="914400"/>
          </a:xfrm>
          <a:custGeom>
            <a:avLst/>
            <a:gdLst>
              <a:gd name="textAreaLeft" fmla="*/ 0 w 304560"/>
              <a:gd name="textAreaRight" fmla="*/ 109800 w 3045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5880" y="57913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erar hasta conve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4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4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odelo 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0880" y="1219320"/>
            <a:ext cx="822960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f(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=e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30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 0,00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cusión: ¿qué representa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se calibr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6095880" y="914400"/>
          <a:ext cx="876600" cy="258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914400"/>
                    <a:ext cx="87660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2819520" y="2971800"/>
          <a:ext cx="3295440" cy="523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2971800"/>
                    <a:ext cx="329544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762120" y="9144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5334120" y="228600"/>
          <a:ext cx="3352680" cy="163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28600"/>
                    <a:ext cx="33526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9" name=""/>
          <p:cNvGraphicFramePr/>
          <p:nvPr/>
        </p:nvGraphicFramePr>
        <p:xfrm>
          <a:off x="5257800" y="2209680"/>
          <a:ext cx="771480" cy="2581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2209680"/>
                    <a:ext cx="77148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"/>
          <p:cNvGraphicFramePr/>
          <p:nvPr/>
        </p:nvGraphicFramePr>
        <p:xfrm>
          <a:off x="152280" y="4267080"/>
          <a:ext cx="510696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4267080"/>
                    <a:ext cx="510696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"/>
          <p:cNvGraphicFramePr/>
          <p:nvPr/>
        </p:nvGraphicFramePr>
        <p:xfrm>
          <a:off x="152280" y="4800600"/>
          <a:ext cx="5106960" cy="5238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4800600"/>
                    <a:ext cx="5106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"/>
          <p:cNvGraphicFramePr/>
          <p:nvPr/>
        </p:nvGraphicFramePr>
        <p:xfrm>
          <a:off x="6705720" y="2209680"/>
          <a:ext cx="1133280" cy="206712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05720" y="2209680"/>
                    <a:ext cx="1133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6019920" y="2209680"/>
          <a:ext cx="676080" cy="206712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19920" y="2209680"/>
                    <a:ext cx="6760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609480" y="1523880"/>
          <a:ext cx="4392720" cy="2581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09480" y="1523880"/>
                    <a:ext cx="439272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152280" y="5334120"/>
          <a:ext cx="5106960" cy="52380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52280" y="5334120"/>
                    <a:ext cx="51069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7848720" y="2209680"/>
          <a:ext cx="1095120" cy="206712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848720" y="2209680"/>
                    <a:ext cx="109512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609480" y="1523880"/>
          <a:ext cx="4354560" cy="258156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09480" y="1523880"/>
                    <a:ext cx="43545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85800" y="1143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crecimiento uni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29200" y="1219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23880" y="4114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ur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562720" y="41148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vit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152280" y="1600200"/>
          <a:ext cx="4183200" cy="206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00200"/>
                    <a:ext cx="418320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4876920" y="1600200"/>
          <a:ext cx="3963960" cy="206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600200"/>
                    <a:ext cx="39639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228600" y="4572000"/>
          <a:ext cx="4105440" cy="2066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4572000"/>
                    <a:ext cx="410544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2" name=""/>
          <p:cNvGraphicFramePr/>
          <p:nvPr/>
        </p:nvGraphicFramePr>
        <p:xfrm>
          <a:off x="4572000" y="4572000"/>
          <a:ext cx="4354560" cy="2066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4572000"/>
                    <a:ext cx="43545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14400" y="838080"/>
            <a:ext cx="769608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gravitaciona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entre i y j. Valor único para el par ij, debe tomar en cuenta todos los modos disponibles.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838080" y="5486400"/>
                <a:ext cx="30481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762120" y="38098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4191120" y="3429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destinos tiene que ver con el beneficio de visitar y con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14800" y="51055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orígenes tiene que ver con la posibilidad de ser visitado y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114800" y="358128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62520" y="52578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914400" y="1143000"/>
            <a:ext cx="7696080" cy="19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conocemos tanto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o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--&gt; buscamos u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que haga que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reproduzca lo más cercanamente posibl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76320" y="1447920"/>
            <a:ext cx="8729280" cy="2314440"/>
            <a:chOff x="76320" y="1447920"/>
            <a:chExt cx="8729280" cy="2314440"/>
          </a:xfrm>
        </p:grpSpPr>
        <p:sp>
          <p:nvSpPr>
            <p:cNvPr id="75" name=""/>
            <p:cNvSpPr/>
            <p:nvPr/>
          </p:nvSpPr>
          <p:spPr>
            <a:xfrm>
              <a:off x="92160" y="1463400"/>
              <a:ext cx="86932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160" y="1463400"/>
              <a:ext cx="869328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160" y="1463400"/>
              <a:ext cx="1800" cy="22986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160" y="1463400"/>
              <a:ext cx="15840" cy="2298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160" y="1463400"/>
              <a:ext cx="8693280" cy="299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160" y="1746000"/>
              <a:ext cx="1216080" cy="2016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557360" y="1479240"/>
              <a:ext cx="5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r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74000" y="147924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623040" y="147924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38880" y="1479240"/>
              <a:ext cx="64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entr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7920" y="1479240"/>
              <a:ext cx="33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37160" y="1479240"/>
              <a:ext cx="84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-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820640" y="1479240"/>
              <a:ext cx="98496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TOTAL O</a:t>
              </a:r>
              <a:r>
                <a:rPr b="1" lang="es-ES_tradnl" sz="17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1120" y="1763640"/>
              <a:ext cx="5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or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42520" y="17636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24 90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0832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74360" y="17636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 2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24600" y="17636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5780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90280" y="17636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2 00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40880" y="17636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7192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06200" y="17636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5 88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55000" y="17636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8820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37680" y="17636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2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72360" y="176364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3732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37920" y="17636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 02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89000" y="176364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8680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03440" y="17636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23 24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87800" y="176364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86880" y="17636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1840" y="204624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5844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7 91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0868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4152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58440" y="20462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5 78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2424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9028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3 47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4088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7192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0620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4 3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5500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8820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22120" y="204624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1 89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71280" y="204624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0412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37920" y="204624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19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89000" y="204624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8680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903440" y="204624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29 62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87800" y="204624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86880" y="2046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1480" y="233028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75440" y="23302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 73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09760" y="23302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7508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91360" y="23302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1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25680" y="23302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9100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74360" y="23302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27 97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4016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06200" y="23302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75 13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55000" y="23302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8820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37680" y="23302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84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72360" y="23302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3732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20920" y="23302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6 05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88640" y="233028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82020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903440" y="23302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45 90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87800" y="233028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886880" y="23302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1480" y="2612880"/>
              <a:ext cx="64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entr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7544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 09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09760" y="26128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508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9136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 99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25680" y="26128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9100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90280" y="2612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 95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40880" y="26128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7192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06200" y="2612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0 75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55000" y="26128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8820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3768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 3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72360" y="261288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3732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37920" y="261288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 59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89000" y="2612880"/>
              <a:ext cx="357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8680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019360" y="26128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77 68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88520" y="261288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8640" y="26128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1120" y="2895480"/>
              <a:ext cx="33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5844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 76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0868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4152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7436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6 43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2460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5780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9028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3 33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44088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7192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0620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9 2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55000" y="289548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8820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04760" y="28954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29 45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7092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20920" y="289548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0 88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88640" y="2895480"/>
              <a:ext cx="298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2020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03440" y="289548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35 14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87800" y="289548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886880" y="28954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1120" y="3179520"/>
              <a:ext cx="84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ur-Es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5844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1 19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0868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4152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91360" y="3179520"/>
              <a:ext cx="54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 4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25680" y="3179520"/>
              <a:ext cx="23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9100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9028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1 82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4088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92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60620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0 9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45500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58820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2120" y="317952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6 15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71280" y="3179520"/>
              <a:ext cx="1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0412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05000" y="31795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43 22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87560" y="317952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8664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903440" y="31795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331 7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87800" y="317952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886880" y="31795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0760" y="3462120"/>
              <a:ext cx="9745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00"/>
                  </a:solidFill>
                  <a:latin typeface="Arial"/>
                </a:rPr>
                <a:t>TOTAL D</a:t>
              </a:r>
              <a:r>
                <a:rPr b="1" lang="es-ES_tradnl" sz="17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4252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84 60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0832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5844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04 98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2424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7436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54 57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4016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8884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416 38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5464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0476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88 86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7092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000" y="3462120"/>
              <a:ext cx="782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93 97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87560" y="3462120"/>
              <a:ext cx="17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8664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21640" y="3462120"/>
              <a:ext cx="962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 743 38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86720" y="3462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9216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216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129096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90960" y="1447920"/>
              <a:ext cx="1728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230688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06880" y="1447920"/>
              <a:ext cx="1728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332280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22800" y="1447920"/>
              <a:ext cx="176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433872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38720" y="1447920"/>
              <a:ext cx="176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535500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5500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37092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7092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7569360" y="146340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569360" y="1447920"/>
              <a:ext cx="176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08000" y="1447920"/>
              <a:ext cx="8677440" cy="31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8769600" y="146340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769600" y="1447920"/>
              <a:ext cx="15840" cy="1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8000" y="174600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8000" y="1746000"/>
              <a:ext cx="86439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08000" y="203040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08000" y="203040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8000" y="231300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08000" y="2313000"/>
              <a:ext cx="8643960" cy="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08000" y="259704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8000" y="259704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08000" y="287964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8000" y="287964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8000" y="3162240"/>
              <a:ext cx="86439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8000" y="3162240"/>
              <a:ext cx="8643960" cy="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08000" y="3446280"/>
              <a:ext cx="864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08000" y="3446280"/>
              <a:ext cx="8643960" cy="1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320" y="1447920"/>
              <a:ext cx="31680" cy="2314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90960" y="1479240"/>
              <a:ext cx="144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0960" y="1479240"/>
              <a:ext cx="1728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06880" y="1479240"/>
              <a:ext cx="144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06880" y="1479240"/>
              <a:ext cx="1728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22800" y="1479240"/>
              <a:ext cx="180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22800" y="1479240"/>
              <a:ext cx="1764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38720" y="1479240"/>
              <a:ext cx="180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38720" y="1479240"/>
              <a:ext cx="17640" cy="224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55000" y="1479240"/>
              <a:ext cx="1440" cy="224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498680" y="101520"/>
            <a:ext cx="62229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D Santiag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Punta Mañana, pax/h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10080" y="2819520"/>
            <a:ext cx="990720" cy="457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43400" y="2819520"/>
            <a:ext cx="990720" cy="457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9480" y="41148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Par origen-destino donde se observa más viaj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49528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ar origen-destino donde se observa más viajes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terzo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320" y="2895480"/>
            <a:ext cx="8686800" cy="2286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1447920"/>
            <a:ext cx="1066680" cy="23619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52680" y="1447920"/>
            <a:ext cx="990720" cy="23619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>
            <a:hlinkClick r:id="" action="ppaction://hlinkshowjump?jump=lastslide"/>
          </p:cNvPr>
          <p:cNvSpPr/>
          <p:nvPr/>
        </p:nvSpPr>
        <p:spPr>
          <a:xfrm>
            <a:off x="8153280" y="3962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4479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85800" y="2057400"/>
            <a:ext cx="75438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nemo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 --&gt;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95280" y="4572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0552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0552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86728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86728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629400" y="41148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629400" y="47242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6728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10552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10552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343400" y="47242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343400" y="41148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34340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10552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867280" y="34290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34340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6294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629400" y="34290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05520" y="6019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867280" y="60199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629400" y="5334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6294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952880" y="4114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629400" y="5334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629400" y="601992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343400" y="601992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629400" y="34290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914400" y="838080"/>
            <a:ext cx="769608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gravitaciona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entre i y j. Valor único para el par ij, debe tomar en cuenta todos los modos disponibles.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838080" y="5486400"/>
                <a:ext cx="30481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762120" y="38098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>
            <a:off x="4191120" y="3429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destinos tiene que ver con el beneficio de visitar y con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114800" y="51055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pende de todos los orígenes tiene que ver con la posibilidad de ser visitado y los costos ponderados por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114800" y="358128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962520" y="52578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3" dur="indefinite" restart="never" nodeType="tmRoot">
          <p:childTnLst>
            <p:seq>
              <p:cTn id="1354" dur="indefinite" nodeType="mainSeq">
                <p:childTnLst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914400" y="1143000"/>
            <a:ext cx="7696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ro modelo que proviene de la fí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ncipio de Maximización de la Entropí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00200" y="2743200"/>
            <a:ext cx="22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410080" y="2743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stado 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09680" y="3809880"/>
            <a:ext cx="221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8640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stado m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562720" y="5638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o mi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971800" y="51055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isiones individuales de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rot="5400000">
            <a:off x="1790640" y="232380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rot="5400000">
            <a:off x="2324160" y="3543120"/>
            <a:ext cx="457200" cy="2362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523880" y="2743200"/>
            <a:ext cx="106704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209680" y="3809880"/>
            <a:ext cx="76212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895480" y="5029200"/>
            <a:ext cx="19051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fill="hold">
                            <p:stCondLst>
                              <p:cond delay="500"/>
                            </p:stCondLst>
                            <p:childTnLst>
                              <p:par>
                                <p:cTn id="14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8" fill="hold">
                            <p:stCondLst>
                              <p:cond delay="500"/>
                            </p:stCondLst>
                            <p:childTnLst>
                              <p:par>
                                <p:cTn id="14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500"/>
                            </p:stCondLst>
                            <p:childTnLst>
                              <p:par>
                                <p:cTn id="14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914400" y="1143000"/>
            <a:ext cx="769608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ipótes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 falta de mayor información, todos los microestados son equiprob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Restri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ado un estad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ACR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restricc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encontrar el estad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ás prob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será aquel que tenga un mayor número de 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microestado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asoci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rincipio de Maximización de la Entropí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6" dur="indefinite" restart="never" nodeType="tmRoot">
          <p:childTnLst>
            <p:seq>
              <p:cTn id="1487" dur="indefinite" nodeType="mainSeq">
                <p:childTnLst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914400" y="914400"/>
            <a:ext cx="76960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4 zonas, 2 habit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ad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ACR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restricciones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O1=O2=2        D1=D2=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ncontrar el estad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ás prob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esoestado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compatibles con ese macro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914400" y="5181480"/>
          <a:ext cx="250524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81480"/>
                    <a:ext cx="25052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"/>
          <p:cNvGraphicFramePr/>
          <p:nvPr/>
        </p:nvGraphicFramePr>
        <p:xfrm>
          <a:off x="3886200" y="5105520"/>
          <a:ext cx="2295360" cy="1552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105520"/>
                    <a:ext cx="2295360" cy="155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6" name=""/>
          <p:cNvGraphicFramePr/>
          <p:nvPr/>
        </p:nvGraphicFramePr>
        <p:xfrm>
          <a:off x="6705720" y="5029200"/>
          <a:ext cx="2295360" cy="15526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5720" y="5029200"/>
                    <a:ext cx="229536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0" dur="indefinite" restart="never" nodeType="tmRoot">
          <p:childTnLst>
            <p:seq>
              <p:cTn id="1531" dur="indefinite" nodeType="mainSeq">
                <p:childTnLst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33520" y="5335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microestados asociados a cada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esoes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304920" y="1676520"/>
          <a:ext cx="1752480" cy="10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175248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228600" y="4191120"/>
          <a:ext cx="1676520" cy="1133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191120"/>
                    <a:ext cx="167652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4" name=""/>
          <p:cNvGraphicFramePr/>
          <p:nvPr/>
        </p:nvGraphicFramePr>
        <p:xfrm>
          <a:off x="5791320" y="4038480"/>
          <a:ext cx="1676160" cy="1133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4038480"/>
                    <a:ext cx="167616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2057400" y="1143000"/>
          <a:ext cx="5943600" cy="26193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1143000"/>
                    <a:ext cx="594360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8" name=""/>
          <p:cNvGraphicFramePr/>
          <p:nvPr/>
        </p:nvGraphicFramePr>
        <p:xfrm>
          <a:off x="1905120" y="4114800"/>
          <a:ext cx="2825640" cy="1274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4114800"/>
                    <a:ext cx="282564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"/>
          <p:cNvGraphicFramePr/>
          <p:nvPr/>
        </p:nvGraphicFramePr>
        <p:xfrm>
          <a:off x="5334120" y="5181480"/>
          <a:ext cx="3047760" cy="13748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7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34120" y="5181480"/>
                    <a:ext cx="3047760" cy="13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6" dur="indefinite" restart="never" nodeType="tmRoot">
          <p:childTnLst>
            <p:seq>
              <p:cTn id="1587" dur="indefinite" nodeType="mainSeq">
                <p:childTnLst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914400" y="11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son (1971) demostró qu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2971800" y="1752480"/>
                <a:ext cx="22096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>
            <a:off x="1066680" y="3200400"/>
            <a:ext cx="7696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W: entropía = número de microestados asociados al mesoestado {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380880" y="4572000"/>
                <a:ext cx="83822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0" dur="indefinite" restart="never" nodeType="tmRoot">
          <p:childTnLst>
            <p:seq>
              <p:cTn id="1631" dur="indefinite" nodeType="mainSeq">
                <p:childTnLst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914400" y="11430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ad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E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ás probable ==&gt; maximizar W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2971800" y="1752480"/>
                <a:ext cx="220968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0" name=""/>
          <p:cNvSpPr/>
          <p:nvPr/>
        </p:nvSpPr>
        <p:spPr>
          <a:xfrm>
            <a:off x="1066680" y="3200400"/>
            <a:ext cx="7696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unción difícil de optimiz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aproximación de Stirl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n (N!) ~ N ln N - N     (para N grande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209680" y="190512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685800" y="5334120"/>
                <a:ext cx="243828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3809880" y="5410080"/>
                <a:ext cx="548640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!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</m:e>
                            </m:nary>
                          </m:e>
                        </m:nary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!</m:t>
                        </m:r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4" name=""/>
          <p:cNvSpPr/>
          <p:nvPr/>
        </p:nvSpPr>
        <p:spPr>
          <a:xfrm rot="5350800">
            <a:off x="3161880" y="5524200"/>
            <a:ext cx="304560" cy="381240"/>
          </a:xfrm>
          <a:prstGeom prst="upDownArrow">
            <a:avLst>
              <a:gd name="adj1" fmla="val 50000"/>
              <a:gd name="adj2" fmla="val 2491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657600" y="6172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6" dur="indefinite" restart="never" nodeType="tmRoot">
          <p:childTnLst>
            <p:seq>
              <p:cTn id="1657" dur="indefinite" nodeType="mainSeq">
                <p:childTnLst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fill="hold">
                            <p:stCondLst>
                              <p:cond delay="500"/>
                            </p:stCondLst>
                            <p:childTnLst>
                              <p:par>
                                <p:cTn id="16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 . .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533520" y="2819520"/>
                <a:ext cx="30477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533520" y="1752480"/>
                <a:ext cx="304776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0" name=""/>
          <p:cNvSpPr/>
          <p:nvPr/>
        </p:nvSpPr>
        <p:spPr>
          <a:xfrm>
            <a:off x="3962520" y="2133720"/>
            <a:ext cx="495288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maximización de la entropía doblemente acotado con restricción de cos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33520" y="4114800"/>
            <a:ext cx="84582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gual a gravita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quiere calibra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dado que no conocemos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7" dur="indefinite" restart="never" nodeType="tmRoot">
          <p:childTnLst>
            <p:seq>
              <p:cTn id="1718" dur="indefinite" nodeType="mainSeq">
                <p:childTnLst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914400" y="1143000"/>
            <a:ext cx="76960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co de mode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modificaciones: agregar o quitar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orí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mplemente acotado a dest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ac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6386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7" dur="indefinite" restart="never" nodeType="tmRoot">
          <p:childTnLst>
            <p:seq>
              <p:cTn id="1768" dur="indefinite" nodeType="mainSeq">
                <p:childTnLst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066680" y="457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Distribu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1371600"/>
            <a:ext cx="8229600" cy="57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formación disponi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{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..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, {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..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, 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atriz anterior (actual) {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sto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Métodos de Factor de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actor de crecimiento UNIFO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utiliza información de variación e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4267080" y="2438280"/>
                <a:ext cx="308628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98" name=""/>
          <p:cNvSpPr/>
          <p:nvPr/>
        </p:nvSpPr>
        <p:spPr>
          <a:xfrm>
            <a:off x="380880" y="3352680"/>
            <a:ext cx="853452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1) n=0 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/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2) n=n+1 calcular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, calcular c(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, comparar con 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on parecidos parar, si no, ir a paso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3) cal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2133720" y="5105520"/>
                <a:ext cx="670536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obs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0" name=""/>
          <p:cNvSpPr/>
          <p:nvPr/>
        </p:nvSpPr>
        <p:spPr>
          <a:xfrm>
            <a:off x="690840" y="1066680"/>
            <a:ext cx="465516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S(~W) s.a. O, D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A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exp(-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libración 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método               de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80880" y="60199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4) repetir 2 y 3 hasta conver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7" dur="indefinite" restart="never" nodeType="tmRoot">
          <p:childTnLst>
            <p:seq>
              <p:cTn id="1818" dur="indefinite" nodeType="mainSeq">
                <p:childTnLst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Máxima Entrop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914400" y="1143000"/>
            <a:ext cx="7696080" cy="51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co de mode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Restricciones adi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a pri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eos de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6386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deriv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5" dur="indefinite" restart="never" nodeType="tmRoot">
          <p:childTnLst>
            <p:seq>
              <p:cTn id="1886" dur="indefinite" nodeType="mainSeq">
                <p:childTnLst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7" dur="500" fill="hold"/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8" dur="500" fill="hold"/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3" dur="500" fill="hold"/>
                                        <p:tgtEl>
                                          <p:spTgt spid="6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4" dur="500" fill="hold"/>
                                        <p:tgtEl>
                                          <p:spTgt spid="6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1701720" y="1255680"/>
            <a:ext cx="5251680" cy="560232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3576600" y="2259000"/>
            <a:ext cx="790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N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52920" y="5530680"/>
            <a:ext cx="7779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261040" y="5211720"/>
            <a:ext cx="1392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SUR-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562120" y="4483080"/>
            <a:ext cx="1033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O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213520" y="3017880"/>
            <a:ext cx="936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86200" y="3962520"/>
            <a:ext cx="865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CEN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535040" y="88920"/>
            <a:ext cx="67532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Times New Roman"/>
              </a:rPr>
              <a:t>Santiago en Seis Grandes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>
            <a:hlinkClick r:id="" action="ppaction://hlinkshowjump?jump=previousslide"/>
          </p:cNvPr>
          <p:cNvSpPr/>
          <p:nvPr/>
        </p:nvSpPr>
        <p:spPr>
          <a:xfrm>
            <a:off x="8381880" y="685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96920" y="1989000"/>
            <a:ext cx="170172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: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01.4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89.4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: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.360.0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5" name=""/>
          <p:cNvCxnSpPr>
            <a:stCxn id="614" idx="3"/>
          </p:cNvCxnSpPr>
          <p:nvPr/>
        </p:nvCxnSpPr>
        <p:spPr>
          <a:xfrm flipV="1">
            <a:off x="1898640" y="2350440"/>
            <a:ext cx="184392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6" name=""/>
          <p:cNvSpPr/>
          <p:nvPr/>
        </p:nvSpPr>
        <p:spPr>
          <a:xfrm>
            <a:off x="7315200" y="1523880"/>
            <a:ext cx="1828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58.805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75.208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      2.444.4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 </a:t>
            </a:r>
            <a:r>
              <a:rPr b="0" lang="es-ES_tradnl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6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60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28600" y="3657600"/>
            <a:ext cx="183528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14.2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218.1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664.8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98360" y="5191200"/>
            <a:ext cx="1720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34.58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345.3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730.2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711840" y="3355920"/>
            <a:ext cx="190512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8.936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06.044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684.368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162920" y="5257800"/>
            <a:ext cx="1828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25.88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210.8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596.9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1" name=""/>
          <p:cNvCxnSpPr>
            <a:stCxn id="617" idx="3"/>
            <a:endCxn id="609" idx="1"/>
          </p:cNvCxnSpPr>
          <p:nvPr/>
        </p:nvCxnSpPr>
        <p:spPr>
          <a:xfrm>
            <a:off x="2063880" y="4356000"/>
            <a:ext cx="498960" cy="27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2" name=""/>
          <p:cNvCxnSpPr>
            <a:stCxn id="618" idx="3"/>
            <a:endCxn id="607" idx="1"/>
          </p:cNvCxnSpPr>
          <p:nvPr/>
        </p:nvCxnSpPr>
        <p:spPr>
          <a:xfrm flipV="1">
            <a:off x="1919160" y="5673240"/>
            <a:ext cx="17344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20" idx="1"/>
          </p:cNvCxnSpPr>
          <p:nvPr/>
        </p:nvCxnSpPr>
        <p:spPr>
          <a:xfrm flipH="1" flipV="1">
            <a:off x="6322320" y="5484240"/>
            <a:ext cx="840600" cy="47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16" idx="1"/>
          </p:cNvCxnSpPr>
          <p:nvPr/>
        </p:nvCxnSpPr>
        <p:spPr>
          <a:xfrm flipH="1">
            <a:off x="5881320" y="2222280"/>
            <a:ext cx="1434240" cy="80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endCxn id="611" idx="3"/>
          </p:cNvCxnSpPr>
          <p:nvPr/>
        </p:nvCxnSpPr>
        <p:spPr>
          <a:xfrm flipH="1">
            <a:off x="4750920" y="4063680"/>
            <a:ext cx="1612080" cy="4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0880" y="1219320"/>
            <a:ext cx="822960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étodos simplemente aco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ígen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029200" y="1676520"/>
                <a:ext cx="140328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380880" y="304812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stino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5105520" y="2919240"/>
                <a:ext cx="141588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Se cumplen las restricciones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976320" y="5029200"/>
                <a:ext cx="17827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249800" y="5029200"/>
                <a:ext cx="194004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1219320"/>
            <a:ext cx="82296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ormación disponi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114800" y="1828800"/>
          <a:ext cx="229536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828800"/>
                    <a:ext cx="229536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380880" y="2133720"/>
            <a:ext cx="350532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futuro = 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38480" y="1295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riz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6400800" y="1295280"/>
          <a:ext cx="771480" cy="2067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12952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6400800" y="3352680"/>
          <a:ext cx="77148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3352680"/>
                    <a:ext cx="7714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533520" y="3429000"/>
            <a:ext cx="312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=(69/51)=1,35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304920" y="4572000"/>
          <a:ext cx="2409840" cy="15526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572000"/>
                    <a:ext cx="24098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2743200" y="4038480"/>
          <a:ext cx="857160" cy="25815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4038480"/>
                    <a:ext cx="85716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4572000" y="4191120"/>
          <a:ext cx="771480" cy="2066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4191120"/>
                    <a:ext cx="7714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5638680" y="41911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ción 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5638680" y="4724280"/>
          <a:ext cx="2295720" cy="15526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38680" y="4724280"/>
                    <a:ext cx="22957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7696080" y="1295280"/>
          <a:ext cx="876600" cy="2581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96080" y="1295280"/>
                    <a:ext cx="876600" cy="25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8001000" y="4191120"/>
          <a:ext cx="771480" cy="258120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001000" y="4191120"/>
                    <a:ext cx="77148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1219320"/>
            <a:ext cx="8229600" cy="25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étodos doblemente aco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si además tengo información de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F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actor promed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4114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nuestro ejempl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4038480" y="2743200"/>
                <a:ext cx="228600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1295280" y="838080"/>
          <a:ext cx="2409840" cy="15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838080"/>
                    <a:ext cx="24098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3733920" y="304920"/>
          <a:ext cx="857160" cy="206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304920"/>
                    <a:ext cx="85716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533520" y="2438280"/>
          <a:ext cx="3162240" cy="524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2438280"/>
                    <a:ext cx="316224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4648320" y="304920"/>
          <a:ext cx="876240" cy="2066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304920"/>
                    <a:ext cx="87624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380880" y="2971800"/>
          <a:ext cx="3295800" cy="5238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880" y="2971800"/>
                    <a:ext cx="32958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5562720" y="304920"/>
          <a:ext cx="771480" cy="2066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304920"/>
                    <a:ext cx="7714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380880" y="3505320"/>
          <a:ext cx="3295800" cy="52380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0880" y="3505320"/>
                    <a:ext cx="32958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"/>
          <p:cNvSpPr/>
          <p:nvPr/>
        </p:nvSpPr>
        <p:spPr>
          <a:xfrm>
            <a:off x="380880" y="2286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295280" y="4800600"/>
          <a:ext cx="2295720" cy="155268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95280" y="4800600"/>
                    <a:ext cx="22957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2057400" y="4267080"/>
          <a:ext cx="771480" cy="52416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057400" y="4267080"/>
                    <a:ext cx="7714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4876920" y="3124080"/>
          <a:ext cx="2295360" cy="206712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876920" y="3124080"/>
                    <a:ext cx="22953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 flipV="1">
            <a:off x="3886200" y="4191120"/>
            <a:ext cx="6094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7238880" y="3124080"/>
          <a:ext cx="771480" cy="206712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238880" y="31240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4114800" y="5257800"/>
          <a:ext cx="3819600" cy="52380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114800" y="5257800"/>
                    <a:ext cx="38196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Distribución de Viajes: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0880" y="1219320"/>
            <a:ext cx="876312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--&gt; factor promedio: no se cumple ninguna de las dos familias de restri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itera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ay distintos métodos que se puede us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étodo de Furness :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·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1.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1, encontrar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2. Usando esos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encontrar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3. Usando esos b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encontrar 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tal que se cumpla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petir hasta converg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914400" y="838080"/>
          <a:ext cx="229536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838080"/>
                    <a:ext cx="22953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3200400" y="838080"/>
          <a:ext cx="1533600" cy="2067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838080"/>
                    <a:ext cx="153360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152280" y="2895480"/>
          <a:ext cx="3819600" cy="1038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2895480"/>
                    <a:ext cx="381960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724280" y="838080"/>
          <a:ext cx="771480" cy="20671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4280" y="838080"/>
                    <a:ext cx="7714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152280" y="3962520"/>
          <a:ext cx="3059280" cy="52380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280" y="3962520"/>
                    <a:ext cx="30592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152280" y="4495680"/>
          <a:ext cx="3059280" cy="5241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2280" y="4495680"/>
                    <a:ext cx="305928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5651640" y="1341360"/>
          <a:ext cx="3314520" cy="209556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51640" y="1341360"/>
                    <a:ext cx="331452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5143680" y="3936960"/>
          <a:ext cx="3377880" cy="209556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43680" y="3936960"/>
                    <a:ext cx="337788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"/>
          <p:cNvSpPr/>
          <p:nvPr/>
        </p:nvSpPr>
        <p:spPr>
          <a:xfrm>
            <a:off x="228600" y="53341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requiere más iteraciones para converger a dos decimales. Aquí tenemos convergencia a 1 dec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8-08-22T14:13:28Z</dcterms:modified>
  <cp:revision>28</cp:revision>
  <dc:subject/>
  <dc:title>Sin título de diapositiva</dc:title>
</cp:coreProperties>
</file>