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AFE-0031-4B79-A84D-DAB39A6F18A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35F-7BFA-44CD-99C9-DDB4A55F93B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2B1-63F4-4AAD-B8B6-9E2CB7C9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F0D-AEDC-4020-852D-CC6813B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A75-DEC7-4079-8F95-AD897471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55C-9F5B-4C40-B99D-C67AB6C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528-7189-4305-A2E6-9AC1BDB4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B55E-64E4-43E5-A1C9-9612042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791C-0C0B-406E-93D6-AA9CCEB0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7B83-4F65-47F2-9018-78533069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8CF-0DDE-479B-B793-62AE396C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8E4-05CD-4CEC-90D0-2DDAF8C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1754-8802-45F6-9BA1-1AE3DBF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F0F-4DCD-455A-80BD-38E8F5D9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D1C-D98D-4974-8460-9A13953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31C0-0229-4838-B8BB-446E1EE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2AE7-CCAE-4644-A4F6-2D79137D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1772-A2F5-4306-83DD-27CC8957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F3E0-2EB6-4506-92F3-A8C30224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2091-2920-44A9-942D-CD0CD66C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C8B4-7342-4F66-BDFB-CB20DB2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DBD3-C2E5-43AA-AD05-0495ED48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0284-0DC6-4BAF-B4DE-FFE1D615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2881-6079-4FDD-B81A-2FB896FB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75D-97F1-485F-B215-75F71A06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06F1-F44F-4387-8C30-C19A0E93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DEFA-FEB5-4920-91A4-3030FB3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AC9B-D695-40A4-8C07-8BEA7FE4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2DF3-D6BB-4C93-9CAB-B0087AD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1B74-E974-4791-9A1E-4E65BE83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D9E9-18AF-4883-9CC4-143EA76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1FB5-885B-4B21-8574-20C7C36F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F6C7-C57A-4E03-8073-E01435BF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A0E2-BABD-49AD-B648-007FBDB6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6D19-BCCF-42BE-8ABA-9506D074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2E9-1881-4854-9134-F55C176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0B2BB-C253-4CC3-BE50-724417A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A648-7E08-40E9-A83F-50D915A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8D15-30F1-4311-8832-0A32FFD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E710-983E-4257-94ED-995A5A4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C9A0-5795-4307-94D8-16060D83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F851-6D1D-46AC-9373-C991F0F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0DA0-158E-434B-BCC6-C291D3DB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5760-69B3-469E-B08A-A91F3246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0130-5C86-43A5-A35A-3AA78DC4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DE95-0C8C-41B8-B9C1-DEA6BD02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BF1-14F1-463F-9642-8AF201F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061B-D646-4CE7-A257-5D2DF2F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0FB3-4A09-43CA-B392-AD733371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F3F0-3D53-451B-92B3-ACD9B9F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406F-6B06-4861-BEA5-9A0005B0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7FDA6-7CFE-4C97-84B7-9EAB6DA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8C6F-467C-42D1-BADB-6D463B57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8FFD-170E-4371-88C1-699E366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5C3C-9898-44AC-AAB0-D28F481A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64AC6-2536-4C3A-99BC-F1A3087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0211-8A1C-4BFE-86CD-CBEA9194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E3B-BEC3-4BA2-B702-08CA9C5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3F39-6E87-4371-A3F8-A8CF1733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3FD0-D7A6-469B-8C0C-2E246DB2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CCE8-02AF-4A47-9FDD-F94234B2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D9A70-9431-4A9E-B548-9CB26167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94F72-2198-4296-AF87-0770E1F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3FCE-8F42-47D1-8C5E-13D2FD74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D666-FAB9-4DBA-9221-D5059D0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E212-00AB-4AB0-9DDA-313E7C3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68415-396D-4F14-9EA0-E608D296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F9CFA-A56C-4C71-AB1C-E32A371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21E-0BA3-4946-9739-174AB10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4BFC-DE1D-4A5B-AED0-65C02C7E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FA591-7969-4449-88A7-2174F493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A9C1-E4A9-483F-B6D2-590CADA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BA46-658B-4D6E-9AD7-7FD8CEA8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D356-7443-4DF5-914F-884E309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EA40-22F3-4D0F-B9AB-184E0767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0401-529E-4753-B26F-94E2E6E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9C0B1-4B5E-4DF0-B971-A821A56B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DAE2-75BC-4B11-8419-5220CCC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B1FBF-D07A-43F2-8B82-8199C8E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3A6-46D8-4E90-8CFB-B76BA97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23CE-C657-41E6-9BB8-9A032DA9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F9BE6-2687-4CCF-9856-28ABC418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D0C10-16AD-490B-90E6-CFEA40F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8611-7C02-4D74-84D9-0F41DE08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7C2B-D1B8-4923-B36E-0E91C9A8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917-4485-40CF-BA53-48D8683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3FE9-C663-42E1-B78D-075D451BA1D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3439-3991-4A17-B0E5-E8F34C2AC28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4F7-02D2-4155-8BF3-2544DB9CBA0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6200-3BEF-46A0-A36E-503C06D4F02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9D3E-EB3C-4963-B672-2322EC38003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A7F4-DE6F-48A9-920E-FAD48AD9685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D624-10E1-4FE2-97C3-FC5C50B05D2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3 CI43A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Generación de Viajes: Método de regresión lineal múltip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nalizar modelos de generación de viajes no basados en el hogar, aplicarlos y comentar su capacidad de predi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Modelos: se cuenta con modelos calibrados para la ciudad de Puerto Montt, obtenidos a partir de la encuesta origen-destino del año 199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361080" indent="-27972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rchivos adjuntos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03360" indent="-279720">
              <a:spcBef>
                <a:spcPts val="601"/>
              </a:spcBef>
              <a:spcAft>
                <a:spcPts val="601"/>
              </a:spcAft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Base de datos correspondiente a estimaciones de escenarios futuros de Puerto Mont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2"/>
          <p:cNvGraphicFramePr/>
          <p:nvPr/>
        </p:nvGraphicFramePr>
        <p:xfrm>
          <a:off x="2357280" y="1357200"/>
          <a:ext cx="5191200" cy="49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357200"/>
                    <a:ext cx="51912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2"/>
          <p:cNvGraphicFramePr/>
          <p:nvPr/>
        </p:nvGraphicFramePr>
        <p:xfrm>
          <a:off x="2357280" y="1428840"/>
          <a:ext cx="5259600" cy="51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1428840"/>
                    <a:ext cx="5259600" cy="51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nalice cada uno de los modelos considerando los siguientes aspec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Por qué cada variable podría explicar (o no) la generación de viaj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Tiene sentido la magnitud y signo del parámetro asociado a cada variab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Son las variables estadísticamente significativas? ¿y el modelo en su conjunt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28480" y="1447920"/>
            <a:ext cx="7505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zando la base de datos disponible compare los resultados de generación de viajes no basados en el hogar por propósito trabajo en punta mañana y fuera de punta para las zonas 1 y 2 para los escenarios futuros disponib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ente acerca de la capacidad de predicción de los modelos. ¿Tiene sentido la diferencia entre la cantidad de viajes generados en cada cas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s zonas 1 y 2 corresponden a un sector del centro de la ciu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os escenarios 1 y 2 son estimaciones de las variables en los años 2003 y 2023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3 sección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20T06:45:35Z</dcterms:modified>
  <cp:revision>25</cp:revision>
  <dc:subject/>
  <dc:title>Taller I CI43A</dc:title>
</cp:coreProperties>
</file>