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A901-AAF3-42B3-81C1-4353C46B581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A305-EECF-462E-9D33-5399CA02B92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915-3AE5-416E-91E8-0CD9C7D9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062-730D-4501-94BD-B08AFD6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A46-1E52-4191-99F5-A762EF70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70B-A9F5-4F1F-AFA3-AB3ED4D2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858D-F49A-4983-BA9A-9360C20C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AE90-249E-40D0-B282-F4F2536D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D504-FCE0-497A-949F-0A07294D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BE4A-C06B-4378-930D-153556A7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F32-CCEB-45AC-BE20-C580364B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2180-004D-431D-8D9D-7A97A9DE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D79E-2DFF-46F4-8D01-A2D48E35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7B1-5EE6-4522-A5D6-264B859F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1557-4638-41A2-AF15-34782BCE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22E0-267D-4FB5-898A-FFC91C9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4B6F-6ECB-45C0-ACB4-1F40A048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CC1B-30F3-405D-9CF2-B4375E03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0155-E4B7-48E0-A12E-A93DEB43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2EFC-51D8-4922-B75E-0206005A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0071-4AE7-48BA-9271-D263A05E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5469-704F-4FF2-9D4A-305DB6F2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50B9-4AE8-47A1-AF58-2B99E98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F3DA-3194-49DE-B033-A5D64C09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610-1A5D-46C2-88DF-76EA3CB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48A6-FEB3-4666-AD61-329DDFCB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B4E7-8A8F-4C03-A35D-60DE4A5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8FD0-88D1-4921-A619-ADAB0D55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8E79-CAC9-4091-94B8-25E3DD97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1012-9D82-404A-9E8F-02E52329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BC59-A8DA-4EF7-8AE8-C5C693AE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4A7A-2A4A-446B-A7B2-80F7D8AB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CF2A-1719-4EA1-92F8-25B8FD7F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84C9-2A39-432B-8988-FE65E271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DC68-4A1B-4D89-9393-961066E1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D10-5B8A-4E1D-AE5A-F0CFE7CB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4162C-4AD5-4C68-AA34-633D6519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6071-339C-46AE-92D1-1592B646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26FB6-1130-41E6-83C5-D7678242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6B1B-6C09-4120-A61D-76BBC1C6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A483-E9C0-4069-8BDB-9B4FA14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086D-815A-42C2-9EA6-5723A75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867D-A94D-460F-A904-2DB63F3F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9BC3-BAC9-4736-BDC0-FF2149A8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926A-13FA-41EA-8825-0E25DCB9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20D87-F1F9-4F1F-A445-01021759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246-09F9-44BF-BF7E-A72E4F59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0D70E-24C2-4F85-8605-9AD10ECF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B0C2-9C66-4C30-99C8-35041E90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2B4C-D996-4FB8-AE98-491AEAC7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3C711-6B11-4C58-B0F9-A8A89F9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F96FC-D0AD-47B3-94AE-5C34769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62AD5-634A-4DF5-8422-C106AFE0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8D87-68C8-42DB-8CB3-6E2D023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7A8CF-AC1D-4D8F-BF51-24FD106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21569-10C0-49E5-AA81-91A80720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8FA1-C5D2-4C7C-BCF4-168F287B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6EA-F831-4926-B1D0-29BB0ECF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F6292-64F3-44A0-9836-22ECD1C2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90F4-1E39-4067-891F-A5E7630E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ADD7-6BAE-4B05-BA67-D8D38AAC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89471-F7BC-4EEB-B050-ECD5D85A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C2A49-B943-464C-AB64-75E330B9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28DB7-7732-4106-900B-14723BCA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0D4E-A94E-45D3-9BDE-65066C69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EB46B-6B2B-452F-BFD5-FB59DB8E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092DA-BC80-474F-B1C8-9AF41CE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C7206-998C-4D2E-8C35-2380A71D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348-3E49-4DD8-8C0B-11C59C10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70A79-FC2E-4810-ABBD-05C56C7D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8783-A8C6-43CD-83FD-A534B295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C7CC5-A973-49EE-B414-DCFBBED1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CC28E-9627-49B1-A585-72E653A2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725AD-1A4A-42A3-AD70-FE2D8B63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676C9-1CA2-4159-9CA2-A19899AF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9141-D359-4B00-9BCF-7724884C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6A5DF-D857-40E1-967A-AA51DE04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FA71-4E1B-4FFA-9AC5-C03F7286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66E85-ADBC-4953-8E81-A95BBB9E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314-E736-415B-8DB1-0F48ED88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87D19-30BC-4D8D-B627-63D73BA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DD8BD-69FA-40C6-B19C-119D7EC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FFFE2-64D1-4F71-AD3C-8FE95028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9FB58-5713-48D0-B329-9E08FC75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CA898-39E1-4A7A-9436-F2829F5E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964-47C3-4AA2-8B64-D00B85D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D0E-969F-4F7C-A46D-ACAA7306009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2235-B699-4695-9307-28A3037C891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B953-5070-402D-AD30-B8932F0AF66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F4CD-00D9-4EE2-B0BA-77BDFA614F3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5D4E-5598-4705-BDAC-EA75A2097BB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6DE-FCE0-41D0-8984-88072F81954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57A6-FBD7-4D4F-9388-3F17C0FEC80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 CI43A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Generación de Viajes: Método de regresión lineal múltip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nalizar modelos de generación de viajes no basados en el hogar, aplicarlos y comentar su capacidad de predi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odelos: se cuenta con modelos calibrados para la ciudad de Puerto Montt, obtenidos a partir de la encuesta origen-destino del año 199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rchivos adjuntos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03360" indent="-279720"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Base de datos correspondiente a estimaciones de escenarios futuros de Puerto Mont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2"/>
          <p:cNvGraphicFramePr/>
          <p:nvPr/>
        </p:nvGraphicFramePr>
        <p:xfrm>
          <a:off x="2357280" y="1357200"/>
          <a:ext cx="5191200" cy="49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357200"/>
                    <a:ext cx="51912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Object 2"/>
          <p:cNvGraphicFramePr/>
          <p:nvPr/>
        </p:nvGraphicFramePr>
        <p:xfrm>
          <a:off x="2357280" y="1428840"/>
          <a:ext cx="5259600" cy="51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428840"/>
                    <a:ext cx="525960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nalice cada uno de los modelos considerando los siguientes aspec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Por qué cada variable podría explicar (o no) la generación de viaj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Tiene sentido la magnitud y signo del parámetro asociado a cada variab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Son las variables estadísticamente significativas? ¿y el modelo en su conjunt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28480" y="1447920"/>
            <a:ext cx="7505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zando la base de datos disponible compare los resultados de generación de viajes no basados en el hogar por propósito trabajo en punta mañana y fuera de punta para las zonas 1 y 2 para los escenarios futuros disponibl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ente acerca de la capacidad de predicción de los modelos. ¿Tiene sentido la diferencia entre la cantidad de viajes generados en cada cas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zonas 1 y 2 corresponden a un sector del centro de la ciu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os escenarios 1 y 2 son estimaciones de las variables en los años 2003 y 2023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3 sección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20T06:45:35Z</dcterms:modified>
  <cp:revision>25</cp:revision>
  <dc:subject/>
  <dc:title>Taller I CI43A</dc:title>
</cp:coreProperties>
</file>