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7E4D-0DA2-48F8-B044-362E82C52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A395-70CF-439D-9D74-CB46E1589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5D2A-8A02-4A83-A974-80837E9CC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C78A-C414-487D-9017-D5B35532B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7DF7-CA23-41FC-A0AA-660A722E9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C0AE-04F9-4205-A1D9-E27E7D120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71F0-0250-4F1F-BFEF-C1461F112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8450-EB5B-4328-9143-DC24B2625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E703-178D-4D37-B807-3ADD7E75A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F7F7-8105-42C2-8170-6562DFB2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D263-E9F8-449E-822C-A502DBA0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00DA-9E5F-4055-B8CB-F028BEEE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FA42A-5908-4B24-A21D-8D94E0BBCF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C:\MussaD\Programa\Mussa.exe" TargetMode="External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2286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90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Loc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1676520" y="34290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914400"/>
            <a:ext cx="2057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2514600" y="12193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361960" y="1219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38480" y="9144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inta et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10666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2133720"/>
            <a:ext cx="46479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tros eleme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ternalidades - impacto ambi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stema de activ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9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30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3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4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45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600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650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-152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quilibrio del hog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14720" y="954360"/>
            <a:ext cx="4949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ocalización de equilibrio individual condicional en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y, P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, 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49640" y="600696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49640" y="5738760"/>
            <a:ext cx="3236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62600" y="607392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60000">
            <a:off x="1658880" y="651240"/>
            <a:ext cx="10657440" cy="481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99560" y="5252760"/>
            <a:ext cx="77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14600" y="434340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363400" y="58662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514600" y="3200400"/>
            <a:ext cx="914400" cy="99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447560" y="43434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59400" y="4012200"/>
            <a:ext cx="58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60000">
            <a:off x="1811520" y="384120"/>
            <a:ext cx="10658520" cy="481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066680" y="2362320"/>
            <a:ext cx="6204960" cy="3978720"/>
            <a:chOff x="1066680" y="2362320"/>
            <a:chExt cx="6204960" cy="3978720"/>
          </a:xfrm>
        </p:grpSpPr>
        <p:sp>
          <p:nvSpPr>
            <p:cNvPr id="150" name=""/>
            <p:cNvSpPr/>
            <p:nvPr/>
          </p:nvSpPr>
          <p:spPr>
            <a:xfrm>
              <a:off x="1430280" y="2673360"/>
              <a:ext cx="0" cy="327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436760" y="5954760"/>
              <a:ext cx="582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188400" y="4570920"/>
              <a:ext cx="62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</a:rPr>
                <a:t>p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66680" y="236232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987960" y="5886360"/>
              <a:ext cx="283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133720" y="2895480"/>
              <a:ext cx="4267080" cy="2133720"/>
            </a:xfrm>
            <a:custGeom>
              <a:avLst/>
              <a:gdLst/>
              <a:ahLst/>
              <a:rect l="l" t="t" r="r" b="b"/>
              <a:pathLst>
                <a:path w="2688" h="1344">
                  <a:moveTo>
                    <a:pt x="0" y="0"/>
                  </a:moveTo>
                  <a:cubicBezTo>
                    <a:pt x="4" y="168"/>
                    <a:pt x="8" y="336"/>
                    <a:pt x="48" y="480"/>
                  </a:cubicBezTo>
                  <a:cubicBezTo>
                    <a:pt x="88" y="624"/>
                    <a:pt x="108" y="762"/>
                    <a:pt x="240" y="864"/>
                  </a:cubicBezTo>
                  <a:cubicBezTo>
                    <a:pt x="372" y="966"/>
                    <a:pt x="586" y="1031"/>
                    <a:pt x="842" y="1095"/>
                  </a:cubicBezTo>
                  <a:cubicBezTo>
                    <a:pt x="1098" y="1159"/>
                    <a:pt x="1468" y="1207"/>
                    <a:pt x="1776" y="1248"/>
                  </a:cubicBezTo>
                  <a:cubicBezTo>
                    <a:pt x="2084" y="1289"/>
                    <a:pt x="2528" y="1328"/>
                    <a:pt x="2688" y="1344"/>
                  </a:cubicBezTo>
                </a:path>
              </a:pathLst>
            </a:custGeom>
            <a:noFill/>
            <a:ln w="572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7252200" y="4947840"/>
            <a:ext cx="77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503720" y="901080"/>
            <a:ext cx="10740600" cy="5092200"/>
            <a:chOff x="1503720" y="901080"/>
            <a:chExt cx="10740600" cy="5092200"/>
          </a:xfrm>
        </p:grpSpPr>
        <p:sp>
          <p:nvSpPr>
            <p:cNvPr id="158" name=""/>
            <p:cNvSpPr/>
            <p:nvPr/>
          </p:nvSpPr>
          <p:spPr>
            <a:xfrm rot="60000">
              <a:off x="1544760" y="993600"/>
              <a:ext cx="10658520" cy="481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7" y="21600"/>
                  </a:moveTo>
                  <a:arcTo wR="10800" hR="10800" stAng="5400934" swAng="5401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7" y="21600"/>
                  </a:moveTo>
                  <a:arcTo wR="10800" hR="10800" stAng="5400934" swAng="5401063"/>
                </a:path>
              </a:pathLst>
            </a:custGeom>
            <a:noFill/>
            <a:ln cap="rnd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128720" y="5587560"/>
              <a:ext cx="714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(u</a:t>
              </a:r>
              <a:r>
                <a:rPr b="1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509200" y="2818440"/>
            <a:ext cx="3681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Localización óptima: máxima 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197480" y="4164840"/>
            <a:ext cx="1315080" cy="510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&gt;u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&gt;u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Modelo estático de Santia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rId1"/>
          </p:cNvPr>
          <p:cNvSpPr/>
          <p:nvPr/>
        </p:nvSpPr>
        <p:spPr>
          <a:xfrm>
            <a:off x="3059280" y="3621240"/>
            <a:ext cx="3743280" cy="1320480"/>
          </a:xfrm>
          <a:custGeom>
            <a:avLst/>
            <a:gdLst>
              <a:gd name="textAreaLeft" fmla="*/ 85320 w 3743280"/>
              <a:gd name="textAreaRight" fmla="*/ 3657960 w 3743280"/>
              <a:gd name="textAreaTop" fmla="*/ 85320 h 1320480"/>
              <a:gd name="textAreaBottom" fmla="*/ 1235160 h 1320480"/>
            </a:gdLst>
            <a:ahLst/>
            <a:rect l="textAreaLeft" t="textAreaTop" r="textAreaRight" b="textAreaBottom"/>
            <a:pathLst>
              <a:path w="61221" h="21600">
                <a:moveTo>
                  <a:pt x="0" y="0"/>
                </a:moveTo>
                <a:lnTo>
                  <a:pt x="61221" y="0"/>
                </a:lnTo>
                <a:lnTo>
                  <a:pt x="61221" y="21600"/>
                </a:lnTo>
                <a:lnTo>
                  <a:pt x="0" y="21600"/>
                </a:lnTo>
                <a:close/>
              </a:path>
              <a:path fill="lightenLess" w="61221" h="21600">
                <a:moveTo>
                  <a:pt x="0" y="0"/>
                </a:moveTo>
                <a:lnTo>
                  <a:pt x="61221" y="0"/>
                </a:lnTo>
                <a:lnTo>
                  <a:pt x="59821" y="1400"/>
                </a:lnTo>
                <a:lnTo>
                  <a:pt x="1400" y="1400"/>
                </a:lnTo>
                <a:close/>
              </a:path>
              <a:path fill="darken" w="61221" h="21600">
                <a:moveTo>
                  <a:pt x="61221" y="0"/>
                </a:moveTo>
                <a:lnTo>
                  <a:pt x="61221" y="21600"/>
                </a:lnTo>
                <a:lnTo>
                  <a:pt x="59821" y="20200"/>
                </a:lnTo>
                <a:lnTo>
                  <a:pt x="59821" y="1400"/>
                </a:lnTo>
                <a:close/>
              </a:path>
              <a:path fill="darkenLess" w="61221" h="21600">
                <a:moveTo>
                  <a:pt x="612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821" y="20200"/>
                </a:lnTo>
                <a:close/>
              </a:path>
              <a:path fill="lighten" w="612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1221" h="21600">
                <a:moveTo>
                  <a:pt x="23604" y="3794"/>
                </a:moveTo>
                <a:lnTo>
                  <a:pt x="37617" y="10800"/>
                </a:lnTo>
                <a:lnTo>
                  <a:pt x="2360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19360" y="2252520"/>
            <a:ext cx="512136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s-CL" sz="2800" spc="-1" strike="noStrike">
                <a:solidFill>
                  <a:srgbClr val="000000"/>
                </a:solidFill>
                <a:latin typeface="Times New Roman"/>
              </a:rPr>
              <a:t>www.MUSSA.CL   Vid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15238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e qué depende?                   Enfoque Manheim      Mercados pun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28195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3809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er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3809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57600" y="2819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2743200"/>
            <a:ext cx="14475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2120" y="3733920"/>
            <a:ext cx="14475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57600" y="3733920"/>
            <a:ext cx="1447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57600" y="2743200"/>
            <a:ext cx="1447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09680" y="3200400"/>
            <a:ext cx="381240" cy="76320"/>
          </a:xfrm>
          <a:prstGeom prst="lef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09680" y="4191120"/>
            <a:ext cx="381240" cy="75960"/>
          </a:xfrm>
          <a:prstGeom prst="leftArrow">
            <a:avLst>
              <a:gd name="adj1" fmla="val 50000"/>
              <a:gd name="adj2" fmla="val 12547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276720" y="4191120"/>
            <a:ext cx="380880" cy="75960"/>
          </a:xfrm>
          <a:prstGeom prst="leftArrow">
            <a:avLst>
              <a:gd name="adj1" fmla="val 50000"/>
              <a:gd name="adj2" fmla="val 12535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76720" y="320040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09680" y="2895480"/>
            <a:ext cx="381240" cy="76320"/>
          </a:xfrm>
          <a:prstGeom prst="righ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09680" y="3886200"/>
            <a:ext cx="381240" cy="76320"/>
          </a:xfrm>
          <a:prstGeom prst="righ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3886200"/>
            <a:ext cx="380880" cy="76320"/>
          </a:xfrm>
          <a:prstGeom prst="righ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76720" y="2895480"/>
            <a:ext cx="380880" cy="76320"/>
          </a:xfrm>
          <a:prstGeom prst="righ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48769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s: viajes que tienen como origen o como destino el hogar, dependen de las características y actividades de sus habita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943600" y="2438280"/>
            <a:ext cx="2971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gmentar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ós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ra del 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po de pers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500"/>
                            </p:stCondLst>
                            <p:childTnLst>
                              <p:par>
                                <p:cTn id="3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500"/>
                            </p:stCondLst>
                            <p:childTnLst>
                              <p:par>
                                <p:cTn id="3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500"/>
                            </p:stCondLst>
                            <p:childTnLst>
                              <p:par>
                                <p:cTn id="3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45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0"/>
                            </p:stCondLst>
                            <p:childTnLst>
                              <p:par>
                                <p:cTn id="3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500"/>
                            </p:stCondLst>
                            <p:childTnLst>
                              <p:par>
                                <p:cTn id="3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6000"/>
                            </p:stCondLst>
                            <p:childTnLst>
                              <p:par>
                                <p:cTn id="3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500"/>
                            </p:stCondLst>
                            <p:childTnLst>
                              <p:par>
                                <p:cTn id="3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7000"/>
                            </p:stCondLst>
                            <p:childTnLst>
                              <p:par>
                                <p:cTn id="3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7500"/>
                            </p:stCondLst>
                            <p:childTnLst>
                              <p:par>
                                <p:cTn id="3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1371600"/>
            <a:ext cx="327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de qué depen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es model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2514600"/>
            <a:ext cx="4327560" cy="2448000"/>
          </a:xfrm>
          <a:custGeom>
            <a:avLst/>
            <a:gdLst/>
            <a:ahLst/>
            <a:rect l="l" t="t" r="r" b="b"/>
            <a:pathLst>
              <a:path w="2726" h="1542">
                <a:moveTo>
                  <a:pt x="612" y="184"/>
                </a:moveTo>
                <a:cubicBezTo>
                  <a:pt x="608" y="251"/>
                  <a:pt x="617" y="328"/>
                  <a:pt x="579" y="387"/>
                </a:cubicBezTo>
                <a:cubicBezTo>
                  <a:pt x="550" y="504"/>
                  <a:pt x="385" y="457"/>
                  <a:pt x="295" y="460"/>
                </a:cubicBezTo>
                <a:cubicBezTo>
                  <a:pt x="168" y="470"/>
                  <a:pt x="145" y="479"/>
                  <a:pt x="68" y="581"/>
                </a:cubicBezTo>
                <a:cubicBezTo>
                  <a:pt x="47" y="708"/>
                  <a:pt x="0" y="903"/>
                  <a:pt x="125" y="987"/>
                </a:cubicBezTo>
                <a:cubicBezTo>
                  <a:pt x="187" y="1029"/>
                  <a:pt x="296" y="1012"/>
                  <a:pt x="368" y="1019"/>
                </a:cubicBezTo>
                <a:cubicBezTo>
                  <a:pt x="558" y="1114"/>
                  <a:pt x="687" y="1197"/>
                  <a:pt x="887" y="1230"/>
                </a:cubicBezTo>
                <a:cubicBezTo>
                  <a:pt x="1154" y="1319"/>
                  <a:pt x="1381" y="1510"/>
                  <a:pt x="1666" y="1538"/>
                </a:cubicBezTo>
                <a:cubicBezTo>
                  <a:pt x="1712" y="1533"/>
                  <a:pt x="1762" y="1542"/>
                  <a:pt x="1804" y="1522"/>
                </a:cubicBezTo>
                <a:cubicBezTo>
                  <a:pt x="1813" y="1518"/>
                  <a:pt x="1827" y="1427"/>
                  <a:pt x="1828" y="1416"/>
                </a:cubicBezTo>
                <a:cubicBezTo>
                  <a:pt x="1834" y="1373"/>
                  <a:pt x="1844" y="1287"/>
                  <a:pt x="1844" y="1287"/>
                </a:cubicBezTo>
                <a:cubicBezTo>
                  <a:pt x="1847" y="1160"/>
                  <a:pt x="1736" y="957"/>
                  <a:pt x="1852" y="906"/>
                </a:cubicBezTo>
                <a:cubicBezTo>
                  <a:pt x="1954" y="861"/>
                  <a:pt x="2456" y="934"/>
                  <a:pt x="2712" y="970"/>
                </a:cubicBezTo>
                <a:cubicBezTo>
                  <a:pt x="2715" y="946"/>
                  <a:pt x="2726" y="921"/>
                  <a:pt x="2720" y="897"/>
                </a:cubicBezTo>
                <a:cubicBezTo>
                  <a:pt x="2712" y="867"/>
                  <a:pt x="2690" y="841"/>
                  <a:pt x="2671" y="816"/>
                </a:cubicBezTo>
                <a:cubicBezTo>
                  <a:pt x="2581" y="697"/>
                  <a:pt x="2502" y="648"/>
                  <a:pt x="2363" y="614"/>
                </a:cubicBezTo>
                <a:cubicBezTo>
                  <a:pt x="2341" y="598"/>
                  <a:pt x="2315" y="586"/>
                  <a:pt x="2298" y="565"/>
                </a:cubicBezTo>
                <a:cubicBezTo>
                  <a:pt x="2287" y="552"/>
                  <a:pt x="2292" y="530"/>
                  <a:pt x="2282" y="516"/>
                </a:cubicBezTo>
                <a:cubicBezTo>
                  <a:pt x="2265" y="493"/>
                  <a:pt x="2239" y="479"/>
                  <a:pt x="2217" y="460"/>
                </a:cubicBezTo>
                <a:cubicBezTo>
                  <a:pt x="2212" y="444"/>
                  <a:pt x="2214" y="422"/>
                  <a:pt x="2201" y="411"/>
                </a:cubicBezTo>
                <a:cubicBezTo>
                  <a:pt x="2189" y="400"/>
                  <a:pt x="2169" y="404"/>
                  <a:pt x="2152" y="403"/>
                </a:cubicBezTo>
                <a:cubicBezTo>
                  <a:pt x="2087" y="399"/>
                  <a:pt x="2023" y="398"/>
                  <a:pt x="1958" y="395"/>
                </a:cubicBezTo>
                <a:cubicBezTo>
                  <a:pt x="1936" y="392"/>
                  <a:pt x="1909" y="402"/>
                  <a:pt x="1893" y="387"/>
                </a:cubicBezTo>
                <a:cubicBezTo>
                  <a:pt x="1879" y="374"/>
                  <a:pt x="1893" y="347"/>
                  <a:pt x="1885" y="330"/>
                </a:cubicBezTo>
                <a:cubicBezTo>
                  <a:pt x="1881" y="321"/>
                  <a:pt x="1867" y="321"/>
                  <a:pt x="1860" y="314"/>
                </a:cubicBezTo>
                <a:cubicBezTo>
                  <a:pt x="1803" y="263"/>
                  <a:pt x="1757" y="224"/>
                  <a:pt x="1682" y="200"/>
                </a:cubicBezTo>
                <a:cubicBezTo>
                  <a:pt x="1553" y="50"/>
                  <a:pt x="1703" y="205"/>
                  <a:pt x="1585" y="127"/>
                </a:cubicBezTo>
                <a:cubicBezTo>
                  <a:pt x="1566" y="114"/>
                  <a:pt x="1556" y="90"/>
                  <a:pt x="1536" y="79"/>
                </a:cubicBezTo>
                <a:cubicBezTo>
                  <a:pt x="1504" y="61"/>
                  <a:pt x="1421" y="57"/>
                  <a:pt x="1390" y="54"/>
                </a:cubicBezTo>
                <a:cubicBezTo>
                  <a:pt x="1291" y="21"/>
                  <a:pt x="1156" y="0"/>
                  <a:pt x="1082" y="79"/>
                </a:cubicBezTo>
                <a:cubicBezTo>
                  <a:pt x="1054" y="246"/>
                  <a:pt x="1074" y="160"/>
                  <a:pt x="774" y="152"/>
                </a:cubicBezTo>
                <a:cubicBezTo>
                  <a:pt x="716" y="130"/>
                  <a:pt x="663" y="158"/>
                  <a:pt x="612" y="184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34290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enómeno analiz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657600" y="2895480"/>
            <a:ext cx="1905120" cy="457200"/>
          </a:xfrm>
          <a:custGeom>
            <a:avLst/>
            <a:gdLst>
              <a:gd name="textAreaLeft" fmla="*/ 333360 w 1905120"/>
              <a:gd name="textAreaRight" fmla="*/ 1381320 w 190512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86200" y="32767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bstracción de los aspectos más 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324480" y="36576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086600" y="3581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010280" y="3581280"/>
            <a:ext cx="1371600" cy="533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53341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iables endógenas de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733920" y="556272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f            (variables exógenas, independientes, explicati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64008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 compor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2514240" y="5943600"/>
            <a:ext cx="1676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13716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l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1447920" y="1828800"/>
                <a:ext cx="24318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4632480" y="2666880"/>
                <a:ext cx="289080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533520" y="28195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¿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 qué depende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4114800"/>
            <a:ext cx="80773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Ejemplo: 500 hogares, de los cuáles 250 tienen auto y 250 no lo tienen. Los hogares con auto generan 6 viajes/día, los hogares sin auto generan 2,5 viajes/d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En el futuro, todos los hogares tendrán auto ¿cuál es la predicción del modelo de factor de crecimien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28600" y="304920"/>
            <a:ext cx="80773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Ejemplo: 500 hogares, de los cuáles 250 tienen auto y 250 no lo tienen. Los hogares con auto generan 6 viajes/día, los hogares sin auto generan 2,5 viajes/dí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En el futuro, todos los hogares tendrán auto ¿cuál es la predicción del modelo de factor de crecimient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" y="2590920"/>
            <a:ext cx="830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Kidprint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Kidprint"/>
              </a:rPr>
              <a:t>a </a:t>
            </a: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= 250·2,5 + 250·6 = 2.125 viajes/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609480" y="3276720"/>
                <a:ext cx="19814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,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3352680" y="3352680"/>
            <a:ext cx="3733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Kidprint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Kidprint"/>
              </a:rPr>
              <a:t>f </a:t>
            </a: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= 2·2.125 = 4.250 viajes/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9480" y="45720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muy pobre, no se usa much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3520" y="13716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s más sofisticados requieren información para ser calibrados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775560" y="3809880"/>
            <a:ext cx="66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25146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olección de inform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1480" y="2133720"/>
            <a:ext cx="289584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serv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gun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4419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nformació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352680" y="3581280"/>
            <a:ext cx="3200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tastral - cen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estral - enc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cción trans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rie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2209680"/>
            <a:ext cx="76320" cy="106704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048120" y="3733920"/>
            <a:ext cx="75960" cy="76176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48120" y="4800600"/>
            <a:ext cx="75960" cy="83808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29400" y="38862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59436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OD: Encuesta Origen-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0"/>
                            </p:stCondLst>
                            <p:childTnLst>
                              <p:par>
                                <p:cTn id="5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1371600"/>
            <a:ext cx="3200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ivel de agreg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idad de análisi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44080" y="1743480"/>
            <a:ext cx="151128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733920" y="1828800"/>
            <a:ext cx="75960" cy="83808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9480" y="2966040"/>
            <a:ext cx="7467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H: viaje basado en el hogar: aquel que tiene como origen o como destino el hog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BH: viaje no basado en el hog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os de GENERACIO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gresión lin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modelo es Y=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+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s X no son estocásticos, no existe relación lineal entre dos variables independien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(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=0 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te para tod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o hay correlación entre los 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tribuye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stimador MC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038480" y="5334120"/>
                <a:ext cx="419112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β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'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'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04920" y="1600200"/>
            <a:ext cx="815328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iajes con origen en la zona i, propósito trabajo,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iajes con destino en la zona j, propósito trabajo,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iajes generados por hogares tipo h con propósito trabajo en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...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362320" y="495288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esagregar por propósito y período, predicción asociada a z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" y="7621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Cuál es la variable dependien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66680" y="533412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500"/>
                            </p:stCondLst>
                            <p:childTnLst>
                              <p:par>
                                <p:cTn id="7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73240" y="692280"/>
            <a:ext cx="7772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ff3300"/>
                </a:solidFill>
                <a:latin typeface="Comic Sans MS"/>
              </a:rPr>
              <a:t>Uso del suelo</a:t>
            </a:r>
            <a:br>
              <a:rPr sz="5400"/>
            </a:br>
            <a:br>
              <a:rPr sz="5400"/>
            </a:br>
            <a:r>
              <a:rPr b="0" lang="es-CL" sz="5400" spc="-1" strike="noStrike">
                <a:solidFill>
                  <a:srgbClr val="3333cc"/>
                </a:solidFill>
                <a:latin typeface="Comic Sans MS"/>
              </a:rPr>
              <a:t>Modelamiento del sistema de actividad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09480" y="380880"/>
            <a:ext cx="8077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Cuáles son las variable independien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Qué variables afectan la generación de viaj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" y="3276720"/>
            <a:ext cx="17524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4800600"/>
            <a:ext cx="1752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74320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e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648320" y="18288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sociadas a propósito est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781680" y="18288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sociadas a propósito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666880" y="2971800"/>
            <a:ext cx="2210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personas, ingreso, edad, ocupación, tamaño familiar, tasa motor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346480" y="499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590920" y="4495680"/>
            <a:ext cx="1904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encia de centros comerciales, hospitales, cines, parques. Volumen ventas. Accesibil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029200" y="3200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estudi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315200" y="3200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trabaj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181480" y="480060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lugares de estu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315200" y="4572000"/>
            <a:ext cx="182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puestos de trabajo, área total de empresas, superficie techad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ación de la generación de viajes usando 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" y="1371600"/>
            <a:ext cx="845820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gresión a nivel: zonal -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3300"/>
                </a:solidFill>
                <a:uFillTx/>
                <a:latin typeface="Comic Sans MS"/>
              </a:rPr>
              <a:t>Z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0: El número de viajes producidos o atraídos por cada zona es función lineal de las características: socioeconómicas de los hogares de la zona o de uso de suelo de la z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=&gt; necesitamos varianza entre zonas para poder estim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úmero de observaciones = Número de z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cluir zonas cero (Ej: viajes BH en zonas no residen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gresión a nivel z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" y="1371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tales zon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3200400" y="1447920"/>
                <a:ext cx="472428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457200" y="2286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dias zon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349800" y="2362320"/>
                <a:ext cx="44240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685800" y="2971800"/>
                <a:ext cx="44449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457200" y="42670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Son análogo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4343400"/>
            <a:ext cx="54864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: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(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=Var(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&lt;==&gt;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H para tod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gresión a nivel de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37160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Comic Sans MS"/>
              </a:rPr>
              <a:t>Hogar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0: El número de viajes generados por hogar es función lineal de las características de los hog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8088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380880" y="3505320"/>
                <a:ext cx="8534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iaje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ogar</m:t>
                        </m:r>
                      </m:den>
                    </m:f>
                    <m:r>
                      <m:t xml:space="preserve">=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91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7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4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8,2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úmer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rabajadores</m:t>
                    </m:r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07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4,2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úmer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uto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457200" y="4724280"/>
            <a:ext cx="7391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representa la constant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pasa si las relaciones no son linea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fectos no line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" y="1371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Comic Sans MS"/>
              </a:rPr>
              <a:t>Ejemplo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fecto número de autos en el hog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7200" y="3048120"/>
            <a:ext cx="800100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número de trabaj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vale 1 para hogares con 1 auto, 0 en otro ca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vale 1 para hogares con 2 ó + autos, 0 en otro ca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2362320" y="1981080"/>
                <a:ext cx="44956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8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8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41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8,1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7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3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1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8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5" name=""/>
          <p:cNvGraphicFramePr/>
          <p:nvPr/>
        </p:nvGraphicFramePr>
        <p:xfrm>
          <a:off x="685800" y="609480"/>
          <a:ext cx="4583160" cy="247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9480"/>
                    <a:ext cx="4583160" cy="24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"/>
          <p:cNvSpPr/>
          <p:nvPr/>
        </p:nvSpPr>
        <p:spPr>
          <a:xfrm>
            <a:off x="685800" y="3429000"/>
            <a:ext cx="800100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tención de totales zo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lineal ==&gt; agregación triv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0,91 + 1,44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1,07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. Mudas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0,91 + 1,44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+ 0,75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3,14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4920" y="1905120"/>
            <a:ext cx="8305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tro modelo, que proviene de un paradigma diferente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puesto: Las tasas de generación de viajes son constantes para determinados tipos de hogar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43434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7200" y="41148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 que cambia es la distribución de esos tipos de hogares en la pobl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4920" y="1905120"/>
            <a:ext cx="8305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: tipo de hogar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(h): promedio de viajes con un propósito dado, y a la hora en cuestión, realizados por miembros de hogares tipo h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: número de hogares tipo h en la zona 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47242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33520" y="5334120"/>
            <a:ext cx="807696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mparar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odelados con los observ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icción: simular a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1722600" y="4495680"/>
                <a:ext cx="280332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6" dur="indefinite" restart="never" nodeType="tmRoot">
          <p:childTnLst>
            <p:seq>
              <p:cTn id="1007" dur="indefinite" nodeType="mainSeq">
                <p:childTnLst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500"/>
                            </p:stCondLst>
                            <p:childTnLst>
                              <p:par>
                                <p:cTn id="10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04920" y="1905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04920" y="54864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19320" y="5029200"/>
            <a:ext cx="76960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úmero de categorías =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úmero de gru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09480" y="2514600"/>
            <a:ext cx="381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maño d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09480" y="3124080"/>
            <a:ext cx="3733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sa motor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38098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gr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33520" y="4495680"/>
            <a:ext cx="4190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ructura d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64832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64832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17220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17220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1008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64832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17220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41008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64832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04920" y="60958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295280" y="5867280"/>
            <a:ext cx="701064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 variables, 3 niveles c/u ==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81 categor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500"/>
                            </p:stCondLst>
                            <p:childTnLst>
                              <p:par>
                                <p:cTn id="10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500"/>
                            </p:stCondLst>
                            <p:childTnLst>
                              <p:par>
                                <p:cTn id="10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3500"/>
                            </p:stCondLst>
                            <p:childTnLst>
                              <p:par>
                                <p:cTn id="1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4920" y="1905120"/>
            <a:ext cx="4267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 numér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9480" y="2514600"/>
            <a:ext cx="381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po de hogar  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62120" y="3505320"/>
            <a:ext cx="3504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(1)= 6 viajes 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38080" y="4191120"/>
            <a:ext cx="7848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250·6+250·2,5=2.125 viajes/día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500·6=3.000 viajes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733920" y="2590920"/>
            <a:ext cx="213336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09880" y="2590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: Con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477120" y="2590920"/>
            <a:ext cx="20574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553080" y="2590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: Sin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648320" y="3505320"/>
            <a:ext cx="38098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(2)= 2,5 viajes 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1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Modelo de uso del sue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recimiento población y econom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blema de localización de los agentes (hogares y firm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a interdependencia en la elec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blema de oferta inmobili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l precio, la renta y la plusval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quilibrio urb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0880" y="56386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57200" y="1828800"/>
            <a:ext cx="83059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Cómo podemos saber si el supuesto es cier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varianza de t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ibración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calcular t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dicción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estimar distribución de prob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I,TM,EH)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5" dur="indefinite" restart="never" nodeType="tmRoot">
          <p:childTnLst>
            <p:seq>
              <p:cTn id="1216" dur="indefinite" nodeType="mainSeq">
                <p:childTnLst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: modelo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C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Análisis de Categorías o Clas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0880" y="56386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57200" y="2590920"/>
            <a:ext cx="40384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cepto muy sencillo e intui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se postulan relaciones matemát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ar tasa generación es triv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638680" y="19051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venta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2590920"/>
            <a:ext cx="403848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No se puede saber la significancia de las variables escog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ecir la distribución de los hogares según tipo es muy difíc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295280" y="19051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ntaj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500"/>
                            </p:stCondLst>
                            <p:childTnLst>
                              <p:par>
                                <p:cTn id="12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60958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33520" y="1676520"/>
            <a:ext cx="8076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mos vi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factor de creci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regresión line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análisis por categorí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876920" y="14479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.. f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0880" y="4267080"/>
            <a:ext cx="2590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so de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mograf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cce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24480" y="4495680"/>
            <a:ext cx="259092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tal qu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00400" y="45720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 genera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4419720"/>
            <a:ext cx="1828800" cy="15238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666880" y="5029200"/>
            <a:ext cx="381240" cy="380880"/>
          </a:xfrm>
          <a:prstGeom prst="rightArrow">
            <a:avLst>
              <a:gd name="adj1" fmla="val 50000"/>
              <a:gd name="adj2" fmla="val 25024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486400" y="502920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895480" y="6172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Elasticidad al costo de transpor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2" dur="indefinite" restart="never" nodeType="tmRoot">
          <p:childTnLst>
            <p:seq>
              <p:cTn id="1303" dur="indefinite" nodeType="mainSeq">
                <p:childTnLst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500"/>
                            </p:stCondLst>
                            <p:childTnLst>
                              <p:par>
                                <p:cTn id="1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fill="hold">
                            <p:stCondLst>
                              <p:cond delay="500"/>
                            </p:stCondLst>
                            <p:childTnLst>
                              <p:par>
                                <p:cTn id="13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457200" y="4572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jemplo </a:t>
            </a: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GENERACIÓ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DE VIAJ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iudad de </a:t>
            </a: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Puerto Montt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atos de 1998, obtenidos de una Encuesta Origen - Destino realizada al 5% de los hogares durante un día laboral típico. Nivel de agregación: 54 zonas. 2 periodos. 10 propósitos de via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1371600" y="2411280"/>
          <a:ext cx="6629400" cy="415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411280"/>
                    <a:ext cx="662940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219320" y="68580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Producciones de Viajes Pers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Viajes Gen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Basados en el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717560" y="2592360"/>
          <a:ext cx="5708880" cy="167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2592360"/>
                    <a:ext cx="570888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"/>
          <p:cNvGraphicFramePr/>
          <p:nvPr/>
        </p:nvGraphicFramePr>
        <p:xfrm>
          <a:off x="1676520" y="4602240"/>
          <a:ext cx="6553080" cy="2255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602240"/>
                    <a:ext cx="6553080" cy="22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7" name=""/>
          <p:cNvGraphicFramePr/>
          <p:nvPr/>
        </p:nvGraphicFramePr>
        <p:xfrm>
          <a:off x="1676520" y="609480"/>
          <a:ext cx="5708520" cy="312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609480"/>
                    <a:ext cx="5708520" cy="31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1676520" y="4314960"/>
          <a:ext cx="5708520" cy="2543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314960"/>
                    <a:ext cx="570852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1" name=""/>
          <p:cNvGraphicFramePr/>
          <p:nvPr/>
        </p:nvGraphicFramePr>
        <p:xfrm>
          <a:off x="1717560" y="544680"/>
          <a:ext cx="5708880" cy="577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544680"/>
                    <a:ext cx="5708880" cy="57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3" name=""/>
          <p:cNvGraphicFramePr/>
          <p:nvPr/>
        </p:nvGraphicFramePr>
        <p:xfrm>
          <a:off x="1717560" y="2011320"/>
          <a:ext cx="5708880" cy="283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2011320"/>
                    <a:ext cx="570888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6477120" y="3505320"/>
                <a:ext cx="15303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47" name=""/>
          <p:cNvSpPr/>
          <p:nvPr/>
        </p:nvSpPr>
        <p:spPr>
          <a:xfrm>
            <a:off x="5181480" y="38862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828800" y="4952880"/>
            <a:ext cx="3962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ultiplicar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p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5334120" y="4648320"/>
                <a:ext cx="10555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T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0" name=""/>
          <p:cNvSpPr/>
          <p:nvPr/>
        </p:nvSpPr>
        <p:spPr>
          <a:xfrm>
            <a:off x="838080" y="1905120"/>
            <a:ext cx="77724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calculamo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, y se obtiene valores distin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=&gt; correg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i le creemos más a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4" dur="indefinite" restart="never" nodeType="tmRoot">
          <p:childTnLst>
            <p:seq>
              <p:cTn id="1375" dur="indefinite" nodeType="mainSeq">
                <p:childTnLst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500"/>
                            </p:stCondLst>
                            <p:childTnLst>
                              <p:par>
                                <p:cTn id="14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fill="hold">
                            <p:stCondLst>
                              <p:cond delay="500"/>
                            </p:stCondLst>
                            <p:childTnLst>
                              <p:par>
                                <p:cTn id="14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tapa siguiente: Distribu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38080" y="3048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64832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64832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41008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41008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172200" y="32004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172200" y="38098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41008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64832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172200" y="44956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41008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64832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8620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8620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64832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88620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41008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8620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172200" y="1905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886200" y="44956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648320" y="4495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172200" y="4495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410080" y="44956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172200" y="38098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172200" y="1905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1722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495680" y="25909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6" dur="indefinite" restart="never" nodeType="tmRoot">
          <p:childTnLst>
            <p:seq>
              <p:cTn id="1417" dur="indefinite" nodeType="mainSeq">
                <p:childTnLst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500"/>
                            </p:stCondLst>
                            <p:childTnLst>
                              <p:par>
                                <p:cTn id="14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fill="hold">
                            <p:stCondLst>
                              <p:cond delay="500"/>
                            </p:stCondLst>
                            <p:childTnLst>
                              <p:par>
                                <p:cTn id="14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500"/>
                            </p:stCondLst>
                            <p:childTnLst>
                              <p:par>
                                <p:cTn id="14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500"/>
                            </p:stCondLst>
                            <p:childTnLst>
                              <p:par>
                                <p:cTn id="15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8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8" fill="hold">
                            <p:stCondLst>
                              <p:cond delay="4500"/>
                            </p:stCondLst>
                            <p:childTnLst>
                              <p:par>
                                <p:cTn id="15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5500"/>
                            </p:stCondLst>
                            <p:childTnLst>
                              <p:par>
                                <p:cTn id="15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Model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státicos: Equilibrio temp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inámicos: Interacción temp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ilibrio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ización residencial urb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29200" y="2438280"/>
            <a:ext cx="9144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162920" y="2743200"/>
            <a:ext cx="0" cy="1066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952880" y="4191120"/>
            <a:ext cx="838440" cy="0"/>
          </a:xfrm>
          <a:prstGeom prst="line">
            <a:avLst/>
          </a:prstGeom>
          <a:ln w="76320">
            <a:solidFill>
              <a:srgbClr val="b4b24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73760" y="1797120"/>
            <a:ext cx="3583800" cy="11912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ada agente elige  localización 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aximiza su 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ados atributos de localiz. y precio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bajo restricción de presupue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943600" y="1827360"/>
            <a:ext cx="3139920" cy="916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ara cada localiz. define su disp. a pagar dado nivel de 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19320" y="3886200"/>
            <a:ext cx="3733560" cy="1008720"/>
          </a:xfrm>
          <a:prstGeom prst="rect">
            <a:avLst/>
          </a:prstGeom>
          <a:solidFill>
            <a:srgbClr val="b4b2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Inmobiliarias eligen que ofre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en cada lugar por máx. utilidad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dada tecnología y regulacione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67280" y="3886200"/>
            <a:ext cx="2911680" cy="1008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ada propiedad se remata al mejor pos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Oferta = 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82600" y="5535720"/>
            <a:ext cx="4232880" cy="7038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olución: localización, nivel de ut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tock, precios, consumo bi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162920" y="4876920"/>
            <a:ext cx="0" cy="609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19120" y="1461960"/>
            <a:ext cx="11682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m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20760" y="3581280"/>
            <a:ext cx="8161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fe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869800" y="3581280"/>
            <a:ext cx="9792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m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89800" y="5181480"/>
            <a:ext cx="1116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quilib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8305920" y="274284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6209600">
            <a:off x="8037000" y="323496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952520" y="46483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20920" y="457164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pre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Economía urba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177336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mportamiento r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iudad idealizada: plana, suelo idéntico en todos los radi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iajes al trabajo en el centro urb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stos de transporte crecientes con la distancia al cent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17120" y="5445000"/>
            <a:ext cx="624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cc99"/>
                </a:solidFill>
                <a:latin typeface="Times New Roman"/>
              </a:rPr>
              <a:t>¿Cuál es la distribución  del uso del suel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869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Disposición a pagar del hog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844560" y="1803240"/>
          <a:ext cx="3851280" cy="10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4560" y="1803240"/>
                    <a:ext cx="3851280" cy="10033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1333440" y="3357720"/>
          <a:ext cx="5488200" cy="172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3440" y="3357720"/>
                    <a:ext cx="5488200" cy="17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6346080" y="3402360"/>
            <a:ext cx="26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manda de bie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27280" y="5418720"/>
            <a:ext cx="57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3300"/>
                </a:solidFill>
                <a:latin typeface="Times New Roman"/>
              </a:rPr>
              <a:t>Utilidad indirecta condicional en loc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73080" y="2008080"/>
            <a:ext cx="21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t: distancia al cen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x: bienes de consu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k: costo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116240" y="1758960"/>
            <a:ext cx="38880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19240" y="8442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Ejemplo: utilidad line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478240" y="5129280"/>
          <a:ext cx="5127480" cy="46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8240" y="5129280"/>
                    <a:ext cx="512748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1100160" y="4239000"/>
            <a:ext cx="733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tilidad indirecta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ndicional en loc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403880" y="1911240"/>
          <a:ext cx="3209760" cy="46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03880" y="1911240"/>
                    <a:ext cx="320976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1042920" y="1782720"/>
            <a:ext cx="405756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tilidad direc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stricción ingre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606920" y="2316240"/>
          <a:ext cx="2556000" cy="438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06920" y="2316240"/>
                    <a:ext cx="25560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4678200" y="3230640"/>
          <a:ext cx="3532320" cy="509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78200" y="3230640"/>
                    <a:ext cx="3532320" cy="50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1121760" y="3205800"/>
            <a:ext cx="33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manda bienes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ndi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3240" y="5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Iso-utilidad: </a:t>
            </a:r>
            <a:r>
              <a:rPr b="0" i="1" lang="es-ES" sz="32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i="1" lang="es-ES" sz="32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763640" y="2664000"/>
            <a:ext cx="5970600" cy="3455640"/>
            <a:chOff x="1763640" y="2664000"/>
            <a:chExt cx="5970600" cy="3455640"/>
          </a:xfrm>
        </p:grpSpPr>
        <p:sp>
          <p:nvSpPr>
            <p:cNvPr id="116" name=""/>
            <p:cNvSpPr/>
            <p:nvPr/>
          </p:nvSpPr>
          <p:spPr>
            <a:xfrm>
              <a:off x="1763640" y="2879640"/>
              <a:ext cx="5329440" cy="3240000"/>
            </a:xfrm>
            <a:custGeom>
              <a:avLst/>
              <a:gdLst/>
              <a:ahLst/>
              <a:rect l="l" t="t" r="r" b="b"/>
              <a:pathLst>
                <a:path w="3357" h="2041">
                  <a:moveTo>
                    <a:pt x="0" y="2041"/>
                  </a:moveTo>
                  <a:cubicBezTo>
                    <a:pt x="193" y="2007"/>
                    <a:pt x="386" y="1973"/>
                    <a:pt x="635" y="1905"/>
                  </a:cubicBezTo>
                  <a:cubicBezTo>
                    <a:pt x="884" y="1837"/>
                    <a:pt x="1202" y="1777"/>
                    <a:pt x="1497" y="1633"/>
                  </a:cubicBezTo>
                  <a:cubicBezTo>
                    <a:pt x="1792" y="1489"/>
                    <a:pt x="2170" y="1217"/>
                    <a:pt x="2404" y="1043"/>
                  </a:cubicBezTo>
                  <a:cubicBezTo>
                    <a:pt x="2638" y="869"/>
                    <a:pt x="2744" y="763"/>
                    <a:pt x="2903" y="589"/>
                  </a:cubicBezTo>
                  <a:cubicBezTo>
                    <a:pt x="3062" y="415"/>
                    <a:pt x="3281" y="98"/>
                    <a:pt x="3357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84880" y="2664000"/>
              <a:ext cx="5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0000"/>
                  </a:solidFill>
                  <a:latin typeface="Times New Roman"/>
                </a:rPr>
                <a:t>k(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1692360" y="2879640"/>
            <a:ext cx="6089760" cy="2888280"/>
            <a:chOff x="1692360" y="2879640"/>
            <a:chExt cx="6089760" cy="2888280"/>
          </a:xfrm>
        </p:grpSpPr>
        <p:sp>
          <p:nvSpPr>
            <p:cNvPr id="119" name=""/>
            <p:cNvSpPr/>
            <p:nvPr/>
          </p:nvSpPr>
          <p:spPr>
            <a:xfrm>
              <a:off x="1692360" y="2879640"/>
              <a:ext cx="5510160" cy="2635200"/>
            </a:xfrm>
            <a:custGeom>
              <a:avLst/>
              <a:gdLst/>
              <a:ahLst/>
              <a:rect l="l" t="t" r="r" b="b"/>
              <a:pathLst>
                <a:path w="3471" h="1660">
                  <a:moveTo>
                    <a:pt x="0" y="0"/>
                  </a:moveTo>
                  <a:cubicBezTo>
                    <a:pt x="55" y="86"/>
                    <a:pt x="183" y="350"/>
                    <a:pt x="331" y="516"/>
                  </a:cubicBezTo>
                  <a:cubicBezTo>
                    <a:pt x="479" y="682"/>
                    <a:pt x="602" y="833"/>
                    <a:pt x="891" y="998"/>
                  </a:cubicBezTo>
                  <a:cubicBezTo>
                    <a:pt x="1180" y="1163"/>
                    <a:pt x="1636" y="1393"/>
                    <a:pt x="2066" y="1503"/>
                  </a:cubicBezTo>
                  <a:cubicBezTo>
                    <a:pt x="2496" y="1613"/>
                    <a:pt x="3178" y="1627"/>
                    <a:pt x="3471" y="166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149960" y="5327280"/>
              <a:ext cx="632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i="1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i="1" lang="es-ES" sz="20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1" name=""/>
          <p:cNvGraphicFramePr/>
          <p:nvPr/>
        </p:nvGraphicFramePr>
        <p:xfrm>
          <a:off x="1620720" y="1206360"/>
          <a:ext cx="4464000" cy="35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720" y="1206360"/>
                    <a:ext cx="4464000" cy="3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3" name=""/>
          <p:cNvGrpSpPr/>
          <p:nvPr/>
        </p:nvGrpSpPr>
        <p:grpSpPr>
          <a:xfrm>
            <a:off x="1692360" y="4029120"/>
            <a:ext cx="6479640" cy="440640"/>
            <a:chOff x="1692360" y="4029120"/>
            <a:chExt cx="6479640" cy="440640"/>
          </a:xfrm>
        </p:grpSpPr>
        <p:sp>
          <p:nvSpPr>
            <p:cNvPr id="124" name=""/>
            <p:cNvSpPr/>
            <p:nvPr/>
          </p:nvSpPr>
          <p:spPr>
            <a:xfrm>
              <a:off x="1692360" y="4379400"/>
              <a:ext cx="56998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42560" y="4029120"/>
              <a:ext cx="829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0h</a:t>
              </a:r>
              <a:r>
                <a:rPr b="1" i="1" lang="es-ES" sz="20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1" i="1" lang="el-GR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λ</a:t>
              </a:r>
              <a:r>
                <a:rPr b="1" i="1" lang="es-MX" sz="20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6" name=""/>
          <p:cNvGraphicFramePr/>
          <p:nvPr/>
        </p:nvGraphicFramePr>
        <p:xfrm>
          <a:off x="1738440" y="1773360"/>
          <a:ext cx="4514760" cy="72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38440" y="1773360"/>
                    <a:ext cx="451476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6832800" y="1125360"/>
            <a:ext cx="177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¿Cuánto paga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104480" y="2490840"/>
            <a:ext cx="7067880" cy="4109400"/>
            <a:chOff x="1104480" y="2490840"/>
            <a:chExt cx="7067880" cy="4109400"/>
          </a:xfrm>
        </p:grpSpPr>
        <p:sp>
          <p:nvSpPr>
            <p:cNvPr id="130" name=""/>
            <p:cNvSpPr/>
            <p:nvPr/>
          </p:nvSpPr>
          <p:spPr>
            <a:xfrm>
              <a:off x="1692360" y="2519280"/>
              <a:ext cx="0" cy="360036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92360" y="6119640"/>
              <a:ext cx="64800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895880" y="614052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104480" y="24908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34" name=""/>
          <p:cNvGraphicFramePr/>
          <p:nvPr/>
        </p:nvGraphicFramePr>
        <p:xfrm>
          <a:off x="3224160" y="2685960"/>
          <a:ext cx="2440080" cy="743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24160" y="2685960"/>
                    <a:ext cx="244008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08:07:30Z</dcterms:created>
  <dc:creator>Marcela Munizaga</dc:creator>
  <dc:description/>
  <dc:language>en-US</dc:language>
  <cp:lastModifiedBy>Marcela Munizaga</cp:lastModifiedBy>
  <dcterms:modified xsi:type="dcterms:W3CDTF">2008-08-11T15:38:12Z</dcterms:modified>
  <cp:revision>62</cp:revision>
  <dc:subject/>
  <dc:title>Sin título de diapositiva</dc:title>
</cp:coreProperties>
</file>