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E2C1-0B0C-4199-AF11-A87DA269DD2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F877-3435-482B-8A80-4454BF49D3C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3FB3-0514-46D3-A5F3-3B478A40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47E6-4750-4552-82F0-984B024A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F487-897A-497C-9BA2-728A2606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1E85-629C-498F-80FC-43EDA2D6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F05A-7DA8-4F55-9C5F-1E4820A8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5E52-FCBE-4936-B79B-5DC3E3AE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6D55-9305-428F-829A-0C2E4B6A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3336-A36E-4F3B-8786-E2475B01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14B4-ED1E-477F-BE5F-0A7C151B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784F-70AA-4ABA-91CB-275840F0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E966-0D06-443C-B52C-4CD99A95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AFA3-39AB-4ED1-B0F1-969E2B1B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EE34-F248-4468-8546-DD4B4A46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9ED5-4C13-49CD-B429-12F0E08F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74B8-0144-4B35-840B-4229F9DF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8F25-5C42-4067-AC45-099E12C5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A2B0-EFE1-4484-87DE-64276360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D6E9F-133E-46E2-8E09-4D66D429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D918C-2DDF-4A1B-8A92-38F96E0D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8AC5F-7C4F-4F6C-8D16-B2885CDA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BAB1A-02B6-49DB-ACDF-F98B6071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BFC12-672F-4087-8375-FA4395A3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3E04-94F2-42C9-B60D-97441D1F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36F34-0243-4724-A8BE-EE5CC2BB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04720-19FD-4863-B9EC-5C1C9D4B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BC39A-1F2C-4196-96CB-B1AB7809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DA2EE-B947-4157-B6AE-1F5C0B20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F31CC-1BB4-447D-BEFA-418ADA70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82714-6A57-4B6F-8E2B-722298CF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975B4-3FFC-4B7A-A1B0-F3785DE2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F6CE1-471B-4A0B-BB0F-48D9C443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1237F-3855-4873-A67A-6D6F7420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B3C51-BFF9-4740-9C9F-0E2568C6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2615-8D9E-45F8-9E4C-530484AE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6BFDC-E042-4906-AF7A-667C3139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7CF8B-8D94-47DB-BEF9-E217817B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7BBB2-8F89-4A49-885C-9A817CFB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1A878-8019-4DFD-9141-889DD30F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8EB16-18FA-432C-8316-C3150F25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0ECBB-55CF-4E9B-85C1-CC330836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DB553-A8A0-4123-A12D-B5E58ADD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06219-056E-4452-92FF-2049CCEA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CB6AB-3E1F-463A-8882-1B9B9F85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DD432-C368-4400-B553-29B6633D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52C-3296-4650-9E43-F3A1F6A5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FAA90-CBCF-4208-B95D-4B4F1EC2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23719-FEB6-41B5-BA20-E1260C4A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513F5-CED8-411E-B1D9-4DD8EB90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23395-D0D9-415E-B2EE-3FEB1260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404E5-2486-4DBF-8FE9-04F20D39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994B8-39D7-4605-99F8-1FED1F73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76A45-F66C-4733-AC81-90651835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6D5D0-A34B-4DC1-8359-89D569C2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FF98C-D9E9-4CF7-94BE-484435E3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D0B83-9A6C-419C-9FBB-A7271D13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105E-CBF7-4168-97D8-D513E76C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DC1A0-BABB-4F61-AC54-B5E8D6ED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C23DF-2EF6-446A-9837-84B3221B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21641-AAC9-4B66-897A-1A640EC4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D9F72-7ABE-4144-B584-8538CE34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F2C49-03FC-4E82-840B-CCCF7852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6F503-C092-48E0-A888-97303E57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BD5E2-7759-4E44-9F17-8F4DDD67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24B9E-A153-4A43-A643-4C178E2B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990EA-1E62-47E9-8614-C464FD1A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6A72A-EF51-4A99-8059-3BAD4AF1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1C47-6FCB-4383-BF4C-4C3F2257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27D0E-8471-4669-8FAE-29F40001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FA383-08C0-4DDB-AAEE-DFAFABF3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DB05C-90D1-4E1D-94C2-7C8BA8DC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A5238-67C6-4AB8-A201-C7545E05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5D011-F849-476F-9847-8509F421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036CC-92BA-4ADE-A244-5152BEBA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28D5C-6162-467C-A1D5-8B9F7545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AEC32-0BE7-40FD-916E-968C4813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AA69C-97FB-4C0A-9432-E2A8F22A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C3A5E-E580-4BBF-BF50-14D5AF07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2E6C-A9A5-4796-9856-15A9DF84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FE787-9B74-4C37-9FF7-F99014C4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136BF-C9F7-498C-BAAD-D9E7121C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01D02-6F09-4628-9A1A-E6E10D52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EAA9E-EC44-440C-9320-D070090E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3BE8F-1E94-4ED4-8989-E20F02D8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30F5-E3A2-44A9-B456-9788EFC8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14CA-F8F1-47F5-BC85-E5F507E6A75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FA62-A917-46F8-A306-92173554C45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94E6-185E-4A39-BDD0-E7E78BE59C9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9CE8-CEE7-4321-963F-06FCC62E650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B144-6BF4-41B4-9CF2-61A691283E8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33E2-3A68-4CC4-A962-94909C8072B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4DDE-2FBC-4015-9CA5-C34108F15F4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572314"/>
                </a:solidFill>
                <a:latin typeface="Calibri"/>
                <a:ea typeface="Arial"/>
              </a:rPr>
              <a:t>Taller I CI43A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istema de Transporte Urba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rcados Puntu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87280" y="1447560"/>
            <a:ext cx="7747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dentificar algún proyecto de transporte que se haya realizado o esté en proceso de realización señalando el país de procedencia y sus principales característic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 indicar qué necesidades satisface este proyecto, los medios y operaciones que utiliza y cómo afecta la estructura espacial en donde es llevado a cab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Cómo espera que afecte el sistema de transporte, el sistema de actividades y la estructura de flujo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roblema 2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644480" y="1213920"/>
            <a:ext cx="7499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Existen dos islas en cuyas costas abunda el abalone, un molusco difícil de extraer y procesar, pero que finalmente es un alimento muy apreciado.  En ambas islas se produce y se consume este molusco, y las funciones de oferta y demanda por este en cada una de las islas son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1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3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- 9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= 5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2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/2 - 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1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Se pide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Encontrar la ecuación de demanda por transporte y graficarla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Señalar claramente la cantidad máxima que se puede transportar y la tarifa máxima para que se transporte el producto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1 sección 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archivo .doc con el desarrollo del taller y el archivo .xls con los cálcul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8-08-06T17:02:27Z</dcterms:modified>
  <cp:revision>13</cp:revision>
  <dc:subject/>
  <dc:title>Taller I CI43A </dc:title>
</cp:coreProperties>
</file>