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0F8B-C2BC-4C78-84C6-4DE4E6073B4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D38B-159A-41CE-B36F-784D22B7798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C35-755C-483B-B071-483C3850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FCB-1B86-4033-8D61-62A26A9C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03E-3925-4D9A-B6E8-C3AE1476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66C-86AD-41EC-96EC-8325DBE7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94BC-5F45-4127-BF28-E79BD4AF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4B12-9D35-4BC1-9670-0AF33AD2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34B3-9AEE-4352-B4EC-855D8329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5DE7-5C63-4D11-871E-746B1746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2686-E8C1-41CD-A947-F33B9B0E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C818-B91C-4F9C-9EC9-B3AE4D88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5056-1138-4175-AF11-DE578D66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54E-EF8D-48A0-8D7E-1640D225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08E3-E153-4602-B957-F8BD82BF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AB2F-14DB-4665-88A2-477D1F97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7D68-A3C7-4BCC-B4CF-F322B248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E658-4A18-4554-9523-8801BDFD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A33E-C87D-4226-B462-FE3F2239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1F12-5A18-4DD8-82E3-023593A4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4F42-6CDE-4CA3-B123-5AA68187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EA52-C840-480D-AC10-011846FA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7E83B-6549-4868-810E-124838CB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F124-46F0-4EF0-BB68-4218C1F7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73C-644D-46E4-A91D-F645326C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F51E-5909-4FEE-AC43-4FD4B105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8B3E-8C43-41D1-A4FC-DA2ED8D5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2794-5D12-4516-8F7F-D778DDCF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D971-2584-486B-AC15-63C532CA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66AB-6200-44DB-813F-374225B1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7ABD-CE33-4F9E-AB40-D35BD926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B6C0-627F-45E8-9089-CFAF7E6A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F417-1B09-428F-B711-8514D6D7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70FB-1D35-4CCA-9090-256EB6A1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02C4-A14E-4C9C-AF24-AD18B3FD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EBC-4086-4906-B935-E804AAD4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BE172-2CEB-427D-9C74-FB66E99B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8911-3A09-49A5-8AA5-60EABAA1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E8D41-D268-4232-884E-47D9ED64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BD872-5633-44F4-BCFA-9ADBBCFE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B682A-0961-4032-A91A-1BC35870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EE341-986E-4458-940E-DDEDFFF4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F74AE-18A3-4D72-823B-2388BFF8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4C2AE-4C6C-4473-80B1-9DF4E7EC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B2B8-D7D1-4BD8-AC76-C450E6D8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9299F-0F5A-482A-BB41-9214E025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426-728A-477F-85A1-466CD953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526D2-CE87-4851-9A39-520AD2FE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4F3CF-E755-437F-82C0-B4B50E2A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F8022-D253-4B97-9830-ADDA02C6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4716A-CFB2-4D46-9632-324CBF66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74516-9C30-4005-9BBB-6A1A714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52A1E-7E72-4A9E-B49C-2C4908BD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4AF01-A3C5-4A5E-83D2-61EB1D21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2BF30-0527-4161-955E-883CC927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5736A-F8C1-4CCE-8B76-2856B0AB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28FC3-54B6-438D-B9C0-49121CA0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3DC-FC3F-4590-80F1-2849AFD7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2A816-C58E-4EDD-8348-BED26EC6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6A321-C160-4EDF-B775-1E6EDBA8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FEF21-52D7-4EF2-B081-D0D783C2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021A8-A840-40CB-9EBF-026FC6F5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93ACC-B34F-4C97-A40C-D0BC26AA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C8422-3C07-4D5E-B5D5-99DCD1B3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6BA24-571F-42C3-AF66-815E43DE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887AB-5B35-470F-A8DD-18FF7DD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7FCA5-4D08-4951-9884-802A149D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8ABE7-70E0-4F7E-B13F-04CC18D9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439-56EA-473E-8084-989B3587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FF2D-01ED-4F5C-AB66-C33C9355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281F2-56EA-46BC-A999-805E0803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50257-F0F0-4469-BC35-4AEDC14F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C7E01-410D-458E-BFEA-4A0B2526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6D20E-986A-4251-9D78-E7457C1B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BAC8D-8855-4AE7-A722-D6EE8D97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0270D-CA7B-4D9C-8DE0-7F00D641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04AF9-674C-46F5-B2B5-26285C1D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96053-F450-499C-B92F-E441396E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3C95B-88E3-424B-BB38-C02E089B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38B-51DB-4325-88C5-BBFA2410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7D5E4-C865-428D-89B4-A412D78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5FD89-75C8-4A41-98AD-239B9F14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D4FB3-7D39-4204-958D-905E1526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A4B0F-AF0B-445F-8A6E-1E0240D0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103B0-AF95-4B4C-8D2C-C51AE8C8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1C9-897B-41EF-88C2-C3BBB8F6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198C-9C0D-4A02-A1DC-2AAC4F6ECAC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1054-FB36-41AD-BD10-E00CF7AE45F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6051-8542-4379-B15A-51E1C0582D7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F3E6-BF3C-427A-A24E-77A665CE43A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8F71-5800-4B0B-9CB0-CA8BC0E3B7E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C049-2978-48E2-8FF8-700131B5BA9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5FF8-E8D0-4D0B-A287-59BC540EDA8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stema de Transporte Urb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87280" y="1447560"/>
            <a:ext cx="7747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dentificar algún proyecto de transporte que se haya realizado o esté en proceso de realización señalando el país de procedencia y sus principales característic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 indicar qué necesidades satisface este proyecto, los medios y operaciones que utiliza y cómo afecta la estructura espacial en donde es llevado a cab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Cómo espera que afecte el sistema de transporte, el sistema de actividades y la estructura de flujo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2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 pid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ncontrar la ecuación de demanda por transporte y graficarla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ñalar claramente la cantidad máxima que se puede transportar y la tarifa máxima para que se transporte el product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 sección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06T17:02:27Z</dcterms:modified>
  <cp:revision>13</cp:revision>
  <dc:subject/>
  <dc:title>Taller I CI43A </dc:title>
</cp:coreProperties>
</file>