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65D7-B37F-4C1E-AB32-E1E9F4FC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FA39-3329-496A-AD87-973EFEA0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AD8-2267-47D0-BA00-31CB0653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E94C-A95F-4FE6-96D3-C1044D6C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1E92-D22C-490A-9053-02E81C41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B93A-3244-465E-95AE-258710EE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7C22-67B0-4A4F-961C-E4F93A95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8BC4-AACF-4FAE-92FB-8D6FC2D2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38F7-E951-494C-8290-4817E052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CECF-B6CE-4BDC-82A3-FCC6A887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4EC-BC55-4243-A891-B4942B49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9559-572E-47B6-9DBA-CE7118A2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2FD1-0088-4AD7-BDC8-0646D7F96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4880" y="234792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57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652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un mercado por servicios de transporte que puede ser separado y analizado en forma independiente de los demás mercados.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.e. Las relaciones de tipo 1 pueden ser separadas de las de tipo 2 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2286000"/>
            <a:ext cx="6248520" cy="3660120"/>
            <a:chOff x="0" y="2286000"/>
            <a:chExt cx="6248520" cy="3660120"/>
          </a:xfrm>
        </p:grpSpPr>
        <p:sp>
          <p:nvSpPr>
            <p:cNvPr id="167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120" y="556272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232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46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440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99072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576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7339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71600" y="358128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434340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90560" y="323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76160" y="4676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29718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2485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24852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248520" y="3581280"/>
            <a:ext cx="19047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010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124080"/>
            <a:ext cx="21333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48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Ubicar: Q dada una tarifa de transporte t, Qmax, t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Graficar la curva de demanda por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gregar una curva de oferta de transporte e identificar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242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2437920"/>
            <a:ext cx="3352680" cy="3584520"/>
            <a:chOff x="0" y="2437920"/>
            <a:chExt cx="3352680" cy="3584520"/>
          </a:xfrm>
        </p:grpSpPr>
        <p:sp>
          <p:nvSpPr>
            <p:cNvPr id="197" name=""/>
            <p:cNvSpPr/>
            <p:nvPr/>
          </p:nvSpPr>
          <p:spPr>
            <a:xfrm flipV="1">
              <a:off x="68580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800" y="55627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5800" y="3581280"/>
              <a:ext cx="190512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8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E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3124080"/>
              <a:ext cx="2133720" cy="152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0" y="4800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E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2743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19320" y="3505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858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858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58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12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320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40384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90720" y="3962520"/>
              <a:ext cx="1440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95280" y="5562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Nuevo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iénes ganan y quienes pi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98108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27432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-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3200400"/>
            <a:ext cx="2057400" cy="18288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2895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=Q(t=0)=ED1(p1=p2)=EO2(p1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cemos unidimensionalmente (teniendo claro que no lo es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: volumen o magnitud de fluj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: características del nivel de servicio experimentado por un cierto flujo de usuarios en T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=S(T,V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servici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=D(A,S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demanda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15238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505320"/>
            <a:ext cx="16761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2514600"/>
            <a:ext cx="2666880" cy="1142640"/>
            <a:chOff x="990720" y="2514600"/>
            <a:chExt cx="2666880" cy="1142640"/>
          </a:xfrm>
        </p:grpSpPr>
        <p:sp>
          <p:nvSpPr>
            <p:cNvPr id="52" name=""/>
            <p:cNvSpPr/>
            <p:nvPr/>
          </p:nvSpPr>
          <p:spPr>
            <a:xfrm>
              <a:off x="1981080" y="2514600"/>
              <a:ext cx="1676520" cy="82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ofer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90720" y="297144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90720" y="4114800"/>
            <a:ext cx="2743200" cy="1654920"/>
            <a:chOff x="990720" y="4114800"/>
            <a:chExt cx="2743200" cy="1654920"/>
          </a:xfrm>
        </p:grpSpPr>
        <p:sp>
          <p:nvSpPr>
            <p:cNvPr id="55" name=""/>
            <p:cNvSpPr/>
            <p:nvPr/>
          </p:nvSpPr>
          <p:spPr>
            <a:xfrm>
              <a:off x="2057400" y="4578480"/>
              <a:ext cx="1676520" cy="11912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ma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0720" y="41148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71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33920" y="4343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0" y="2460600"/>
            <a:ext cx="2514600" cy="1557000"/>
            <a:chOff x="4572000" y="2460600"/>
            <a:chExt cx="2514600" cy="1557000"/>
          </a:xfrm>
        </p:grpSpPr>
        <p:sp>
          <p:nvSpPr>
            <p:cNvPr id="60" name=""/>
            <p:cNvSpPr/>
            <p:nvPr/>
          </p:nvSpPr>
          <p:spPr>
            <a:xfrm>
              <a:off x="5257800" y="246060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consumo de recur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572000" y="28954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72000" y="4152960"/>
            <a:ext cx="2548080" cy="1557000"/>
            <a:chOff x="4572000" y="4152960"/>
            <a:chExt cx="2548080" cy="1557000"/>
          </a:xfrm>
        </p:grpSpPr>
        <p:sp>
          <p:nvSpPr>
            <p:cNvPr id="63" name=""/>
            <p:cNvSpPr/>
            <p:nvPr/>
          </p:nvSpPr>
          <p:spPr>
            <a:xfrm>
              <a:off x="5291280" y="415296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splazamiento de activ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0" y="43434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81480" y="2895480"/>
            <a:ext cx="3733920" cy="1981080"/>
            <a:chOff x="5181480" y="2895480"/>
            <a:chExt cx="3733920" cy="1981080"/>
          </a:xfrm>
        </p:grpSpPr>
        <p:sp>
          <p:nvSpPr>
            <p:cNvPr id="66" name=""/>
            <p:cNvSpPr/>
            <p:nvPr/>
          </p:nvSpPr>
          <p:spPr>
            <a:xfrm>
              <a:off x="7238880" y="3648240"/>
              <a:ext cx="167652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Impa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86600" y="2895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162920" y="411444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48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373356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6572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conceptual que nos permitirá entender la generación de viajes.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Bibliografía: generación y efectos de mercados de transporte Jara-Gálvez (1975). También en: Apuntes de análisis de sistemas de transporte Martínez y Tudela (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ongamos la existencia de dos mercados, inicialmente aislados, donde se produce y consume un mismo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sucede si se conec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5238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tidad produc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16761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ca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78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562720" y="243828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1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: Oferta. Cantidad del bien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que está dispuesta a ofrecer la(s) empresa(s) a un precio p. O1=O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88620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: Demanda. Cantidad del bie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que están dispuestos a adquirir los consumidores a un precio p. D1=D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2120" y="3276720"/>
            <a:ext cx="3886200" cy="2286000"/>
            <a:chOff x="762120" y="3276720"/>
            <a:chExt cx="3886200" cy="2286000"/>
          </a:xfrm>
        </p:grpSpPr>
        <p:sp>
          <p:nvSpPr>
            <p:cNvPr id="85" name=""/>
            <p:cNvSpPr/>
            <p:nvPr/>
          </p:nvSpPr>
          <p:spPr>
            <a:xfrm>
              <a:off x="762120" y="3505320"/>
              <a:ext cx="3047760" cy="20574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2895480"/>
            <a:ext cx="4114800" cy="2364840"/>
            <a:chOff x="838080" y="2895480"/>
            <a:chExt cx="4114800" cy="2364840"/>
          </a:xfrm>
        </p:grpSpPr>
        <p:sp>
          <p:nvSpPr>
            <p:cNvPr id="88" name=""/>
            <p:cNvSpPr/>
            <p:nvPr/>
          </p:nvSpPr>
          <p:spPr>
            <a:xfrm>
              <a:off x="838080" y="289548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el espacio p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9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562720" y="24382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1*,q1*: equilibrio ais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 el mercado 2 la situación es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2895480" cy="2971800"/>
          </a:xfrm>
          <a:custGeom>
            <a:avLst/>
            <a:gdLst/>
            <a:ahLst/>
            <a:rect l="l" t="t" r="r" b="b"/>
            <a:pathLst>
              <a:path w="2208" h="1392">
                <a:moveTo>
                  <a:pt x="0" y="1392"/>
                </a:moveTo>
                <a:cubicBezTo>
                  <a:pt x="268" y="1044"/>
                  <a:pt x="536" y="696"/>
                  <a:pt x="864" y="480"/>
                </a:cubicBezTo>
                <a:cubicBezTo>
                  <a:pt x="1192" y="264"/>
                  <a:pt x="1744" y="176"/>
                  <a:pt x="1968" y="96"/>
                </a:cubicBezTo>
                <a:cubicBezTo>
                  <a:pt x="2192" y="16"/>
                  <a:pt x="2200" y="8"/>
                  <a:pt x="2208" y="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286000"/>
            <a:ext cx="3429000" cy="2133720"/>
          </a:xfrm>
          <a:custGeom>
            <a:avLst/>
            <a:gdLst/>
            <a:ahLst/>
            <a:rect l="l" t="t" r="r" b="b"/>
            <a:pathLst>
              <a:path w="2160" h="1344">
                <a:moveTo>
                  <a:pt x="0" y="0"/>
                </a:moveTo>
                <a:cubicBezTo>
                  <a:pt x="180" y="392"/>
                  <a:pt x="360" y="784"/>
                  <a:pt x="720" y="1008"/>
                </a:cubicBezTo>
                <a:cubicBezTo>
                  <a:pt x="1080" y="1232"/>
                  <a:pt x="1620" y="1288"/>
                  <a:pt x="2160" y="134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52480" y="3733920"/>
            <a:ext cx="144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638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ad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437920"/>
            <a:ext cx="7924680" cy="3813120"/>
            <a:chOff x="0" y="2437920"/>
            <a:chExt cx="7924680" cy="3813120"/>
          </a:xfrm>
        </p:grpSpPr>
        <p:sp>
          <p:nvSpPr>
            <p:cNvPr id="111" name=""/>
            <p:cNvSpPr/>
            <p:nvPr/>
          </p:nvSpPr>
          <p:spPr>
            <a:xfrm flipH="1">
              <a:off x="4419360" y="4800600"/>
              <a:ext cx="1404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0" y="2437920"/>
              <a:ext cx="7924680" cy="3813120"/>
              <a:chOff x="0" y="2437920"/>
              <a:chExt cx="7924680" cy="381312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762120" y="2437920"/>
                <a:ext cx="0" cy="312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2120" y="556272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8600" y="2514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91520" y="5791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15000" y="3352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O</a:t>
                </a:r>
                <a:r>
                  <a:rPr b="0" lang="es-ES_tradnl" sz="2400" spc="-1" strike="noStrike" baseline="30000">
                    <a:solidFill>
                      <a:srgbClr val="ff3300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95480" y="2971800"/>
                <a:ext cx="3429000" cy="2133720"/>
              </a:xfrm>
              <a:custGeom>
                <a:avLst/>
                <a:gdLst/>
                <a:ahLst/>
                <a:rect l="l" t="t" r="r" b="b"/>
                <a:pathLst>
                  <a:path w="2160" h="1344">
                    <a:moveTo>
                      <a:pt x="0" y="0"/>
                    </a:moveTo>
                    <a:cubicBezTo>
                      <a:pt x="180" y="392"/>
                      <a:pt x="360" y="784"/>
                      <a:pt x="720" y="1008"/>
                    </a:cubicBezTo>
                    <a:cubicBezTo>
                      <a:pt x="1080" y="1232"/>
                      <a:pt x="1620" y="1288"/>
                      <a:pt x="2160" y="1344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77120" y="48006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D</a:t>
                </a:r>
                <a:r>
                  <a:rPr b="0" lang="es-ES_tradnl" sz="2400" spc="-1" strike="noStrike" baseline="30000">
                    <a:solidFill>
                      <a:srgbClr val="3333cc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762120" y="4786200"/>
                <a:ext cx="364320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4495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38480" y="5638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666880" y="3657600"/>
              <a:ext cx="2971800" cy="152388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600" y="2437920"/>
            <a:ext cx="7696080" cy="3813120"/>
            <a:chOff x="228600" y="2437920"/>
            <a:chExt cx="7696080" cy="3813120"/>
          </a:xfrm>
        </p:grpSpPr>
        <p:sp>
          <p:nvSpPr>
            <p:cNvPr id="126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343400" y="3352680"/>
            <a:ext cx="3352680" cy="1907640"/>
            <a:chOff x="4343400" y="3352680"/>
            <a:chExt cx="3352680" cy="1907640"/>
          </a:xfrm>
        </p:grpSpPr>
        <p:sp>
          <p:nvSpPr>
            <p:cNvPr id="132" name=""/>
            <p:cNvSpPr/>
            <p:nvPr/>
          </p:nvSpPr>
          <p:spPr>
            <a:xfrm>
              <a:off x="5715000" y="3352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3809880"/>
              <a:ext cx="1752480" cy="129564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771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43400" y="3886200"/>
              <a:ext cx="1295280" cy="137160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23880" y="2286000"/>
            <a:ext cx="2286000" cy="1602720"/>
            <a:chOff x="1523880" y="2286000"/>
            <a:chExt cx="2286000" cy="1602720"/>
          </a:xfrm>
        </p:grpSpPr>
        <p:sp>
          <p:nvSpPr>
            <p:cNvPr id="137" name=""/>
            <p:cNvSpPr/>
            <p:nvPr/>
          </p:nvSpPr>
          <p:spPr>
            <a:xfrm>
              <a:off x="1676520" y="2743200"/>
              <a:ext cx="1218960" cy="11430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9092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3880" y="2286000"/>
              <a:ext cx="1600200" cy="114300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954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é va a suceder con los productores y consumidores de ambo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28600" y="2437920"/>
            <a:ext cx="7848720" cy="3279600"/>
            <a:chOff x="228600" y="2437920"/>
            <a:chExt cx="7848720" cy="3279600"/>
          </a:xfrm>
        </p:grpSpPr>
        <p:sp>
          <p:nvSpPr>
            <p:cNvPr id="144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38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9880" y="16002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n M1 se genera exceso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scribir las ecuaciones de exceso de oferta y exceso de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¿nueva condición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523880" y="2438280"/>
            <a:ext cx="2514600" cy="1679040"/>
            <a:chOff x="1523880" y="2438280"/>
            <a:chExt cx="2514600" cy="1679040"/>
          </a:xfrm>
        </p:grpSpPr>
        <p:sp>
          <p:nvSpPr>
            <p:cNvPr id="151" name=""/>
            <p:cNvSpPr/>
            <p:nvPr/>
          </p:nvSpPr>
          <p:spPr>
            <a:xfrm>
              <a:off x="29718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40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388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60020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29200" y="3733920"/>
            <a:ext cx="2666880" cy="1831320"/>
            <a:chOff x="5029200" y="3733920"/>
            <a:chExt cx="2666880" cy="1831320"/>
          </a:xfrm>
        </p:grpSpPr>
        <p:sp>
          <p:nvSpPr>
            <p:cNvPr id="156" name=""/>
            <p:cNvSpPr/>
            <p:nvPr/>
          </p:nvSpPr>
          <p:spPr>
            <a:xfrm>
              <a:off x="59436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292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1055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019920" y="28195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M2 se genera exceso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58128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43434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7-07-30T15:36:38Z</dcterms:modified>
  <cp:revision>56</cp:revision>
  <dc:subject/>
  <dc:title>Sin título de diapositiva</dc:title>
</cp:coreProperties>
</file>