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E01-EAF9-44BD-83EC-E574A63E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9AD-4C21-43B7-84A1-96A13E3C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928-CC0A-48E8-825A-199FABFD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85D-7E93-48DF-B8F2-33C7FD15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941-CF6C-4C20-9C28-7C031E3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CA3-B938-45C1-8E60-0E92221A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185-D16D-4CBA-92E7-6764BFB5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02B-FAAA-49A3-9811-725A616C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722-1B02-409C-8507-DAFC4CE8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0BF-9C21-41FA-8E45-0E8698D8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7C3-027A-4688-A3DF-1D9185A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D3B-3E27-44AB-84FF-F264B1D8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0513-0609-4114-8F44-272361076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8-08-01T14:49:29Z</dcterms:modified>
  <cp:revision>37</cp:revision>
  <dc:subject/>
  <dc:title>Definiciones y conceptos básicos</dc:title>
</cp:coreProperties>
</file>