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E6EB-1545-40B9-BCFC-E9078C25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16AE-688A-4F7B-A8E5-F375EC93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365-189D-4401-B6AC-83B12B8C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EED-BA26-4191-98C8-F2EF94C1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E64-0EAD-4FAF-8B2F-8BFC922E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ACB-ACFA-479E-9CBD-32BB75EE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1BAD-C9D7-4BFB-B92F-C26D93E6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BA34-8402-4812-8EF1-D4A6593A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059B-CB37-4F05-8ECF-31D2655A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0B4-804E-43FA-958A-5C395C23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328-7C28-4FCB-A449-82FDA252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5BE7-3A97-4337-A46F-E372E37F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4215-47EE-46A2-B0B0-74B42E96A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ipo doc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Marcela Muniz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xiliar: </a:t>
            </a:r>
            <a:r>
              <a:rPr b="0" lang="en-US" sz="3200" spc="-1" strike="noStrike">
                <a:solidFill>
                  <a:srgbClr val="6600ff"/>
                </a:solidFill>
                <a:latin typeface="Comic Sans MS"/>
              </a:rPr>
              <a:t>Hugo Sil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átedra Lunes y Viernes 12:00-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eres: miércoles 14 a 16, requisito para aprobar. 30% de la nota f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9051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ces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19810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7242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6483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8098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33240" y="18493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78320" y="35053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962520"/>
            <a:ext cx="7162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1320" y="41148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requ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41148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espacial = localización de activid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tores agrícolas, centros urbanos, centros produ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, industria, servicios, 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es de transporte: via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: aéreo, acuático, terrestre: camión, tren, bus,auto, a 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ciones: frecuencia, tarifas, recorridos, detenciones, tasas de carga y descarga, sistemas de información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8954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la Serie de Concentración Tecnológica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 Civil Industr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l paquete de electivos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 Matemát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icar 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¿Qué está pasando en Santiago?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2: 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3: 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4: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8-08-01T14:49:29Z</dcterms:modified>
  <cp:revision>37</cp:revision>
  <dc:subject/>
  <dc:title>Definiciones y conceptos básicos</dc:title>
</cp:coreProperties>
</file>