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59A3-8CC9-41D8-A210-935568F71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EEE-73E3-45D8-9BE3-92C74E82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F4D-B131-4400-ABCC-2AD2360E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806-8229-4F96-A3CB-B2087B28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1FC-C80B-4E56-87E7-76F39322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D71B-6892-4201-821E-62D6560F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78B1-31B1-4055-9EDA-1A50C33C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B88C-6184-4090-A3A9-D0884A16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68ED-370A-4C5E-B051-EB451061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F50D-9419-4E6C-9137-2DFF8524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7B16-CBD3-419F-92F3-81C9E9F4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935C-8466-43B4-9FED-AA975771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8EB7-CA82-4EE4-AD04-4479FE71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DDB0-6181-4007-B3DC-B45DD6FA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C05F-17B0-41C9-931D-A7B195D5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C56F-F2BE-4E1B-83F4-504C52D1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F21A-9DBB-45A7-9A80-67F03995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1CB8-0F03-4233-93EC-20C5D59D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89C-34FD-4920-9BA2-C6B6BFD6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134-B594-470D-ADA5-514C956C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590-9002-4DDA-A06F-52EF3C6D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2CA-BB68-40EC-B147-BA633591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944-14B7-437A-899D-FB8C2AA3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30A1-A9BB-4B9A-8A3F-E00D0F44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89D-1CF7-49D5-87E1-82E5972C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591B-6892-45AF-B118-7338F14096B7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6D3F-154A-428E-88D2-B51D0EA17945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Auditorio</cp:lastModifiedBy>
  <dcterms:modified xsi:type="dcterms:W3CDTF">2008-09-22T17:29:47Z</dcterms:modified>
  <cp:revision>52</cp:revision>
  <dc:subject/>
  <dc:title>ANÁLISIS ECONÓMICO DE LA EDUCACIÓN SUPERIOR</dc:title>
</cp:coreProperties>
</file>