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6054-BDDD-4AFE-911D-073A8E590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rigor indicador beneficios/matrícula es una aproximación muy gruesa a la cobertura de las ayudas estudiantiles, puesto que hay estudiantes con más de un beneficio y hay beneficios de becas que son otorgados a alumnos matriculados en otras instituciones de educación super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E4D9-C265-4B3A-BAE4-7EE5383FF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7C84-F16E-4146-8BC1-946639E3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AB40-0F75-4161-8885-E1C50E553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4DED-553A-4070-8C29-ED859E6CE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ABD6-65FC-48C9-84F8-528F5ABB5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B2CC-4A17-4B17-AC71-9375A423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735D-6D5C-4DAA-A731-D1F9B00E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B0C0-B5C6-4089-BEEC-304B397F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83F1-7894-4F36-BA06-6BD2C532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53A5-D39D-45DC-9573-61C9747D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F33D-6234-4468-AB2D-423A8311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7402-C125-44DB-9CF0-1789E626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C616-5ABC-4F04-9C20-765389EB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837D-BC00-46B3-9F4D-6E70B5FA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A754-3D47-424E-917D-E9EA23B7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253D-620B-4E47-87CE-0E43C2166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BDBF-9EF4-430A-B525-B4FE71086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0DD9-7FDF-4EA3-8336-E88D2C8C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B419-6F1C-48F0-ABDB-ED1BFF31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FDB3-F9F9-4F66-8301-B4EFE3E8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FFEF-A957-4810-BACB-6CB012DD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B63E-470E-4D62-956A-1FE3E70A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DC1A-A7DF-4C88-8388-D84C8729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535A-0B72-44BD-B206-1810250A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493B-CDBE-4F7F-8B30-D18BB8380175}" type="slidenum"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FB30-BB95-4360-BA35-9D351641F06F}" type="slidenum"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IR%20carreras%20t&#233;cnicas.pdf" TargetMode="External"/><Relationship Id="rId2" Type="http://schemas.openxmlformats.org/officeDocument/2006/relationships/hyperlink" Target="file:///../../Pablo%20Gonz&apos;/My%20Documents/dii/clases/resp%20pendrive%2007%2006/clases/TIR%20carreras%20t&#233;cnicas.pdf" TargetMode="External"/><Relationship Id="rId3" Type="http://schemas.openxmlformats.org/officeDocument/2006/relationships/hyperlink" Target="http://futurolaboral.cl/" TargetMode="External"/><Relationship Id="rId4" Type="http://schemas.openxmlformats.org/officeDocument/2006/relationships/hyperlink" Target="file:///Derecho.jpg" TargetMode="External"/><Relationship Id="rId5" Type="http://schemas.openxmlformats.org/officeDocument/2006/relationships/hyperlink" Target="file:///Ingenier&#237;a%20industrial.jpg" TargetMode="External"/><Relationship Id="rId6" Type="http://schemas.openxmlformats.org/officeDocument/2006/relationships/hyperlink" Target="file:///Educaci&#243;n%20B&#225;sica.jpg" TargetMode="External"/><Relationship Id="rId7" Type="http://schemas.openxmlformats.org/officeDocument/2006/relationships/hyperlink" Target="file:///Periodismo.jpg" TargetMode="External"/><Relationship Id="rId8" Type="http://schemas.openxmlformats.org/officeDocument/2006/relationships/hyperlink" Target="file:///Psicolog&#237;a.jpg" TargetMode="External"/><Relationship Id="rId9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8288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FINANCIAMIENTO DE LA </a:t>
            </a:r>
            <a:r>
              <a:rPr b="0" lang="es-ES_tradnl" sz="3600" spc="-1" strike="noStrike">
                <a:solidFill>
                  <a:srgbClr val="cc9900"/>
                </a:solidFill>
                <a:latin typeface="Arial Black"/>
              </a:rPr>
              <a:t>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240" y="3962520"/>
            <a:ext cx="716292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imes New Roman"/>
              </a:rPr>
              <a:t>Pablo González</a:t>
            </a:r>
            <a:endParaRPr b="0" lang="en-US" sz="2800" spc="-1" strike="noStrike">
              <a:solidFill>
                <a:srgbClr val="cc66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imes New Roman"/>
              </a:rPr>
              <a:t>Santiago, septiembre 2008</a:t>
            </a:r>
            <a:endParaRPr b="0" lang="en-US" sz="2800" spc="-1" strike="noStrike">
              <a:solidFill>
                <a:srgbClr val="cc66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09480" y="624852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 desarrollo humano sustentable 10, PNUD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Sólo el 20% de los hogares puede pagar arancel promedi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886040"/>
          <a:ext cx="8178840" cy="4421160"/>
        </p:xfrm>
        <a:graphic>
          <a:graphicData uri="http://schemas.openxmlformats.org/drawingml/2006/table">
            <a:tbl>
              <a:tblPr/>
              <a:tblGrid>
                <a:gridCol w="4089240"/>
                <a:gridCol w="40896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Quintil de ingreso autónomo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Mensualidad respecto a ingreso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5,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,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I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,4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V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0,87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V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0,4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609480" y="62485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 desarrollo humano sustentable 10, PNUD, sobre la base de Aranda y Salas (2004)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0"/>
          <a:ext cx="8844120" cy="563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44120" cy="56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1440" y="781200"/>
          <a:ext cx="9258480" cy="577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781200"/>
                    <a:ext cx="9258480" cy="57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9900"/>
                </a:solidFill>
                <a:latin typeface="Arial Black"/>
              </a:rPr>
              <a:t>GASTO PÚBLICO Y PRIVADO EN EDUCACIÓN COMO % DEL PGB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Baja retención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Según OECD (2001) 28% de los que ingresaban se titulaban, contra 42% en OECD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La mayor parte de la deserción se produciría los dos primeros año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372600" cy="54104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632448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sarrollo humano sustentable 10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3962520"/>
            <a:ext cx="2590920" cy="990360"/>
          </a:xfrm>
          <a:prstGeom prst="ellipse">
            <a:avLst/>
          </a:prstGeom>
          <a:noFill/>
          <a:ln cap="sq"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ELEMENTOS CENTRAL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Masificación acces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cceso desigua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Graduación secundaria desigu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Calidad educación escolar desigu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lto gasto total y aporte privad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No sólo requieren apoyo los más vulnerables, sino el 80% de los hogar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Baja eficiencia interna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OS MALESTARES SOCIAL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Sociedad chilena no es meritocrátic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Pretende serlo con prueba de selección universitaria pero desigual calidad educación escolar, familia origen pesa y pre-Universitario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En el mercado laboral no hay igualdad de trat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Desigual calidad educación escola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“</a:t>
            </a: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No importa cuánto me esfuerce, en el liceo donde estoy nadie ha sacado nunca más de 500 puntos”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racaso del sistema escolar para responder a las expectativa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Endeudamiento vs. “Derecho”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Mala calidad de la educación entregada por algunas instituciones y falta de información adecuad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5905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ELEMENTOS CONCEPTUAL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TEMAS CLAV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ESTUDIANTI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Pregrad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Rentabilidad, masividad, equidad ex ante y ex post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“</a:t>
            </a: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GOVERNANCE” Y FINANCIA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La demanda social a la educación superior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onfiguración del sistema de incentivos y poder de los actore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Justificación de los aportes estatale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El caso de las universidades de investigación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El caso de las universidades regionale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Autonomía o impunidad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Necesidad de mejores regulacione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9900"/>
                </a:solidFill>
                <a:latin typeface="Verdana"/>
              </a:rPr>
              <a:t>OBJETIVOS DE LOS SISTEMAS DE EDUCACIÓN SUPERIOR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1760" y="2165040"/>
            <a:ext cx="7723080" cy="3794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Robbins (1963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Calificaciones de la fuerza de trabaj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Hombres y mujeres cultos, no meros especialist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umentar el conoci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Transmisión de una cultura común y estándares de ciudadaní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ANÁLISIS ECONÓMICO DE LOS SISTEMAS DE EDUCACIÓN SUPERIOR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4840" y="2165400"/>
            <a:ext cx="7724520" cy="38656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quema analítico: </a:t>
            </a:r>
            <a:r>
              <a:rPr b="0" i="1" lang="es-ES_tradnl" sz="2800" spc="-1" strike="noStrike">
                <a:solidFill>
                  <a:srgbClr val="cc6600"/>
                </a:solidFill>
                <a:latin typeface="Verdana"/>
              </a:rPr>
              <a:t>Empresa</a:t>
            </a: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 “multi- producto”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Docenci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Capital humano o goce consum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Economía se centra en análisis como inversión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vestiga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Aumento stock de conocimientos humanidad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Otros? Extensión (actividades culturales, de difusión, servicio a la comunidad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2971800"/>
            <a:ext cx="3276720" cy="1219320"/>
          </a:xfrm>
          <a:prstGeom prst="ellipse">
            <a:avLst/>
          </a:prstGeom>
          <a:noFill/>
          <a:ln cap="sq"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OBJETIVOS PRIVADOS RESPECTO A LA DOCENCIA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ducación para los demandantes es en parte un bien de consumo y en parte un bien de invers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ersonas toman decisión de educarse sobre la base de: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eferencia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apacidad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formación disponib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Beneficios: mayores ingresos, etc.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ostos directos, indirectos y de oportunidad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ducarse si el VPN&gt;0 o equivalentemente TIR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LA DECISIÓN DE SEGUIR ESTUDIOS SUPERIORES</a:t>
            </a:r>
            <a:r>
              <a:rPr b="0" lang="es-ES_tradnl" sz="3200" spc="-1" strike="noStrike">
                <a:solidFill>
                  <a:srgbClr val="fbfff7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1600200"/>
          <a:ext cx="91440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TASAS DE RETORNO DE EDUCACIÓN SUPERIOR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Varios estudios para países latinoamericanos encuentran TIR &gt; 20% anual, excepto Uruguay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Han crecido desde los novent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n Chile Beyer (2001), Sapelli y Torche (2002), Mizala y Romaguera (2002), Arellano y Braun (1999), Carnoy et al. (2003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Estimaciones por carrera utilizando información tributaria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Mayoría de las </a:t>
            </a: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carreras </a:t>
            </a: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técnicas </a:t>
            </a: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se ubica por encima del 20%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3"/>
              </a:rPr>
              <a:t>Algunas carrer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http://www.futurolaboral.cl/FuturoLaboral/carreras/index.htm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4"/>
              </a:rPr>
              <a:t>Derech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5"/>
              </a:rPr>
              <a:t>Ingeniería industri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6"/>
              </a:rPr>
              <a:t>Pedagogía en educación básic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7"/>
              </a:rPr>
              <a:t>Periodismo y comunicación soci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8"/>
              </a:rPr>
              <a:t>Psicologí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DUCACIÓN SUPERIOR ES UNA INVERSIÓN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rivadamente rentabl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TIR ha ido creciendo en el tiemp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c6600"/>
                </a:solidFill>
                <a:latin typeface="Verdana"/>
              </a:rPr>
              <a:t>Esto de hecho es una causa de que la distribución del ingreso no ha mejorado en los noventa, pese al aumento de la escolaridad de la población sin estudios universitarios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Masiva: 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Financiar la educación superior con recursos públicos siempre ha sido inequitativ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ero cuando era un sistema de elite era viab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¿Entonces por qué el Estado apoya la docencia de pregrado?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Beneficios docencia educación superio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Mayor parte de beneficios son apropiados por el graduado vía mayores ingresos y bienestar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“</a:t>
            </a: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Externalidades” positiva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Poca evidencia empírica</a:t>
            </a:r>
            <a:r>
              <a:rPr b="0" lang="es-CL" sz="1200" spc="-1" strike="noStrike">
                <a:solidFill>
                  <a:srgbClr val="cc6600"/>
                </a:solidFill>
                <a:latin typeface="Tahoma"/>
              </a:rPr>
              <a:t> (pero ver McMahon, 2004)</a:t>
            </a:r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24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¿Concentradas en niveles más tempranos? </a:t>
            </a:r>
            <a:r>
              <a:rPr b="0" lang="es-ES_tradnl" sz="1000" spc="-1" strike="noStrike">
                <a:solidFill>
                  <a:srgbClr val="cc6600"/>
                </a:solidFill>
                <a:latin typeface="Verdana"/>
              </a:rPr>
              <a:t>(Poterba, 1996, Hanushek, 2003)</a:t>
            </a:r>
            <a:endParaRPr b="0" lang="en-US" sz="10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Excepto por concentración de capital humano avanzado en ámbitos muy específicos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Pero es una inversión que tiene riesg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¿Aversión al riesgo privada </a:t>
            </a:r>
            <a:r>
              <a:rPr b="0" lang="es-ES_tradnl" sz="1800" spc="-1" strike="noStrike">
                <a:solidFill>
                  <a:srgbClr val="cc6600"/>
                </a:solidFill>
                <a:latin typeface="Symbol"/>
                <a:ea typeface="Symbol"/>
              </a:rPr>
              <a:t></a:t>
            </a: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 social?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Imperfecciones mercado de capitales? 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 ¿Restricciones de liquidez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Capacidad de presión grupos organizad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as soluciones desde la economía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…</a:t>
            </a: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Herramientas para resolver las fallas de mercado y hacer más eficiente el sistem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Al enfrentar el problema de liquidez mediante créditos contingentes a ingresos o impuesto a los graduados se cree solucionar el problema de equidad </a:t>
            </a: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(Barr, Salmi)</a:t>
            </a: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Estudiantes tienen financiamiento para una actividad que se espera sea privadamente rentable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Futuros profesionales devuelven en función de su capacidad de pago (si les va mal no devuelven)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bsidiar educación superior significaría apoyo a grupos de mayores ingresos (ex-ante y ex-post)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 Black"/>
              </a:rPr>
              <a:t>Más sobre la solución vía mecanismos de crédito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Además, resuelve el ajuste de la oferta de graduados a necesidades del mercado labor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Esto se produce a través de la transmisión de señales del mercado laboral al sistema de educación superior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Lo que requiere resolver los problemas de información, que también tienen aspectos relacionados con equidad (los más informados son los que tienen más acceso a redes, etc.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VOLUCIÓN MATRÍCULA EDUCACIÓN SUPERIOR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008000" y="1601640"/>
          <a:ext cx="8301240" cy="539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601640"/>
                    <a:ext cx="8301240" cy="539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5867280" y="1219320"/>
            <a:ext cx="2971800" cy="64260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</a:rPr>
              <a:t>+ de 70% es primera generación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¿Dónde falla el argumento?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incierto: ¿me atrevo a arriesgarme si no tengo certeza que voy a contar con el 100% de los recursos que necesito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parcial: costo de oportunidad y gasto para mantenimiento durante el período de estudi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Patrones culturales: más probable aspirar a educación superior si padres profesionales, aspiraciones del entorno, resistencia a endeuda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Educación superior: </a:t>
            </a:r>
            <a:r>
              <a:rPr b="0" lang="es-CL" sz="3200" spc="-1" strike="noStrike" u="sng">
                <a:solidFill>
                  <a:srgbClr val="996633"/>
                </a:solidFill>
                <a:uFillTx/>
                <a:latin typeface="Tahoma"/>
                <a:hlinkClick r:id="rId1" action="ppaction://hlinksldjump"/>
              </a:rPr>
              <a:t>bien de confianza/ bien de uso </a:t>
            </a: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dependiendo de capacidad de procesamiento del estudiante y su familia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Hay un rol del estado respecto a </a:t>
            </a:r>
            <a:r>
              <a:rPr b="0" lang="es-CL" sz="3200" spc="-1" strike="noStrike" u="sng">
                <a:solidFill>
                  <a:srgbClr val="996633"/>
                </a:solidFill>
                <a:uFillTx/>
                <a:latin typeface="Tahoma"/>
                <a:hlinkClick r:id="rId2" action="ppaction://hlinksldjump"/>
              </a:rPr>
              <a:t>informar adecuadamente a los postulant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OTROS ELEMENTOS IMPORTANT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Tipos de bien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30592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 inspecc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alidad puede ser evaluada antes de comprarlo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Sandía calada, estampilla, postal, revista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 confianz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onsumidor tarda mucho y a veces no comprueba nunca la calidad del bien que adquirió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Resistencia a terremotos de una vivienda, oportunidad de una intervención quirúrgica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 us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alidad se determina al emplearlo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Autos, electrodomésticos, etc. 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¿Evaluación compleja y compra poco frecuente? (rentas vitalicias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pic>
        <p:nvPicPr>
          <p:cNvPr id="21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5880" y="6248520"/>
            <a:ext cx="304812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IMPORTANCIA DE INFORMACIÓN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958160" cy="411012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Información incorrecta lleva a asignación de recursos ineficient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dquirir información tiene costo (tiempo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tudios muestran que consumidores utilizan un pequeño set de informac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n educación consumidores utilizan: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sus redes social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oxis de calidad (apariencia física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89120" y="259920"/>
            <a:ext cx="782136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Verdana"/>
              </a:rPr>
              <a:t>ROL DEL ESTADO RESPECTO A INFORMA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quidad: capacidad de obtener y procesar información inversamente relacionadas con nivel educacional y socioeconómic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ficiencia: economías de escala en producción de información y características de bien público (no rival y no excluible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Homogeneidad información para poder comparar (caso planes Isapres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9900"/>
                </a:solidFill>
                <a:latin typeface="Arial Black"/>
              </a:rPr>
              <a:t>ROL DEL ESTADO RESPECTO A EQUIDAD E IGUALDAD DE OPORTUNIDADES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Mejorar oportunidades de acceso al sistema escolar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Mejorar distribución calidad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Compensar desigualdades de origen: + recursos en los más pobres </a:t>
            </a:r>
            <a:r>
              <a:rPr b="0" lang="es-ES" sz="1600" spc="-1" strike="noStrike">
                <a:solidFill>
                  <a:srgbClr val="cc6600"/>
                </a:solidFill>
                <a:latin typeface="Tahoma"/>
              </a:rPr>
              <a:t>(ej. Sudáfrica; subvención diferenciada)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Horarios que no favorecen trabajo part-time,</a:t>
            </a: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cc6600"/>
                </a:solidFill>
                <a:latin typeface="Tahoma"/>
              </a:rPr>
              <a:t>ej. Brasi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¿Cuán largo me lo fiáis?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Tahoma"/>
              </a:rPr>
              <a:t>Acción afirmativa: ejemplo, premiar a los mejores alumnos de cada curs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Tahoma"/>
              </a:rPr>
              <a:t>Necesidad de cursos de nivelación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438280"/>
            <a:ext cx="8280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ASPECTOS CENTRALES DEL FINANCIAMIENTO A LA DOCENCIA DE PREGRADO EN CHILE (</a:t>
            </a:r>
            <a:r>
              <a:rPr b="0" lang="es-CL" sz="3600" spc="-1" strike="noStrike" u="sng">
                <a:solidFill>
                  <a:srgbClr val="996633"/>
                </a:solidFill>
                <a:uFillTx/>
                <a:latin typeface="Arial Black"/>
                <a:hlinkClick r:id="rId1" action="ppaction://hlinksldjump"/>
              </a:rPr>
              <a:t>Saltar</a:t>
            </a: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)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ASPECTOS CENTRALES FINANCIAMIENT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Recuperación de costos: recursos privado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Dos sistemas de apoyo estudiantil según fecha creación de universidad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Becas y crédito subsidiado CRector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Crédito para programas acreditados en privada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SISTEMA DE CRÉDITO UNIVERSITARIO </a:t>
            </a:r>
            <a:r>
              <a:rPr b="1" lang="es-ES_tradnl" sz="1800" spc="-1" strike="noStrike">
                <a:solidFill>
                  <a:srgbClr val="cc9900"/>
                </a:solidFill>
                <a:latin typeface="Verdana"/>
              </a:rPr>
              <a:t>CONSEJO RECTORES </a:t>
            </a:r>
            <a:endParaRPr b="0" lang="en-US" sz="1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58160" cy="47242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rédito contingente a ingresos es equitativo y eficiente (Barr, 1992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La ayuda estudiantil está relativamente bien focalizada comparada a otros países de LA pero mal r.a. otros niveles del sistema 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Monto total: limitaciones surgen principalmente de la morosidad y del subsidio de tasa de interés (2% fijo). Es cuestionable también el límite de 5% de los ingres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No cubre costos de oportunidad: manten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Apoyo a CFT, IP y universidades privadas post 1981 largo tiempo restringido a becas Pdte Rep., hasta nueva ley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TEMAS NUEVO SISTEMA DE CRÉDIT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Garantía universitaria y estándares de aprobación más lax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Incertidumbre respecto a recursos que el estado tendrá que aportar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Trade-off entre garantía estatal y tasa de interés que se cobre a los alumn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Diferencias por mérito, socioeconómicas, carreras y universidades. ¿Subsidios cruzados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Información disponible para postulante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Cobertura neta 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OTROS APORT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FI: no se justifica, subsidio a la demanda mal concebido </a:t>
            </a: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(ver libro Caminos para la inclusión en educación superior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porte fiscal directo y fondos institucional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Necesidad de aclarar que se está “comprando” con estos aport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¿Son adecuadas las fórmulas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3623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9900"/>
                </a:solidFill>
                <a:latin typeface="Arial Black"/>
              </a:rPr>
              <a:t>COMPARACIÓN CRÉDITO CON ALTERNATIVAS DE FINANCIAMIENTO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Arancel diferenciado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ás difícil controlar ingreso actual que ingreso futuro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enos recursos a educación 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Recursos públicos: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Limitación restringiría crecimiento sistema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Costo de oportunidad: esquema actual permite mejorar razón Gpub sup/ Gpub escolar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Inequitativo ex-post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¿Cómo se financia? No se puede cobrar x sobre el costo a los más ricos porque se irían a otras Ue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Impuesto a graduados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No se discrimina diferencias de costo de las carrer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Menos recursos a educación (se requieren ahora y el costo de oportunidad de recursos públicos es alto):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Limitación restringiría crecimiento sistema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Recaudación probablemente entraría a rentas generales, no incrementaría disponibilidad recursos en instituciones más exitos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Problemas sistemas de crédit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¿Reticencia grupos de menores ingresos a endeudarse? (para mayor consumo futuro)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Necesidad de seguro para abaratar costo crédit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25905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OTROS TEMA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TODOS LOS ACTORES DEBEN TENER INCENTIVOS CORRECTOS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ección, crédito e información aseguran cumplimiento de objetivos privados, no objetivos públic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ero </a:t>
            </a:r>
            <a:r>
              <a:rPr b="0" lang="es-ES_tradnl" sz="2800" spc="-1" strike="noStrike">
                <a:solidFill>
                  <a:srgbClr val="996633"/>
                </a:solidFill>
                <a:latin typeface="Verdana"/>
              </a:rPr>
              <a:t>que la institución sea pública tampoco asegura la producción de los “objetivos públicos”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Debe haber incentivos para proveer esos objetivos eficientement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regulación y financiamient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¿Regulación respecto al lucro solo incentiva elusión tributaria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 Black"/>
              </a:rPr>
              <a:t>OTROS BIEN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 valor de la universidad pública: ¿pluralismo, independencia académica (autonomía o impunidad: importancia de accountability), cohesión social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Incluso en EEUU más de dos tercios de los estudiantes asisten a Ues estatale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portes institucionales, universidades regionales, financiamiento investigación, etc.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RESUMEN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Resumen ¿Qué debe hacer el estado respecto a la docencia?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Asegurar que los estudiantes meritorios tengan acceso: crédito contingente a ingresos futuros o con seguro estat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Necesidad de medidas para mejorar equidad Sistema escolar/ ¿Acción afirmativa? ¿Mantención? ¿Horarios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¿Carreras saturadas? Importancia de la información en decisiones, problemas de otros instrumentos (ej. Informática en EEUU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Importancia de instituciones públicas y de decisiones privadas alineadas con el interés público: también en la oferta hay problema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Cobertura bruta 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ímites quintiles de ingreso autónomo de los hogares 2006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1886040"/>
          <a:ext cx="8305920" cy="4209840"/>
        </p:xfrm>
        <a:graphic>
          <a:graphicData uri="http://schemas.openxmlformats.org/drawingml/2006/table">
            <a:tbl>
              <a:tblPr/>
              <a:tblGrid>
                <a:gridCol w="1255680"/>
                <a:gridCol w="1687680"/>
                <a:gridCol w="1611000"/>
                <a:gridCol w="1327320"/>
                <a:gridCol w="1211400"/>
                <a:gridCol w="1212840"/>
              </a:tblGrid>
              <a:tr h="670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Quintil Autónomo Regional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Promedio de personas en el Hogar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Promedio Ingreso Autónomo Hogar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ngreso autónomo per-cápita del hogar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Promedi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Mínim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Máxim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14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4,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27.668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29.12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49.40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4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268.693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65.85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49.407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83.658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I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,7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87.722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04.446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83.66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130.656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V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,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607.348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73.74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130.669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236.509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.674.721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593.10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236.527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78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9900"/>
                </a:solidFill>
                <a:latin typeface="Verdana"/>
              </a:rPr>
              <a:t>DISTRIBUCIÓN DE LA MATRÍCULA DE EDUCACIÓN SUPERIOR POR QUINTIL DE INGRESO AUTONÓMO, 2003</a:t>
            </a:r>
            <a:endParaRPr b="0" lang="en-US" sz="2000" spc="-1" strike="noStrike">
              <a:solidFill>
                <a:srgbClr val="cc9900"/>
              </a:solidFill>
              <a:latin typeface="Arial Black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57200" y="1905120"/>
            <a:ext cx="8229600" cy="4143240"/>
            <a:chOff x="457200" y="1905120"/>
            <a:chExt cx="8229600" cy="4143240"/>
          </a:xfrm>
        </p:grpSpPr>
        <p:sp>
          <p:nvSpPr>
            <p:cNvPr id="109" name=""/>
            <p:cNvSpPr/>
            <p:nvPr/>
          </p:nvSpPr>
          <p:spPr>
            <a:xfrm>
              <a:off x="771192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3560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2,9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61080" y="5362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8476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0988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24080" y="5362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6,4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5362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71192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3560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1,8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61080" y="4662360"/>
              <a:ext cx="9745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8476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6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0988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8,2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4080" y="4662360"/>
              <a:ext cx="68580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,8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4662360"/>
              <a:ext cx="2666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Educación Universitari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3560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9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61080" y="3976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1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8476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3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0988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24080" y="3976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5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" y="3976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nstituto Profesion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3560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61080" y="3276720"/>
              <a:ext cx="9745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7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8476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5,7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24080" y="3276720"/>
              <a:ext cx="68580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7200" y="3276720"/>
              <a:ext cx="2666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Centro de Formación Técnic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71192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3560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61080" y="259092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8476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24080" y="259092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7200" y="25909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11920" y="19051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24080" y="1905120"/>
              <a:ext cx="458784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Quintil de ingreso autónomo percapit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200" y="19051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200" y="25909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2408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1192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098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8476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610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3560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3976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7200" y="46623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7200" y="5362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200" y="190512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72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6868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7200" y="604836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7928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6600"/>
                </a:solidFill>
                <a:latin typeface="Tahoma"/>
              </a:rPr>
              <a:t>MIDEPLAN, División Social, a partir de Encuesta CASEN  años respectivos</a:t>
            </a:r>
            <a:endParaRPr b="0" lang="en-US" sz="1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9900"/>
                </a:solidFill>
                <a:latin typeface="Arial Black"/>
              </a:rPr>
              <a:t>Población 20-24 años con al menos educación media completa según deciles de ingreso de los hogares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Ingresos según años de escolaridad         </a:t>
            </a:r>
            <a:r>
              <a:rPr b="0" lang="es-CL" sz="1800" spc="-1" strike="noStrike">
                <a:solidFill>
                  <a:srgbClr val="cc9900"/>
                </a:solidFill>
                <a:latin typeface="Arial Black"/>
              </a:rPr>
              <a:t>($ Nov 2006)</a:t>
            </a:r>
            <a:endParaRPr b="0" lang="en-US" sz="18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607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2:48:43Z</dcterms:created>
  <dc:creator>Pablo Gonzalez</dc:creator>
  <dc:description/>
  <dc:language>en-US</dc:language>
  <cp:lastModifiedBy>Auditorio</cp:lastModifiedBy>
  <dcterms:modified xsi:type="dcterms:W3CDTF">2008-09-22T17:29:47Z</dcterms:modified>
  <cp:revision>52</cp:revision>
  <dc:subject/>
  <dc:title>ANÁLISIS ECONÓMICO DE LA EDUCACIÓN SUPERIOR</dc:title>
</cp:coreProperties>
</file>