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CB50-FBBC-47AA-99F6-A06012D581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7AB-1155-47CD-9390-03D47A7091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A96F-E6DD-4F16-A577-279B386721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FEE4-7985-4BBB-95A2-E2372D1DD8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7685-E73B-4CA9-A0C2-FA3511E91C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F50A-50E3-4EE8-86AD-0A9E93EAFC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D097-F105-4587-A2F8-B38B73B3D9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7BB8-18FD-438B-8B8E-404ABC9A75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C3C2-6257-4148-8473-7BC9184A22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313B-CCE7-43E5-AE7C-F9426965CE5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7D92C-F719-4C32-AD91-F133873F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9104-18DB-4FC7-BB84-A32608147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7B458-ABBC-4752-B408-481E2A2FA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F1D2-D960-4200-BB71-6DAAB699F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85A8-5A22-4870-8743-BA49B98C4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99B6-B81A-4D9E-9E70-3D4BEE501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D75A-C775-47C0-A921-83ADCA82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69CB-2377-46CC-9175-C55AD484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F76D-E8BC-4BF9-ACE5-3E5B5545D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8B43-6DAD-4955-9D56-43961FE9A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15F7-A72E-4B43-BD5A-B9570E4D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497D-6CB7-4B65-A1E4-8A8CF711C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CC09-3357-4933-8A20-EE65B7126A9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
          <p:cNvGraphicFramePr/>
          <p:nvPr/>
        </p:nvGraphicFramePr>
        <p:xfrm>
          <a:off x="762120" y="2743200"/>
          <a:ext cx="7619760" cy="3589200"/>
        </p:xfrm>
        <a:graphic>
          <a:graphicData uri="http://schemas.openxmlformats.org/presentationml/2006/ole">
            <p:oleObj progId="Word.Document.12" r:id="rId2" spid="">
              <p:embed/>
              <p:pic>
                <p:nvPicPr>
                  <p:cNvPr id="352" name=""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Carlos Vignolo</cp:lastModifiedBy>
  <dcterms:modified xsi:type="dcterms:W3CDTF">2008-08-18T01:06:23Z</dcterms:modified>
  <cp:revision>94</cp:revision>
  <dc:subject/>
  <dc:title> Fundacao Luís Eduardo Magalhaes Salvador, 23 de Julio de 2002 </dc:title>
</cp:coreProperties>
</file>