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AE5CF-A01B-4356-B7B5-EAD130C1D4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F39A-02A1-42D4-8C56-62B1357CFE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CF6-561A-400D-8475-9F0788B035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3959-F1FB-4CBF-AD76-EEE265C1B4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6641-AE4A-400C-8F2D-EFFEB9F540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2C74-0DC2-4FDB-BEAC-CAEAA97F27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01F-C761-4D9B-A8B3-7FB3C66E07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D120-3E4B-45AE-9B30-D9075512F5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8BE7-35CE-42B2-9D5F-C7B3FD04E2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B63C-14B9-492D-8259-F880B03EC0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5C7AD-AF61-4B15-AF95-80F8E59CA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8D90-082A-49CB-9BA4-DD4258C2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2C1F3-27FF-446C-84A7-A14F68116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E4CFC-4736-4EA1-BA98-C58890CC6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66C92-BF78-4B1A-B209-744A6009D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91E9A-A123-4BAE-BC64-538B621C8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20606-CB24-4527-854E-0BC72A686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EE1C7-D781-4D32-B5C8-12C8511A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CCA0-A83D-42B6-8C9F-D4EFA327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CB9AC-A3CD-4D9D-B9BD-CD338549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56FA3-15DF-425F-96E3-D6708CC6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BC1D-31E7-4F6E-B388-68115B7DB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A0FB-2D38-4978-ADB5-CEE312E620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
          <p:cNvGraphicFramePr/>
          <p:nvPr/>
        </p:nvGraphicFramePr>
        <p:xfrm>
          <a:off x="762120" y="2743200"/>
          <a:ext cx="7619760" cy="3589200"/>
        </p:xfrm>
        <a:graphic>
          <a:graphicData uri="http://schemas.openxmlformats.org/presentationml/2006/ole">
            <p:oleObj progId="Word.Document.12" r:id="rId2" spid="">
              <p:embed/>
              <p:pic>
                <p:nvPicPr>
                  <p:cNvPr id="352" name=""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Carlos Vignolo</cp:lastModifiedBy>
  <dcterms:modified xsi:type="dcterms:W3CDTF">2008-08-18T01:06:23Z</dcterms:modified>
  <cp:revision>94</cp:revision>
  <dc:subject/>
  <dc:title> Fundacao Luís Eduardo Magalhaes Salvador, 23 de Julio de 2002 </dc:title>
</cp:coreProperties>
</file>