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A511-F7B4-4241-89EE-F63EA9BA1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2D1A-DC38-43CB-B4B2-8073F591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910C-55E6-40B7-BA34-0EEF332F0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BAE5-A352-4718-8C40-E7CB7ECC7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0092-31D6-4BA0-9D82-1E0FDA99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B2CB-CD50-4948-A532-08744D3B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49A0-A297-48DF-892C-7EB7CDD0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E120-496F-4D27-8F49-B7FDC20C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E7F6-092A-4C29-B17B-F5E6E380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B9A3-370C-4738-A083-A88C489E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1C91-1EC8-4238-9B82-F6FAB5A2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7C34-F5F7-45DA-8CEE-5876348D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1134-DB75-49BB-BB26-4C9897D13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2920" y="2624040"/>
            <a:ext cx="885672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TRABAJO Y EQUIDAD EN UN MUNDO GLOB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tricio M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68360" y="5186520"/>
            <a:ext cx="48974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4. Módulo “Percepción sobre Equidad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2004840"/>
          <a:ext cx="8229600" cy="3714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004840"/>
                    <a:ext cx="822960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37B0-5CD8-4D0E-A608-654FA630D8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4. Módulo “Percepción sobre Equidad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973160"/>
          <a:ext cx="8229600" cy="3780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973160"/>
                    <a:ext cx="8229600" cy="37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9DBF-4432-4D2A-A85F-101FCD3B35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ovilidad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equidad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↓ como probl. si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Movilidad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Comparación EEUU vs 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ituación 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studios Académicos: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poca (nula) Movilidad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20D3-031E-4AC2-8DB3-CCDB474D01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5. Módulo “Movilidad Soci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2139840"/>
          <a:ext cx="8229600" cy="3444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139840"/>
                    <a:ext cx="8229600" cy="34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CF5D-DCDA-405A-869C-61737B25DE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9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5. Módulo “Movilidad Soci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16000" y="1739880"/>
          <a:ext cx="8750160" cy="3668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1739880"/>
                    <a:ext cx="8750160" cy="36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45C8-D0D5-477D-AB08-8FB30CDE7C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90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rcado Lab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ómo funciona M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 AL? =&gt; - Rígidos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Flex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rígidos o f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ivel w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median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– 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ol w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bjetivo: Cómo tener M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- q’ genere good jo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lación Management – T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bjetivo: Sustituir relación conflictivas por relac. cooper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Cómo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operat. y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nflic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videncia Encuest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-43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j (55%) valoran rol empresa – lugar aprendizaje e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K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j (80%) tiene buena relac. con jef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-43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o Tj (80%) les gustaría q’ hubiera sindic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j (85%) les gustaría q’ hubiera Neg. C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8030-E805-4D98-8153-0B06240970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658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2. Módulo “Satisfacción y Clima Labor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71680" y="1600200"/>
          <a:ext cx="7999200" cy="4525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680" y="1600200"/>
                    <a:ext cx="7999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2F90-1813-481E-9069-BC39786185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584280" y="1600200"/>
          <a:ext cx="7975440" cy="4525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4280" y="1600200"/>
                    <a:ext cx="79754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457200" y="658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2. Módulo “Satisfacción y Clima Labor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A65F-DBC1-4B9B-B965-1F66AC434C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5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2. Módulo “Satisfacción y Clima Labor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1884240"/>
          <a:ext cx="8229600" cy="395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84240"/>
                    <a:ext cx="82296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6BFA-2D7A-4475-8DE5-290E80ECDB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5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2. Módulo “Satisfacción y Clima Labor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884240"/>
          <a:ext cx="8229600" cy="395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84240"/>
                    <a:ext cx="82296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080D-D595-46F8-8CA4-5B30298E1E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96960"/>
            <a:ext cx="82296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6920" y="696600"/>
            <a:ext cx="86058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m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NDO GLOBAL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CIMIENTO y EQ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ÍTICAS SOCIALES y EQ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LIDAD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CAD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B0BF-068A-47D7-B3CD-6389E27517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Módulo “Relaciones Laborales, Organizaciones Sindicales y Negociación Colectiv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884240"/>
          <a:ext cx="8229600" cy="395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84240"/>
                    <a:ext cx="82296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6FCF-3FC7-4F7A-92E3-DCC742F13F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584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3. Módulo “Relaciones Laborales, Organizaciones Sindicales y Negociación Colectiv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1884240"/>
          <a:ext cx="8229600" cy="395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84240"/>
                    <a:ext cx="82296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C572-21CF-4B0E-88C0-EB2C3B16C7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58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3. Módulo “Relaciones Laborales, Organizaciones Sindicales y Negociación Colectiv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862280"/>
          <a:ext cx="8229600" cy="4002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62280"/>
                    <a:ext cx="8229600" cy="40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A683-00EF-493E-A720-34493EE19E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512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3. Módulo “Relaciones Laborales,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Organizaciones Sindicales y Negociación Colectiv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971720"/>
          <a:ext cx="8229600" cy="3781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971720"/>
                    <a:ext cx="8229600" cy="37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 flipV="1">
            <a:off x="5543640" y="2168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9640" y="2168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96A1-A7CA-4A50-A88B-336B924412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4564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3. Módulo: “Relaciones Laborales,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Organizaciones Sindicales y Negociación Colectiv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884240"/>
          <a:ext cx="8229600" cy="395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84240"/>
                    <a:ext cx="82296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F3EB-152F-4CDD-9DD8-DDFC7AF5CAE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8000" y="606600"/>
            <a:ext cx="8928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. Empresa Moderna Alta-Productiv. GL con alta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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delo Fordista Jerárquico v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delo Toyotista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Ford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undo Vertical – toda IF/toma decis. – centrali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úpula – Gerente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Órdenes / IF – fluye hacia 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oyotism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– 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ma decis. descentralizada y particip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yotismo =&gt; Flujo IF – both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&gt; Adaptabil.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ermanente pa’ </a:t>
            </a:r>
            <a:r>
              <a:rPr b="0" lang="es-E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ante shocks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hocks competitividad de  empresas G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1A92-D8DF-4A1C-80B5-BC8A0271084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4 Reglas básicas pa’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Wingdings 3"/>
                <a:ea typeface="Wingdings 3"/>
              </a:rPr>
              <a:t>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 Y</a:t>
            </a:r>
            <a:r>
              <a:rPr b="1" lang="es-ES" sz="2800" spc="-1" strike="noStrike" u="sng" baseline="-25000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 intra-empres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National Association of Manufacturer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mpowering worker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&gt; empoderar Tj pa’ toma decis. en funciones q’ desempeñan – pa’ así mejorar Ql y eficiencia – proceso produ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Wingdings 3"/>
                <a:ea typeface="Wingdings 3"/>
              </a:rPr>
              <a:t>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municac. y generar trust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t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nagement y Tj – pa’ asegurar apoyo T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valores/objetivos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nvertir empresa en organiz. aprendizaje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ermanent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 q’ capacitac./Ed. Tj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proceso continuo I =&gt; </a:t>
            </a:r>
            <a:r>
              <a:rPr b="0" lang="es-E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sí Tj tendrán conocim. y ha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’ contribuir mejor desempeño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4A5B-D5CB-420E-8C5D-4AC5AF7260F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3 Reglas Básicas pa’ Y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oderar T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fianza Tj –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pacitac.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un mundo competitivo GL con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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permanente – las empresas q’ van a sobrevivir son aquellas q’ aprovechan intensivamente todo el KH q’ poseen ejecutivos y T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ª Regl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Co’ alinear motivación/objetivos Tj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 los del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bl. Agencia =&gt; Soluc. =&gt; Pagar con Acc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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mpresa Moderna USA </a:t>
            </a:r>
            <a:r>
              <a:rPr b="0" lang="es-E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ost 193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mplicancia =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’ </a:t>
            </a:r>
            <a:r>
              <a:rPr b="0" lang="es-MX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– empresa =&gt; No buscar excusas fuer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mos toro – No están afuera - están adentro </a:t>
            </a:r>
            <a:r>
              <a:rPr b="0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CB5A-EEF8-4CFC-A031-8C552042ED1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80820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D. Rol Sindicatos &amp; Neg. Colec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854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Visión Neoclásic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: M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s idéntico M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Papá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&gt; Sesgo Anti-sind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¿Pq M</a:t>
            </a:r>
            <a:r>
              <a:rPr b="1" lang="es-MX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es </a:t>
            </a: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a M</a:t>
            </a:r>
            <a:r>
              <a:rPr b="1" lang="es-MX" sz="1800" spc="-1" strike="noStrike" baseline="-25000">
                <a:solidFill>
                  <a:srgbClr val="000000"/>
                </a:solidFill>
                <a:latin typeface="Arial"/>
              </a:rPr>
              <a:t>Papás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indicatos en un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nivel de conflictiv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Visión Moderna sobre Rol Sindic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Hyp. Hirschman: Exit/V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dos. Imperfectos con IF Asimét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Rol Sindicato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&gt; Sup. Básic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xcluir Sindicatos co’ tool de partidos polí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Hacer fluida IF entre Management y T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stos transa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porcionan horizonte L.P. – preservac. acuerdos alcanz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000000"/>
                </a:solidFill>
                <a:uFillTx/>
                <a:latin typeface="Arial"/>
              </a:rPr>
              <a:t>Bottom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Falta + diálogo entre Management y T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evalece paradigma Economía Cerrada: J 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hora estamos en mundo GL =&gt; J 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&gt; 0  o  J 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&lt;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¿Co’ alinear intereses Tj con objetivos empresa?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bl Agencia =&gt; Soluc.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Pago a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53FE-49F6-4779-BCBC-5643A07A335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6840" y="765000"/>
            <a:ext cx="84358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etodología Resoluc. Discrepancias Consejo Temáticas Pendientes entre Management y T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egociac. por tema – genera posic. maximalistas de Management y T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oluc. =&gt; Transacción Combina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&gt; Q’ cede Tj contra q’ ceden empres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2 Issues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egislación Laboral ajustable GL y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ol Institucionalidad + importante: Direcc. Tra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FB9D-FFBD-4C3E-943C-CA81D95ADDD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MUNDO GLOBAL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mdo =&gt; Todo se mue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 – único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plicancias =&gt; Estrat. Desarrollo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to w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mpresa Toyot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ajo w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lex. 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mpresa Ford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plicancias =&gt; Institucionalidad Lab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6F8A-D760-4D8F-817E-8553CB56F1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9068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LARG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¿Cómo será Chile en el 2020?, en el 205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¿Cómo querríamos que fuera Chile en 2020?, en 205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¿Qué piensan nuestros parlamentarios al respecto –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 efectivo q’ el L.P. pa’ ellos es la próxima elecc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entral entre PD y PED =&gt;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ssue: ¿Cómo construir horizonte LP en P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160" indent="-548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ol central  instit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160" indent="-548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reación instancias de diá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-470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sejo Econ. –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iálogo =&gt;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trust =&gt;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K – social =&gt;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160" indent="-548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ablecimiento de Metas L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-470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quilibrios Macro: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Fis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-470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etas Equidad: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Qi ,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share Qi men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-470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etas Tj: Capacita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160" indent="-548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mbio mentalidad – Foco jóvenes/ni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160" indent="-548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F3A1-707D-4B8C-B00A-8F41D0E48E2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tra-Empresa – Gerencia RRHH – no es sustituto  diálogo directo Management – Sindic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ursos Training g Nuevos Dirigentes Sind. / Empr. – XX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pacitac. – Intra-Empresa =&gt; Tj vean q’ están I en e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pacitac. General – fuer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d- OK. L.P. =&gt; 20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apac. – C.P. =&gt; Ahora </a:t>
            </a:r>
            <a:r>
              <a:rPr b="1" lang="es-MX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Pa’ </a:t>
            </a:r>
            <a:r>
              <a:rPr b="1" lang="es-MX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Competit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428F-4604-4A5B-AAB2-CA7CA587EEF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839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RECIMIENTO - EQU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3496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Modelo actu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 - factor cent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no olvidar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ólo g importa – Resto viene por añadi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q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el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 resuelve todos los probl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Issu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q. Todos los Gob. no adoptan g – co’ único objetivo?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Implicancias modelo centrado en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dos los otros objetivos son sub-productos/dependiente de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yp “trickle down” – “rebalse” – “chorre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breza = F(g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(-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-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quidad = F(g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(+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- 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yp Converg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delos teóricos: g, comercio (H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videncia empí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vergencia l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vergencia (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CF69-152B-4D7B-A20B-1609A52139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Literatura Mod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=F(Equidad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(+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canismos conex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o M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C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– imperfecto =&gt; Excluye pob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con. polít. instituc 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=&gt; mantención status qu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eq. Genera </a:t>
            </a:r>
            <a:r>
              <a:rPr b="0" lang="es-E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violencia/delitos presente =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enerac. Expectat. &lt;0 / </a:t>
            </a:r>
            <a:r>
              <a:rPr b="0" lang="es-E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Inseguridad =&gt; </a:t>
            </a:r>
            <a:r>
              <a:rPr b="0" lang="es-E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I =&gt; </a:t>
            </a:r>
            <a:r>
              <a:rPr b="0" lang="es-E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videncia Empírica – W.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 = F(Equidad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(+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 – Gini / Share 50% 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istema ecs. Con efectos dinám. =&gt; g = F(Equidad); Equidad = F(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eq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o sólo afecta a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fecta nivel actos delictivos =&gt; Ql vida =&gt; I/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hequeo g post 1997 – Asia / 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nte Shock* =&gt; Cuando </a:t>
            </a: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&gt; ineq. – instituc. responsables pa’ distribuir de manera similar costos ajustes a través </a:t>
            </a: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grupos Y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funcionan pe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mplicancia Cen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gt; Equidad =&gt; Expectat. &gt;0 futuro =&gt;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gt; g =&gt; facilita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q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írculo virtuos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&gt; PD =&gt;   &gt; 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c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lt; G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2559-E74C-4C8D-9FA3-6AF90C743E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LITICAS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Paradigma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&gt;  Equidad =&gt; Po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clusión/Exclusión, Ig. Oportun., Movil. Soc., Vulnerab. =&gt;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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o =&gt; Foco: Pobr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; Go se agota en Po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digma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 Patern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istenci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pend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foque Aritmético – Contar Po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Paradigma =&gt;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Pobres = 40% (19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cap &lt; U$ 5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o no es válido 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bres  &lt; 15% (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cap &gt; U$ 13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o Asistencialismo =&gt; Go Emple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&gt; Mejor Go es tener job &lt;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o Qt   =&gt; Go Ql (Salud, Educación, Viv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D282-3E4C-4EE9-8779-734109B53F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57200" y="861840"/>
          <a:ext cx="8229600" cy="5851440"/>
        </p:xfrm>
        <a:graphic>
          <a:graphicData uri="http://schemas.openxmlformats.org/drawingml/2006/table">
            <a:tbl>
              <a:tblPr/>
              <a:tblGrid>
                <a:gridCol w="2656080"/>
                <a:gridCol w="1076760"/>
                <a:gridCol w="1873800"/>
                <a:gridCol w="216000"/>
                <a:gridCol w="2406960"/>
              </a:tblGrid>
              <a:tr h="4269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ERSPECTIVA DE POLÍTICAS SOCIALES Y LABOR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IGLO 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IGLO XX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ob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ación Necesidades Bás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leabi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susten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Gasto Social Sec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u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vien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t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t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t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Trabajadoras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Trabajado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bilidad labo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namovilida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ductividad y Remuner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ación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duccción asimetría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er de negoci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Escolares y Jóve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t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colar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nomí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AD97-BB58-4A65-ACF5-545288AD31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Sociedad con estruct. distr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uy plana =&gt; 9 Deciles =&gt; Gini: 0.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continuidad 10º Decil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o (Equidad)=&gt; Foco en 9 deciles inferi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&gt; Excluir Decil 10 =&gt; Edu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&gt; Colegios Particulares Pag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ssue: Rol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ol pa’ redistribu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entajas de Go sobre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ol Tax =&gt; Recaudar b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tuación distrib.       - pre-M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post-M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B57F-E7AA-46E3-A896-D4AC994765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veles de Desigualdad en Ch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55640" y="2257560"/>
            <a:ext cx="7777080" cy="374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B9C2-03C9-4811-A1A9-F52029F9F2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01:27:01Z</dcterms:created>
  <dc:creator>Oscar Landerretche</dc:creator>
  <dc:description/>
  <dc:language>en-US</dc:language>
  <cp:lastModifiedBy>pmeller</cp:lastModifiedBy>
  <dcterms:modified xsi:type="dcterms:W3CDTF">2008-08-09T16:06:55Z</dcterms:modified>
  <cp:revision>169</cp:revision>
  <dc:subject/>
  <dc:title>Diapositiva 1</dc:title>
</cp:coreProperties>
</file>