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35EF-F5F5-4287-A2E0-3C3F3011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91AD-EDD7-40BB-A69E-F2550137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EF3A-2777-4DF1-9F17-BB7575E3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70F9-C517-44A6-B888-1785E69AB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0129-A873-484B-AB42-0F46E3ADA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EB1E-95A4-45B6-AEB6-1E0582D22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813D-90BA-4EA1-B8FF-2E5DFA0B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901E-70B3-4B51-9C12-CF017E4C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72B1-7D4B-48A9-AB1C-22F4389D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CB31-B279-4FD6-8ACA-36AC8EA6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1DCB-1721-4481-A0CE-77182A7B6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DC08-25A9-4FE3-88A3-7522BA83E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C195-A2A1-43FE-8B4B-B459DE67EC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2920" y="2624040"/>
            <a:ext cx="8856720" cy="22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TRABAJO Y EQUIDAD EN UN MUNDO GLOB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atricio Me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68360" y="5186520"/>
            <a:ext cx="48974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2004840"/>
          <a:ext cx="8229600" cy="371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004840"/>
                    <a:ext cx="822960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C813-69CD-4DB9-B6C2-8ECFF87D262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Arial"/>
              </a:rPr>
              <a:t>4. Módulo “Percepción sobre Equidad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973160"/>
          <a:ext cx="8229600" cy="37800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3160"/>
                    <a:ext cx="8229600" cy="37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5378-F62C-4B55-9DB5-8FD9BFBE8C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equidad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↓ como probl. si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Comparación EEUU vs 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tuación 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studios Académicos: </a:t>
            </a:r>
            <a:r>
              <a:rPr b="1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oca (nula) 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B77D-13AD-490F-BC19-3FA6896C99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4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2139840"/>
          <a:ext cx="8229600" cy="34448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139840"/>
                    <a:ext cx="8229600" cy="34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712D-DCC4-4801-A1CD-3C5D76CD66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9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5. Módulo “Movilidad Soci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6000" y="1739880"/>
          <a:ext cx="8750160" cy="366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6000" y="1739880"/>
                    <a:ext cx="8750160" cy="36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7D05-E7C1-4FB2-B1D4-5E25FA0F10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90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rcado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ómo funciona 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AL? =&gt; - Rígidos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8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Flexi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rígidos o f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median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– ba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w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Cómo tener M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- q’ genere good jo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ción Management –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bjetivo: Sustituir relación conflictivas por relac. cooper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operat. y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flic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41040" indent="-506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videncia Encues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55%) valoran rol empresa – lugar aprendizaje e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0%) tiene buena relac. con jef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-4341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Tj (80%) les gustaría q’ hubiera sindic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02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j (85%) les gustaría q’ hubiera Neg. C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E79F-42EF-4D55-952B-CEC0A8703E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571680" y="1600200"/>
          <a:ext cx="799920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1680" y="1600200"/>
                    <a:ext cx="7999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980-F273-4BB1-B922-F59BB8A5795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584280" y="1600200"/>
          <a:ext cx="7975440" cy="45259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4280" y="1600200"/>
                    <a:ext cx="79754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457200" y="65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FEC-3BDD-41AE-B7A5-3416E8834B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87D9-B7B7-4047-96E7-2B311B5BCE0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5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2. Módulo “Satisfacción y Clima Laboral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17D-7F39-4185-9BCC-2C4DAAD6363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96960"/>
            <a:ext cx="82296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86920" y="696600"/>
            <a:ext cx="86058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CIMIENTO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ÍTICAS SOCIALES y EQU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RCADO del TR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-812880">
              <a:spcBef>
                <a:spcPts val="60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O PL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16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88C-7DF9-4473-B1AE-B3D34ED7CA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475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C902-E42B-46AB-A2B1-1C1865DF9C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5844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8129-5D94-4723-8F5B-5FEDBCFCF7E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58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3. Módulo “Relaciones Laborales, 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" y="1862280"/>
          <a:ext cx="8229600" cy="4002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62280"/>
                    <a:ext cx="8229600" cy="40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A94B-3300-42B8-88EC-D3CA41BE49B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5122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" y="1971720"/>
          <a:ext cx="8229600" cy="37814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971720"/>
                    <a:ext cx="8229600" cy="37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 flipV="1">
            <a:off x="5543640" y="216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9640" y="2168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3A1A-A593-4AE6-8427-B0665F7DE5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845640"/>
            <a:ext cx="89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3. Módulo: “Relaciones Laborales,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Organizaciones Sindicales y Negociación Colectiv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7200" y="1884240"/>
          <a:ext cx="8229600" cy="39560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884240"/>
                    <a:ext cx="82296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1332000" y="6129360"/>
            <a:ext cx="68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nsejo Asesor Presidencial Trabajo y Equ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969-8A62-4ABB-9C8E-6472230628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8000" y="606600"/>
            <a:ext cx="89280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. Empresa Moderna Alta-Productiv. GL con alta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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Fordista Jerárquico v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odelo Toyotista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ord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ndo Vertical – toda IF/toma decis. –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úpula – Gerente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rdenes / IF – fluye hacia aba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Toyotism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– 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ma decis. descentralizada y parti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yotismo =&gt; Flujo IF – both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Adaptabil.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ermanente pa’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ante shocks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hocks competitividad de  empresas G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5A8-5D25-4D48-9622-87DCC4AE102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4 Reglas básicas pa’ 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Y</a:t>
            </a:r>
            <a:r>
              <a:rPr b="1" lang="es-ES" sz="2800" spc="-1" strike="noStrike" u="sng" baseline="-25000">
                <a:solidFill>
                  <a:srgbClr val="000000"/>
                </a:solidFill>
                <a:uFillTx/>
                <a:latin typeface="Arial"/>
              </a:rPr>
              <a:t>L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 intra-empres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(National Association of Manufacturer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Empowering worker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=&gt; empoderar Tj pa’ toma decis. en funciones q’ desempeñan – pa’ así mejorar Ql y eficiencia – proceso produc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Wingdings 3"/>
                <a:ea typeface="Wingdings 3"/>
              </a:rPr>
              <a:t>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municac. y generar trust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t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anagement y Tj – pa’ asegurar apoyo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valores/objetivos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tir empresa en organiz. aprendizaje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permanent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en q’ capacitac./Ed. Tj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proceso continuo I =&gt;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sí Tj tendrán conocim. y habil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a’ contribuir mejor desempeño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3D77-CCFD-4093-B3B6-2C95ABBAC1D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 Reglas Básicas pa’ Y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mpoderar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fianza Tj –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pacitac.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un mundo competitivo GL con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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ermanente – las empresas q’ van a sobrevivir son aquellas q’ aprovechan intensivamente todo el KH q’ poseen ejecutivos y T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4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ª Regl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’ alinear motivación/objetivos Tj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 los del Manage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robl. Agencia =&gt; Soluc. =&gt; Pagar con A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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mpresa Moderna USA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ost 193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licancia =&g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’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– empresa =&gt; No buscar excusas fuera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omos toro – No están afuera - están adentro </a:t>
            </a:r>
            <a:r>
              <a:rPr b="0" lang="es-MX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20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C59A-A63D-47A3-99A7-2F3CF44C80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80820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D. Rol Sindicatos &amp; Neg. Colec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854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Neoclásic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 idéntico M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esgo Anti-sin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¿Pq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es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a M</a:t>
            </a:r>
            <a:r>
              <a:rPr b="1" lang="es-MX" sz="1800" spc="-1" strike="noStrike" baseline="-25000">
                <a:solidFill>
                  <a:srgbClr val="000000"/>
                </a:solidFill>
                <a:latin typeface="Arial"/>
              </a:rPr>
              <a:t>Papás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ndicatos en una empre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nivel de conflictiv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Visión Moderna sobre Rol 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yp. Hirschman: Exit/Vo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dos. Imperfectos con IF Asimé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ol Sindica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=&gt; Sup. Básic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cluir Sindicatos co’ tool de partidos polít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Hacer fluida IF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s transa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porcionan horizonte L.P. – preservac. acuerdos alcanz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Bottom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lta + diálogo entre Management y T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evalece paradigma Economía Cerrada: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hora estamos en mundo GL =&gt;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gt; 0  o  J </a:t>
            </a:r>
            <a:r>
              <a:rPr b="0" lang="es-MX" sz="1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&lt;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¿Co’ alinear intereses Tj con objetivos empresa?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bl Agencia =&gt; Soluc. </a:t>
            </a:r>
            <a:r>
              <a:rPr b="0" lang="es-MX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Pago 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69E-B1C1-4480-97D4-324BF5E5BB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6840" y="765000"/>
            <a:ext cx="843588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etodología Resoluc. Discrepancias Consejo Temáticas Pendientes entre Management y T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gociac. por tema – genera posic. maximalistas de Management y T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lpha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oluc. =&gt; Transacción Combin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=&gt; Q’ cede Tj contra q’ ceden empr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 Issues 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egislación Laboral ajustable GL y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Δ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ol Institucionalidad + importante: Direcc. Tra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F94-10FD-4745-81CB-40BC4A050F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MUNDO GLOBALIZ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1 mdo =&gt; Todo se mue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 – único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Estrat. Desarrollo =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lt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Toyot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ajo w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Flex. 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 Ford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ncias =&gt; Institucionalidad Lab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F0D-7864-4B64-9FB5-FF9DA81AA7F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90680"/>
            <a:ext cx="8229600" cy="77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LARGO PLAZ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será Chile en el 2020?, en el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Cómo querríamos que fuera Chile en 2020?, en 2050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¿Qué piensan nuestros parlamentarios al respecto – 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efectivo q’ el L.P. pa’ ellos es la próxima elecc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entral entre PD y PED =&gt;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-627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ssue: ¿Cómo construir horizonte LP en PED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ol central  institu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reación instancias de diá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sejo Econ. –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álogo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trust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K – social =&gt;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ablecimiento de Metas L.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quilibrios Macro: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Fis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Equidad: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i ,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hare Qi men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39200" indent="-470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L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as Tj: Capacita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bio mentalidad – Foco jóvenes/niñ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3160" indent="-5486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27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C62-C77E-48C2-84F8-599BFA6FC41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tra-Empresa – Gerencia RRHH – no es sustituto  diálogo directo Management – Sind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ursos Training g Nuevos Dirigentes Sind. / Empr. – XX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– Intra-Empresa =&gt; Tj vean q’ están I en el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c. General – fuer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d- OK. L.P. =&gt; 20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apac. – C.P. =&gt; Ahora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Pa’ </a:t>
            </a:r>
            <a:r>
              <a:rPr b="1" lang="es-MX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Competit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6C03-C384-4FFE-97C5-D50CED19036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CIMIENTO - EQU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Modelo actu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- factor cent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- no olvidar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ólo g importa – Resto viene por añadid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eli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 resuelve todos los proble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ssu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Pq. Todos los Gob. no adoptan g – co’ único objetivo?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Implicancias modelo centrado en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odos los otros objetivos son sub-productos/dependiente de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yp “trickle down” – “rebalse” – “chorre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za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-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quidad = F(g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- 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Hyp Converg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delos teóricos: g, comercio (H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videncia empí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vergencia l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vergencia (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7E3-6B62-4ED9-A477-5616EA4E39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Literatura Mod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=F(Equidad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canismos conex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o M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CR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– imperfecto =&gt; Excluye pob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con. polít. instituc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=&gt; mantención status qu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 Genera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violencia/delitos presente =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enerac. Expectat. &lt;0 /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nseguridad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I =&gt; </a:t>
            </a:r>
            <a:r>
              <a:rPr b="0" lang="es-ES" sz="1600" spc="-1" strike="noStrike">
                <a:solidFill>
                  <a:srgbClr val="000000"/>
                </a:solidFill>
                <a:latin typeface="Wingdings 3"/>
                <a:ea typeface="Wingdings 3"/>
              </a:rPr>
              <a:t>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videncia Empírica – W.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 = F(Equidad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(+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) – Gini / Share 50% po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istema ecs. Con efectos dinám. =&gt; g = F(Equidad); Equidad = F(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Ineq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 sólo afecta a 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fecta nivel actos delictivos =&gt; Ql vida =&gt; I/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lphaLcPeriod" startAt="4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hequeo g post 1997 – Asia / 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nte Shock* =&gt; Cuando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&gt; ineq. – instituc. responsables pa’ distribuir de manera similar costos ajustes a través </a:t>
            </a:r>
            <a:r>
              <a:rPr b="0" lang="es-ES" sz="1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grupos Y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funcionan pe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mplicancia Cent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Equidad =&gt; Expectat. &gt;0 futuro =&gt;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gt; g =&gt; facilita </a:t>
            </a:r>
            <a:r>
              <a:rPr b="0" lang="es-ES" sz="1800" spc="-1" strike="noStrike">
                <a:solidFill>
                  <a:srgbClr val="000000"/>
                </a:solidFill>
                <a:latin typeface="Wingdings 3"/>
                <a:ea typeface="Wingdings 3"/>
              </a:rPr>
              <a:t>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qu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Círculo virtuos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PD =&gt;   &gt;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&lt; G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BEE8-9E72-48A6-9463-14AC66D204C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3504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OLITICAS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Paradigma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=&gt;  Equidad =&gt;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lusión/Exclusión, Ig. Oportun., Movil. Soc., Vulnerab. =&gt; 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</a:t>
            </a:r>
            <a:r>
              <a:rPr b="0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o =&gt; Foco: Pobr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; Go se agota en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digma =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 Paternal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sistencialis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357560" indent="-4525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pend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foque Aritmético – Contar Pob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te Paradigma =&gt;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 Pobres = 40% (19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lt; U$ 5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-5281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ro no es válido 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bres  &lt; 15% (200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80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/cap &gt; U$ 13.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Asistencialismo =&gt; Go Empleabil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&gt; Mejor Go es tener job &lt;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o Qt   =&gt; Go Ql (Salud, Educación, Viv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6E398-9C42-4CB5-BA70-CF6897A12A8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57200" y="861840"/>
          <a:ext cx="8229600" cy="5851440"/>
        </p:xfrm>
        <a:graphic>
          <a:graphicData uri="http://schemas.openxmlformats.org/drawingml/2006/table">
            <a:tbl>
              <a:tblPr/>
              <a:tblGrid>
                <a:gridCol w="2656080"/>
                <a:gridCol w="1076760"/>
                <a:gridCol w="1873800"/>
                <a:gridCol w="216000"/>
                <a:gridCol w="2406960"/>
              </a:tblGrid>
              <a:tr h="4269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ERSPECTIVA DE POLÍTICAS SOCIALES Y LABORA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SIGLO XX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b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peración Necesidades Bás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mpleabi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sust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Gasto Social S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duc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ivien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as 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Trabajado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bilidad labor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inamovilida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ductividad y Remuneracio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pacitación            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duccción asimetría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          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r de negoc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Escolares y Jóve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nt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colar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lid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tonom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7BFE-DCBC-442F-8AC8-C945980E6F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Sociedad con estruct. distr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plana =&gt; 9 Deciles =&gt; Gini: 0.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continuidad 10º Decil =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o (Equidad)=&gt; Foco en 9 deciles inferi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Excluir Decil 10 =&gt; Edu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=&gt; Colegios Particulares Pag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ssue: Rol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ol pa’ redistribu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Ventajas de Go sobre 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l Tax =&gt; Recaudar b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tuación distrib.       - pre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 post-M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ED41-6E63-4AC0-AB5D-F23E964B20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iveles de Desigual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55640" y="2257560"/>
            <a:ext cx="7777080" cy="3743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022A-068C-4267-9F3F-DF62327A53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0T01:27:01Z</dcterms:created>
  <dc:creator>Oscar Landerretche</dc:creator>
  <dc:description/>
  <dc:language>en-US</dc:language>
  <cp:lastModifiedBy>pmeller</cp:lastModifiedBy>
  <dcterms:modified xsi:type="dcterms:W3CDTF">2008-08-09T16:06:55Z</dcterms:modified>
  <cp:revision>169</cp:revision>
  <dc:subject/>
  <dc:title>Diapositiva 1</dc:title>
</cp:coreProperties>
</file>