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AE3D2-7B63-4B34-A251-9CDF89809D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B763E-44B1-4FC6-9171-4DD55840AE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DA8D1-E3EC-4184-B526-ECC8324CAF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1B75F-3E98-415A-B8EB-55420B0423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28AAE-5EB0-4167-9BCC-B726818872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7A670-7E1E-4B09-AD05-1B96A7DB28A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DD6D8-4653-494C-92C0-DC11087504F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C8169-3F48-4DFE-9D4C-E918C488AA9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56960-D893-4C23-80EE-8B78CA984BD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EDAE3-1DA9-494B-B214-97A547792A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261C3-DC66-451F-908A-97A355E092A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39154-D8F7-4594-BDB9-E3FE6C0610F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881D0-DA9A-40EB-AAC8-166C6D7E4CD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77694-8A05-441D-B183-B67FABD8964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F4A45-9547-4879-808A-C40629EE441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7260E-8AB0-40B1-9F11-8D1E988797A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5EA80-B71F-42B7-BB09-155A366B4B0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EF85D-421E-421B-95F8-9602D866FD9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35D41-A9C4-4120-BE1A-5419F7D13D4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56A89-984E-41BA-A5D6-B043C1A78B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E25A4-4DEE-4EC1-A3AB-DB861790B8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DB60B-1797-4663-8A2D-77AEC9DBAE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31EE6-A2C5-4527-8222-CB69979C13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BAA01-FEFF-4A29-8BF5-CB036339AB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81720"/>
            <a:ext cx="9144000" cy="4906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808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5906880" y="6503760"/>
            <a:ext cx="312876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CE4D-ECD1-4942-9876-D0B41CA42445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805880" y="3240"/>
          <a:ext cx="133164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05880" y="3240"/>
                    <a:ext cx="13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69840" y="6492960"/>
            <a:ext cx="33242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In58b – Primavera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573360"/>
            <a:ext cx="9144000" cy="32990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805880" y="3240"/>
          <a:ext cx="133164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05880" y="3240"/>
                    <a:ext cx="13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8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80808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6381720"/>
            <a:ext cx="9144000" cy="4906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808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5906880" y="6503760"/>
            <a:ext cx="312876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9009-FC04-4020-8355-CF257DB26582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805880" y="3240"/>
          <a:ext cx="133164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05880" y="3240"/>
                    <a:ext cx="13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69840" y="6492960"/>
            <a:ext cx="33242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In58b – Primavera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381720"/>
            <a:ext cx="9144000" cy="4906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840" y="6492960"/>
            <a:ext cx="33242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In58b – Primavera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805880" y="3240"/>
          <a:ext cx="133164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05880" y="3240"/>
                    <a:ext cx="13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b2b2b2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990033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990033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8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80808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ff"/>
                </a:solidFill>
                <a:latin typeface="Verdana"/>
              </a:rPr>
              <a:t>Uso de modelos matemáticos en Marketing</a:t>
            </a:r>
            <a:endParaRPr b="1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IN58B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Ingeniería de Marketi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Nicolás Fritis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Manuel Reyes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Mauricio Ramírez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Importancia y beneficio del uso de modelos 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La premisa básica de hacer ingeniería de marketing es que el proceso de construcción de modelos mejora las decisiones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9907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Mejorar la consistencia de las decision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Explorar más escenarios / opcion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Evaluar el impacto relativo de las variabl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Facilitar los procesos de decisión grupal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Se actualizan los modelos mentales subjetivo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BB164-35F9-4DAA-8F75-B84C4E3031BB}" type="slidenum">
              <a:t>10</a:t>
            </a:fld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Antecedentes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755640" y="1989000"/>
            <a:ext cx="7773480" cy="3821040"/>
            <a:chOff x="755640" y="1989000"/>
            <a:chExt cx="7773480" cy="3821040"/>
          </a:xfrm>
        </p:grpSpPr>
        <p:pic>
          <p:nvPicPr>
            <p:cNvPr id="203" name="" descr=""/>
            <p:cNvPicPr/>
            <p:nvPr/>
          </p:nvPicPr>
          <p:blipFill>
            <a:blip r:embed="rId1"/>
            <a:stretch/>
          </p:blipFill>
          <p:spPr>
            <a:xfrm>
              <a:off x="755640" y="1989000"/>
              <a:ext cx="7632720" cy="320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364640" y="5229360"/>
              <a:ext cx="416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Correlación entre respuesta y pronóstic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Marketing Engineering (p14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AB44F-90CD-4FB2-BE17-5A9DA3F0B536}" type="slidenum">
              <a:t>11</a:t>
            </a:fld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Críticas al uso de modelos en marketing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Aunque pueden generar beneficios significativos, muchos administradores son reticentes a su aplicación: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A veces los modelos mentales son suficientemente buenos. No se permiten adaptar a nuevas situacion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Los modelos son incompletos. Es preferible a no tener nada. 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Administradores no ven el costo de oportunidad de sus decisiones. No se cuantifica la pérdida de utilidad de cada decisión tomada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Modelos enfatizan el análisis por sobre la acción. Tendencia a integrar al analista y el tomador de decision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Temor de mandos medios de perder importancia. Los modelos no reemplazan, mas bien potencian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La dificultad en la implantación no justifica el costo. Avances tecnológicos ha disminuido costos y aumentado complejidad de las decisiones. 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BAE6A-72C8-47D2-AA9A-300FE7B7B343}" type="slidenum">
              <a:t>12</a:t>
            </a:fld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Los modelos no son perfectos…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684360" y="5661000"/>
            <a:ext cx="7702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Siempre es mejor tener algo que no tener nada (a menos que cueste demasiado caro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300720" y="1636560"/>
            <a:ext cx="2808360" cy="2713320"/>
            <a:chOff x="6300720" y="1636560"/>
            <a:chExt cx="2808360" cy="2713320"/>
          </a:xfrm>
        </p:grpSpPr>
        <p:sp>
          <p:nvSpPr>
            <p:cNvPr id="210" name=""/>
            <p:cNvSpPr/>
            <p:nvPr/>
          </p:nvSpPr>
          <p:spPr>
            <a:xfrm>
              <a:off x="6638400" y="1636560"/>
              <a:ext cx="213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808080"/>
                  </a:solidFill>
                  <a:latin typeface="Tahoma"/>
                </a:rPr>
                <a:t>Otros no tanto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1"/>
            <a:stretch/>
          </p:blipFill>
          <p:spPr>
            <a:xfrm>
              <a:off x="6300720" y="2313000"/>
              <a:ext cx="2808360" cy="2036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"/>
          <p:cNvGrpSpPr/>
          <p:nvPr/>
        </p:nvGrpSpPr>
        <p:grpSpPr>
          <a:xfrm>
            <a:off x="96840" y="1484280"/>
            <a:ext cx="2714760" cy="2865600"/>
            <a:chOff x="96840" y="1484280"/>
            <a:chExt cx="2714760" cy="2865600"/>
          </a:xfrm>
        </p:grpSpPr>
        <p:sp>
          <p:nvSpPr>
            <p:cNvPr id="213" name=""/>
            <p:cNvSpPr/>
            <p:nvPr/>
          </p:nvSpPr>
          <p:spPr>
            <a:xfrm>
              <a:off x="303120" y="1484280"/>
              <a:ext cx="2303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808080"/>
                  </a:solidFill>
                  <a:latin typeface="Tahoma"/>
                </a:rPr>
                <a:t>Algunos modelos son buenos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2"/>
            <a:stretch/>
          </p:blipFill>
          <p:spPr>
            <a:xfrm>
              <a:off x="96840" y="2313000"/>
              <a:ext cx="2714760" cy="203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2935440" y="2324160"/>
            <a:ext cx="3240000" cy="201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46884-589B-419D-BFE3-F591F0F29A5E}" type="slidenum">
              <a:t>13</a:t>
            </a:fld>
          </a:p>
        </p:txBody>
      </p:sp>
    </p:spTree>
  </p:cSld>
  <p:transition spd="slow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Para utilizar modelos en marketing se debe ser conciente que…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La función comercial, por definición debe hacerse cargo de la interacción con </a:t>
            </a:r>
            <a:r>
              <a:rPr b="1" lang="es-ES_tradnl" sz="1800" spc="-1" strike="noStrike">
                <a:solidFill>
                  <a:srgbClr val="808080"/>
                </a:solidFill>
                <a:latin typeface="Verdana"/>
              </a:rPr>
              <a:t>personas</a:t>
            </a: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 las que por su naturaleza única y cambiante dificultan mucho la estructuración de los fenómenos en que intervienen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Los modelos en marketing deben: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Ser consistentes con el comportamiento esperable de los consumidor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Tener base empírica en los mercados relevant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6E9E5-9AF5-43E1-AA6A-502D13744A2F}" type="slidenum">
              <a:t>14</a:t>
            </a:fld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Dificultades del uso de modelos en marketing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Respuesta de ventas a un instrumento individual de marketing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En general, buscamos respuestas de venta ante acciones individuales, pero la venta depende de muchos factores simultáneamente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Interacción del marketing mix en las decisiones: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8080"/>
                </a:solidFill>
                <a:latin typeface="Verdana"/>
              </a:rPr>
              <a:t>Las decisiones son multivariadas y las relaciones suelen ser altamente no lineales.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8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Verdana"/>
              </a:rPr>
              <a:t>Efectos de la competencia: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8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Verdana"/>
              </a:rPr>
              <a:t>Las ventas no solo dependen de mis decisiones sino que también de las acciones de la competencia. 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Impacto desfasado: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8080"/>
                </a:solidFill>
                <a:latin typeface="Verdana"/>
              </a:rPr>
              <a:t>Las respuestas de las acciones de marketing puede distribuirse en el tiempo.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6CB1C-8BC3-48B3-8EEB-69C5FABBFD6D}" type="slidenum">
              <a:t>15</a:t>
            </a:fld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ff"/>
                </a:solidFill>
                <a:latin typeface="Verdana"/>
              </a:rPr>
              <a:t>Dificultades del uso de modelos en marketing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Múltiples territorios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La aplicación de actividades de marketing pueden tener un efecto muy distinto para cada región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Múltiples Productos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La interacción de distintos productos (complementarios/sustitutos) dificulta la toma de decision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Múltiples metas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Objetivos contrapuestos: “Maximas ventas y minimo costo” o “Maxima rotación vs minimo quiebre de stock”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Interacción funcional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Muchas veces, las decisiones de marketing no pueden ser separadas de las funciones operacionales y financiera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C8357-4327-47B0-99BF-437B8F598C8C}" type="slidenum">
              <a:t>16</a:t>
            </a:fld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ff"/>
                </a:solidFill>
                <a:latin typeface="Verdana"/>
              </a:rPr>
              <a:t>Uso de modelos matemáticos en Marketing</a:t>
            </a:r>
            <a:endParaRPr b="1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212640"/>
            <a:ext cx="64008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8080"/>
                </a:solidFill>
                <a:latin typeface="Verdana"/>
              </a:rPr>
              <a:t>Clasificación de modelos de marketing</a:t>
            </a:r>
            <a:endParaRPr b="1" lang="en-US" sz="2800" spc="-1" strike="noStrike">
              <a:solidFill>
                <a:srgbClr val="b2b2b2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b2b2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Verdana"/>
              </a:rPr>
              <a:t>Metodología</a:t>
            </a:r>
            <a:endParaRPr b="1" lang="en-US" sz="2400" spc="-1" strike="noStrike">
              <a:solidFill>
                <a:srgbClr val="b2b2b2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Verdana"/>
              </a:rPr>
              <a:t>Propósito</a:t>
            </a:r>
            <a:endParaRPr b="1" lang="en-US" sz="2400" spc="-1" strike="noStrike">
              <a:solidFill>
                <a:srgbClr val="b2b2b2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Según metodología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2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Verdana"/>
              </a:rPr>
              <a:t>Verbales:</a:t>
            </a: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 describen con palabra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Carecen de cuantificación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ncillo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Verdana"/>
              </a:rPr>
              <a:t>Gráficos: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 explicitan las relacion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Guían el análisi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irven de puente entre modelos verbales y matemático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Verdana"/>
              </a:rPr>
              <a:t>Matemáticos: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El tipo y magnitud de las relaciones se definen formalmente por medio de ecuacion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434360" y="2133720"/>
            <a:ext cx="666720" cy="3527280"/>
            <a:chOff x="7434360" y="2133720"/>
            <a:chExt cx="666720" cy="3527280"/>
          </a:xfrm>
        </p:grpSpPr>
        <p:sp>
          <p:nvSpPr>
            <p:cNvPr id="227" name=""/>
            <p:cNvSpPr/>
            <p:nvPr/>
          </p:nvSpPr>
          <p:spPr>
            <a:xfrm flipV="1">
              <a:off x="8101080" y="2133720"/>
              <a:ext cx="0" cy="3527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34360" y="3686040"/>
              <a:ext cx="1807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6200000">
              <a:off x="7327800" y="3821760"/>
              <a:ext cx="106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808080"/>
                  </a:solidFill>
                  <a:latin typeface="Verdana"/>
                </a:rPr>
                <a:t>Simplici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8388360" y="2133720"/>
            <a:ext cx="347760" cy="3527280"/>
            <a:chOff x="8388360" y="2133720"/>
            <a:chExt cx="347760" cy="3527280"/>
          </a:xfrm>
        </p:grpSpPr>
        <p:sp>
          <p:nvSpPr>
            <p:cNvPr id="231" name=""/>
            <p:cNvSpPr/>
            <p:nvPr/>
          </p:nvSpPr>
          <p:spPr>
            <a:xfrm>
              <a:off x="8388360" y="2133720"/>
              <a:ext cx="0" cy="3527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6200000">
              <a:off x="7552440" y="3686760"/>
              <a:ext cx="209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808080"/>
                  </a:solidFill>
                  <a:latin typeface="Verdana"/>
                </a:rPr>
                <a:t>Capacidad de anális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900000" y="5661000"/>
            <a:ext cx="61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Tahoma"/>
              </a:rPr>
              <a:t>Los 3 tipos son complemen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92D26-08B0-4484-A541-68A9DDE25101}" type="slidenum">
              <a:t>18</a:t>
            </a:fld>
          </a:p>
        </p:txBody>
      </p:sp>
    </p:spTree>
  </p:cSld>
  <p:transition spd="slow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jemplo: modelos de penetr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808080"/>
                </a:solidFill>
                <a:latin typeface="Verdana"/>
              </a:rPr>
              <a:t>Verbal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99ff"/>
                </a:solidFill>
                <a:latin typeface="Verdana"/>
              </a:rPr>
              <a:t>Las ventas de un nuevo producto parten tan lentamente como los “innovadores” de la población adoptan el producto. 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99ff"/>
                </a:solidFill>
                <a:latin typeface="Verdana"/>
              </a:rPr>
              <a:t>Los innovadores influencian a los “imitadores” llevando a acelerar el crecimiento de las ventas. 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99ff"/>
                </a:solidFill>
                <a:latin typeface="Verdana"/>
              </a:rPr>
              <a:t>Como más personas en la población compran el producto, las ventas totales continúan incrementándose pero la tasa de crecimiento de las ventas es menor.</a:t>
            </a: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02713-A38A-432D-90BC-838C767CDCA2}" type="slidenum">
              <a:t>19</a:t>
            </a:fld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Motiv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Algunas preguntas que el marketing cuantitativo nos ayuda a resolver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¿Qué precio debería fijar a los distintos productos de una línea para maximizar las ventas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i aumento mi gasto publicitario en un 20%, ¿como impactará en la participación de mercado de la marca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¿Qué características debiera tener el nuevo producto que lance al mercado el próximo semestre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¿Cuántos vendedores debiéramos asignar a cada una de las marcas que comercializa la compañía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99ff"/>
                </a:solidFill>
                <a:latin typeface="Verdana"/>
              </a:rPr>
              <a:t>¿Cuánto espacio le asigno en la góndola de las galletas a cada SKU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FA122-E2DD-444A-BE49-3D3E8C14E2C0}" type="slidenum">
              <a:t>2</a:t>
            </a:fld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jemplo: modelos de penetr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Verdana"/>
              </a:rPr>
              <a:t>Gráfico(1):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971640" y="1969920"/>
            <a:ext cx="8001000" cy="4098600"/>
            <a:chOff x="971640" y="1969920"/>
            <a:chExt cx="8001000" cy="4098600"/>
          </a:xfrm>
        </p:grpSpPr>
        <p:sp>
          <p:nvSpPr>
            <p:cNvPr id="239" name=""/>
            <p:cNvSpPr/>
            <p:nvPr/>
          </p:nvSpPr>
          <p:spPr>
            <a:xfrm>
              <a:off x="2916360" y="1969920"/>
              <a:ext cx="373392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Tamaño Población Fi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71640" y="3193920"/>
              <a:ext cx="274320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Innov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29440" y="3193920"/>
              <a:ext cx="274320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Imit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76720" y="2906640"/>
              <a:ext cx="304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3333cc"/>
                  </a:solidFill>
                  <a:latin typeface="Verdana"/>
                </a:rPr>
                <a:t>Influenc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71640" y="4255920"/>
              <a:ext cx="2743200" cy="642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Tiempo de compras de innov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29440" y="4255920"/>
              <a:ext cx="2743200" cy="642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Tiempo de compras de imit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16360" y="5425920"/>
              <a:ext cx="3733920" cy="642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Patrón del Crecimiento de Ventas de un Nuevo 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6" name=""/>
            <p:cNvCxnSpPr>
              <a:stCxn id="243" idx="2"/>
              <a:endCxn id="245" idx="1"/>
            </p:cNvCxnSpPr>
            <p:nvPr/>
          </p:nvCxnSpPr>
          <p:spPr>
            <a:xfrm flipH="1" rot="16200000">
              <a:off x="2210760" y="5067000"/>
              <a:ext cx="824400" cy="561240"/>
            </a:xfrm>
            <a:prstGeom prst="bentConnector2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44" idx="2"/>
              <a:endCxn id="245" idx="3"/>
            </p:cNvCxnSpPr>
            <p:nvPr/>
          </p:nvCxnSpPr>
          <p:spPr>
            <a:xfrm rot="5400000">
              <a:off x="6719400" y="4878360"/>
              <a:ext cx="824400" cy="938880"/>
            </a:xfrm>
            <a:prstGeom prst="bentConnector2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2"/>
              <a:endCxn id="243" idx="0"/>
            </p:cNvCxnSpPr>
            <p:nvPr/>
          </p:nvCxnSpPr>
          <p:spPr>
            <a:xfrm>
              <a:off x="2342880" y="3598920"/>
              <a:ext cx="1080" cy="64512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1" idx="2"/>
              <a:endCxn id="244" idx="0"/>
            </p:cNvCxnSpPr>
            <p:nvPr/>
          </p:nvCxnSpPr>
          <p:spPr>
            <a:xfrm flipV="1" rot="10800000">
              <a:off x="7600320" y="3598560"/>
              <a:ext cx="1080" cy="645120"/>
            </a:xfrm>
            <a:prstGeom prst="bentConnector2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50" name=""/>
            <p:cNvCxnSpPr>
              <a:stCxn id="239" idx="2"/>
              <a:endCxn id="240" idx="0"/>
            </p:cNvCxnSpPr>
            <p:nvPr/>
          </p:nvCxnSpPr>
          <p:spPr>
            <a:xfrm flipH="1">
              <a:off x="2342880" y="2374920"/>
              <a:ext cx="2440800" cy="80712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51" name=""/>
            <p:cNvCxnSpPr>
              <a:stCxn id="239" idx="2"/>
              <a:endCxn id="241" idx="0"/>
            </p:cNvCxnSpPr>
            <p:nvPr/>
          </p:nvCxnSpPr>
          <p:spPr>
            <a:xfrm>
              <a:off x="4782960" y="2374920"/>
              <a:ext cx="2818440" cy="80712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40" idx="3"/>
              <a:endCxn id="241" idx="1"/>
            </p:cNvCxnSpPr>
            <p:nvPr/>
          </p:nvCxnSpPr>
          <p:spPr>
            <a:xfrm>
              <a:off x="3727800" y="3390480"/>
              <a:ext cx="2489400" cy="108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D05F8-507F-46E0-BD6C-ED99BFB6A992}" type="slidenum">
              <a:t>20</a:t>
            </a:fld>
          </a:p>
        </p:txBody>
      </p:sp>
    </p:spTree>
  </p:cSld>
  <p:transition spd="slow"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3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jemplo: modelos de penetr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Verdana"/>
              </a:rPr>
              <a:t>Gráfico(2):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2322360" y="2790720"/>
            <a:ext cx="4645080" cy="2965680"/>
          </a:xfrm>
          <a:custGeom>
            <a:avLst/>
            <a:gdLst/>
            <a:ahLst/>
            <a:rect l="l" t="t" r="r" b="b"/>
            <a:pathLst>
              <a:path w="3560" h="2291">
                <a:moveTo>
                  <a:pt x="0" y="2291"/>
                </a:moveTo>
                <a:cubicBezTo>
                  <a:pt x="76" y="2282"/>
                  <a:pt x="256" y="2291"/>
                  <a:pt x="456" y="2235"/>
                </a:cubicBezTo>
                <a:cubicBezTo>
                  <a:pt x="656" y="2179"/>
                  <a:pt x="1004" y="2090"/>
                  <a:pt x="1200" y="1955"/>
                </a:cubicBezTo>
                <a:cubicBezTo>
                  <a:pt x="1396" y="1820"/>
                  <a:pt x="1499" y="1620"/>
                  <a:pt x="1632" y="1427"/>
                </a:cubicBezTo>
                <a:cubicBezTo>
                  <a:pt x="1765" y="1234"/>
                  <a:pt x="1808" y="1011"/>
                  <a:pt x="2000" y="795"/>
                </a:cubicBezTo>
                <a:cubicBezTo>
                  <a:pt x="2192" y="579"/>
                  <a:pt x="2524" y="262"/>
                  <a:pt x="2784" y="131"/>
                </a:cubicBezTo>
                <a:cubicBezTo>
                  <a:pt x="3044" y="0"/>
                  <a:pt x="3398" y="36"/>
                  <a:pt x="3560" y="11"/>
                </a:cubicBezTo>
              </a:path>
            </a:pathLst>
          </a:custGeom>
          <a:noFill/>
          <a:ln w="316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476360" y="2276640"/>
            <a:ext cx="5616720" cy="4033800"/>
            <a:chOff x="1476360" y="2276640"/>
            <a:chExt cx="5616720" cy="4033800"/>
          </a:xfrm>
        </p:grpSpPr>
        <p:sp>
          <p:nvSpPr>
            <p:cNvPr id="257" name=""/>
            <p:cNvSpPr/>
            <p:nvPr/>
          </p:nvSpPr>
          <p:spPr>
            <a:xfrm flipV="1">
              <a:off x="2320920" y="2276640"/>
              <a:ext cx="0" cy="35416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300400" y="5818320"/>
              <a:ext cx="45734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40000" y="2708280"/>
              <a:ext cx="4680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11400" y="5942160"/>
              <a:ext cx="306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99"/>
                  </a:solidFill>
                  <a:latin typeface="Verdana"/>
                </a:rPr>
                <a:t>Tiemp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6200000">
              <a:off x="105480" y="3791520"/>
              <a:ext cx="33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99"/>
                  </a:solidFill>
                  <a:latin typeface="Verdana"/>
                </a:rPr>
                <a:t>Ventas Acumuladas nuevo 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76720" y="2276640"/>
              <a:ext cx="38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99"/>
                  </a:solidFill>
                  <a:latin typeface="Verdana"/>
                </a:rPr>
                <a:t>Tamaño de la población fi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E7629-67C3-4F30-8EA5-4F92952D303A}" type="slidenum">
              <a:t>21</a:t>
            </a:fld>
          </a:p>
        </p:txBody>
      </p:sp>
    </p:spTree>
  </p:cSld>
  <p:transition spd="slow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jemplo: modelos de penetr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Verdana"/>
              </a:rPr>
              <a:t>Matemático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771640" y="3068640"/>
          <a:ext cx="295128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068640"/>
                    <a:ext cx="295128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1332000" y="4292640"/>
          <a:ext cx="67690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4292640"/>
                    <a:ext cx="67690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4AD0D-0AC9-44E4-8405-DA12088B12A4}" type="slidenum">
              <a:t>22</a:t>
            </a:fld>
          </a:p>
        </p:txBody>
      </p:sp>
    </p:spTree>
  </p:cSld>
  <p:transition spd="slow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Según propósito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Verdana"/>
              </a:rPr>
              <a:t>Modelos Descriptivos: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Buscan cuantificar la demanda o algún elemento asociado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Las variables independientes suelen ser las actividades del marketing mix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Típicamente comprenden una etapa de definición de </a:t>
            </a:r>
            <a:r>
              <a:rPr b="1" lang="es-ES_tradnl" sz="1600" spc="-1" strike="noStrike">
                <a:solidFill>
                  <a:srgbClr val="0099ff"/>
                </a:solidFill>
                <a:latin typeface="Verdana"/>
              </a:rPr>
              <a:t>estructura</a:t>
            </a: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 y otra de </a:t>
            </a:r>
            <a:r>
              <a:rPr b="1" lang="es-ES_tradnl" sz="1600" spc="-1" strike="noStrike">
                <a:solidFill>
                  <a:srgbClr val="0099ff"/>
                </a:solidFill>
                <a:latin typeface="Verdana"/>
              </a:rPr>
              <a:t>calibración</a:t>
            </a: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Verdana"/>
              </a:rPr>
              <a:t>Modelos de Decisión: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 buscan sugerencias a los valores que debe tomar las variables asociadas a las acciones de marketing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Verdana"/>
              </a:rPr>
              <a:t>Modelos Teóricos: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Buscan el efecto de postular un conjunto de supuestos sobre algún fenómeno. Ayudan a entender fenómenos y generan hipótesis que pueden apoyar modelos mas operacional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808080"/>
                </a:solidFill>
                <a:latin typeface="Verdana"/>
              </a:rPr>
              <a:t>Modelos de Pronóstico</a:t>
            </a:r>
            <a:r>
              <a:rPr b="0" lang="es-CL" sz="1600" spc="-1" strike="noStrike">
                <a:solidFill>
                  <a:srgbClr val="80808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99ff"/>
                </a:solidFill>
                <a:latin typeface="Verdana"/>
              </a:rPr>
              <a:t>Su objetivo es pronosticar el valor que tomará una variable en el futuro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45B7B-702C-4C4C-A851-0B23836CFB36}" type="slidenum">
              <a:t>23</a:t>
            </a:fld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ff"/>
                </a:solidFill>
                <a:latin typeface="Verdana"/>
              </a:rPr>
              <a:t>Uso de modelos matemáticos en Marketing</a:t>
            </a:r>
            <a:endParaRPr b="1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IN58B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Ingeniería de Marketi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Nicolás Fritis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Manuel Reyes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Mauricio Ramírez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l marketing necesita de los modelos matemáticos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La batalla por los mercados de consumo masivo ha crecido en intensidad en las últimas décadas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Competidores cada vez más dinámicos y agresivos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Consumidores cada vez más exigentes y complejos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Marcas con crecimientos planos o ciclos de vida extremadamente cortos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 hace cada vez más necesario contar con modelos y herramientas sofisticadas que apoyen las decisiones comercial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El marketing debe avanzar desde lo intuitivo a lo científico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37F9E-DF8C-44FD-8101-968F8894A3C4}" type="slidenum">
              <a:t>3</a:t>
            </a:fld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Los efectos de las decisiones de marketing son…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Rezagados (no inmediatos)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No lineale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Multidimensionale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Estocástico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Difíciles de medir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0099ff"/>
                </a:solidFill>
                <a:latin typeface="Wingdings"/>
                <a:ea typeface="Wingdings"/>
              </a:rPr>
              <a:t></a:t>
            </a: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El modelamiento de las variables de marketing es complejo, pero sumamente necesario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6D311-9F3A-45D2-AD4E-F608A7E8A842}" type="slidenum">
              <a:t>4</a:t>
            </a:fld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Tendencias que favorecen el modelamiento en marketing 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l desarrollo de soportes tecnológicos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ayor preocupación de las empresas por el desarrollo de sus bases de dato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recursos computacionale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Los gestores comerciales más preparados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conocimientos cuantitativo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receptivos a apoyar sus decisiones con elementos científico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La teoría de marketing más evolucionada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literatura, sistematización del conocimiento, base teórica más sólida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casos de éxito en base a la aplicación de modelos más robusto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l beneficio de los modelos ha comenzado a ser reportado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ayores ingresos (ej.:descubrimiento de nuevos nichos de mercado)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enores costos (ej.: pronóstico de fuga de clientes)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F6890-9B9F-4791-AAE3-D6249547288E}" type="slidenum">
              <a:t>5</a:t>
            </a:fld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Ciencias que han apoyado la construcción de estos modelos… 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Comportamiento del consumidor (psicología, sociología)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Economía (micro-economía, teoría de juegos)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Management (estrategia, administración)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Estadística / Econometría 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CDE18-8CF6-4226-9DA7-7CA26058A3B9}" type="slidenum">
              <a:t>6</a:t>
            </a:fld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l modelador debe ser capaz de…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Diagnosticar si corresponde la aplicación de un modelo formal y evaluar la conveniencia de su ejecución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Estructurar el problema detectando: objetivos, variables endógenas/exógenas y la forma (ecuaciones) en que se relacionan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Proponer un mecanismo eficiente de resolución del problema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Establecer un conjunto de requerimientos, restricciones y alcances para la resolución del problema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Implementar (llevar a la práctica) las soluciones propuestas (a través de la teoría)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94FA4-7747-4CDA-9981-55A80B31B0C8}" type="slidenum">
              <a:t>7</a:t>
            </a:fld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Qué es un modelo..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Un </a:t>
            </a:r>
            <a:r>
              <a:rPr b="1" lang="es-ES_tradnl" sz="2000" spc="-1" strike="noStrike">
                <a:solidFill>
                  <a:srgbClr val="808080"/>
                </a:solidFill>
                <a:latin typeface="Verdana"/>
              </a:rPr>
              <a:t>modelo </a:t>
            </a: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es una representación simplificada de la realidad, la cual es mas fácil de tratar y de explorar que la realidad misma, para un propósito especifico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Busca proporcionar </a:t>
            </a:r>
            <a:r>
              <a:rPr b="1" lang="es-ES_tradnl" sz="2000" spc="-1" strike="noStrike">
                <a:solidFill>
                  <a:srgbClr val="808080"/>
                </a:solidFill>
                <a:latin typeface="Verdana"/>
              </a:rPr>
              <a:t>herramientas</a:t>
            </a: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 analíticas para poder plasmar la teoría en modelos capaces de resolver problemáticas complejas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1BE4E-FFD5-4434-B34C-EF27506B2E17}" type="slidenum">
              <a:t>8</a:t>
            </a:fld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squemáticamente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3289320" y="3324240"/>
            <a:ext cx="2160720" cy="792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8080"/>
                </a:solidFill>
                <a:latin typeface="Verdana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35640" y="3727440"/>
            <a:ext cx="80784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95760" y="3540240"/>
            <a:ext cx="175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ff"/>
                </a:solidFill>
                <a:latin typeface="Verdana"/>
              </a:rPr>
              <a:t>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87720" y="4154400"/>
            <a:ext cx="117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Anális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Decis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Teorí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368960" y="2747520"/>
            <a:ext cx="0" cy="57636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77560" y="2351160"/>
            <a:ext cx="9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ff"/>
                </a:solidFill>
                <a:latin typeface="Verdana"/>
              </a:rPr>
              <a:t>Teo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71040" y="1523880"/>
            <a:ext cx="199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Comportamien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conomí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strateg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55920" y="3727440"/>
            <a:ext cx="80784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60800" y="351144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ff"/>
                </a:solidFill>
                <a:latin typeface="Verdana"/>
              </a:rPr>
              <a:t>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120" y="4022640"/>
            <a:ext cx="1789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Primari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(Encuesta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Secund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(Bases de dato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368960" y="4115880"/>
            <a:ext cx="0" cy="5763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35000" y="4656240"/>
            <a:ext cx="126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ff"/>
                </a:solidFill>
                <a:latin typeface="Verdana"/>
              </a:rPr>
              <a:t>Téc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85440" y="5195880"/>
            <a:ext cx="196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stadíst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Optimiz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Minería de dat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E9CFA-CD23-4BFB-918A-227714B73638}" type="slidenum">
              <a:t>9</a:t>
            </a:fld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1T14:33:53Z</dcterms:created>
  <dc:creator>Nicolas Fritis</dc:creator>
  <dc:description/>
  <dc:language>en-US</dc:language>
  <cp:lastModifiedBy>Nicolas Fritis</cp:lastModifiedBy>
  <dcterms:modified xsi:type="dcterms:W3CDTF">2008-08-01T12:42:43Z</dcterms:modified>
  <cp:revision>107</cp:revision>
  <dc:subject/>
  <dc:title>Presentación de PowerPoint</dc:title>
</cp:coreProperties>
</file>