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3A7D-3E7A-4F74-92BC-55EDE6805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34308-AA95-44E1-A5E9-7A47A7F55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DE41-4F80-4F3F-A4EF-0EC263049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ECC2-FA01-4F96-8848-3016ECEE3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3147-D3F6-4DB2-9361-DF58AAD10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9B05-6745-4EA1-AED1-87088FA3BE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D8B4-9F96-4AE4-9DDC-BA23A6E592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19A1-8628-4235-9E98-6BC004EB25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7A0B-9F2B-4F51-903F-BB54A5226B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481D-6B3F-4E5B-9A6F-D3D596CF0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3CF5-71A8-42AD-8806-CC9157D860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C06A1-3338-417A-9DED-CD68569503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B90E-4E11-4BF4-A72A-0199367874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2C44-1D84-4CBD-85CB-E907B44ED8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0290-A79C-479A-A467-0856692632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7674-B035-443C-A4C4-D86548B138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D9B6-85AD-4641-AF63-D33C0077B6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C0D5-9C1C-42F1-8168-DFEB691E471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985CB-A350-4DA5-91E8-3B979A45A4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2CF8-5901-46CE-B1D1-47249B8FD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5613-B6FB-4241-8017-8BA427500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C502-45A9-43AF-B21B-C4E177A34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AC618-E28F-49F0-8CF0-4A048F746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1A66-C37B-487E-9B79-6BBAA34D5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DED8-38E9-4A2E-A752-30F30F5A1BAC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573360"/>
            <a:ext cx="9144000" cy="32990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5906880" y="6503760"/>
            <a:ext cx="312876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7B6-1E79-4728-9FF7-FFB66E12C7CE}" type="slidenum">
              <a:rPr b="1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381720"/>
            <a:ext cx="9144000" cy="490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" y="6492960"/>
            <a:ext cx="33242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58b – Primavera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805880" y="3240"/>
          <a:ext cx="133164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05880" y="3240"/>
                    <a:ext cx="133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9900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990033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808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Importancia y beneficio del uso de modelos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La premisa básica de hacer ingeniería de marketing es que el proceso de construcción de modelos mejora las decisione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9907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Mejorar la consistencia de las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xplorar más escenarios / opc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valuar el impacto relativo de las variab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Facilitar los procesos de decisión grupal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 actualizan los modelos mentales subjetivo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31E9-81CD-4EA0-B20C-F46F086A97E5}" type="slidenum">
              <a:t>10</a:t>
            </a:fld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Antecedente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7CAF-E062-457E-B84A-03EF837040BA}" type="slidenum">
              <a:t>11</a:t>
            </a:fld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ríticas a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Aunque pueden generar beneficios significativos, muchos administradores son reticentes a su aplicació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 veces los modelos mentales son suficientemente buenos. No se permiten adaptar a nuevas sit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os modelos son incompletos. Es preferible a no tener nada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Administradores no ven el costo de oportunidad de sus decisiones. No se cuantifica la pérdida de utilidad de cada decisión tomada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Modelos enfatizan el análisis por sobre la acción. Tendencia a integrar al analista y el tomador de decis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Temor de mandos medios de perder importancia. Los modelos no reemplazan, mas bien potencia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99ff"/>
                </a:solidFill>
                <a:latin typeface="Verdana"/>
              </a:rPr>
              <a:t>La dificultad en la implantación no justifica el costo. Avances tecnológicos ha disminuido costos y aumentado complejidad de las decisiones. 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AE76-1E63-45AC-B18E-2B708C9A4077}" type="slidenum">
              <a:t>12</a:t>
            </a:fld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modelos no son perfectos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566100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iempre es mejor tener algo que no tener nada (a menos que cueste demasiado car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300720" y="1636560"/>
            <a:ext cx="2808360" cy="2713320"/>
            <a:chOff x="6300720" y="1636560"/>
            <a:chExt cx="2808360" cy="2713320"/>
          </a:xfrm>
        </p:grpSpPr>
        <p:sp>
          <p:nvSpPr>
            <p:cNvPr id="210" name=""/>
            <p:cNvSpPr/>
            <p:nvPr/>
          </p:nvSpPr>
          <p:spPr>
            <a:xfrm>
              <a:off x="6638400" y="1636560"/>
              <a:ext cx="213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Otros no tanto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6300720" y="2313000"/>
              <a:ext cx="2808360" cy="203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96840" y="1484280"/>
            <a:ext cx="2714760" cy="2865600"/>
            <a:chOff x="96840" y="1484280"/>
            <a:chExt cx="2714760" cy="2865600"/>
          </a:xfrm>
        </p:grpSpPr>
        <p:sp>
          <p:nvSpPr>
            <p:cNvPr id="213" name=""/>
            <p:cNvSpPr/>
            <p:nvPr/>
          </p:nvSpPr>
          <p:spPr>
            <a:xfrm>
              <a:off x="303120" y="1484280"/>
              <a:ext cx="230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808080"/>
                  </a:solidFill>
                  <a:latin typeface="Tahoma"/>
                </a:rPr>
                <a:t>Algunos modelos son bueno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96840" y="2313000"/>
              <a:ext cx="2714760" cy="203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935440" y="2324160"/>
            <a:ext cx="3240000" cy="201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FF1F-940E-4D55-BFD7-6E9D955B5A2B}" type="slidenum">
              <a:t>13</a:t>
            </a:fld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Para utilizar modelos en marketing se debe ser conciente qu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función comercial, por definición debe hacerse cargo de la interacción con </a:t>
            </a: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personas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las que por su naturaleza única y cambiante dificultan mucho la estructuración de los fenómenos en que interviene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os modelos en marketing deben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Ser consistentes con el comportamiento esperable de los consumidor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Tener base empírica en los mercados relevant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0D98-DFEB-47EF-963E-220DEE2A845B}" type="slidenum">
              <a:t>14</a:t>
            </a:fld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Respuesta de ventas a un instrumento individual de marketin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nteracción del marketing mix en las decisiones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decisiones son multivariadas y las relaciones suelen ser altamente no lineales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Efectos de la competencia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8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Verdana"/>
              </a:rPr>
              <a:t>Las ventas no solo dependen de mis decisiones sino que también de las acciones de la competencia.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Impacto desfasado: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Verdana"/>
              </a:rPr>
              <a:t>Las respuestas de las acciones de marketing puede distribuirse en el tiempo.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23E8-4FCC-4B70-8B6A-736CA5270182}" type="slidenum">
              <a:t>15</a:t>
            </a:fld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ff"/>
                </a:solidFill>
                <a:latin typeface="Verdana"/>
              </a:rPr>
              <a:t>Dificultades del uso de modelos en marketing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territori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Producto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Múltiples metas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808080"/>
                </a:solidFill>
                <a:latin typeface="Verdana"/>
              </a:rPr>
              <a:t>Interacción funcional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2FD2-D0A8-477A-A0EF-4370E5F4DCE7}" type="slidenum">
              <a:t>16</a:t>
            </a:fld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Verdana"/>
              </a:rPr>
              <a:t>Clasificación de modelos de marketing</a:t>
            </a: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Metodología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Verdana"/>
              </a:rPr>
              <a:t>Propósito</a:t>
            </a:r>
            <a:endParaRPr b="1" lang="en-US" sz="2400" spc="-1" strike="noStrike">
              <a:solidFill>
                <a:srgbClr val="b2b2b2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metodología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Verbales:</a:t>
            </a: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describen con palabra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Carecen de cuantificación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ncill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Gráf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explicitan las rel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Guían el análisi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rven de puente entre modelos verbales y matemático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Verdana"/>
              </a:rPr>
              <a:t>Matemáticos: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tipo y magnitud de las relaciones se definen formalmente por medio de ecuacion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22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34360" y="3686040"/>
              <a:ext cx="1807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6200000">
              <a:off x="7327800" y="3821760"/>
              <a:ext cx="106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Simplic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8388360" y="2133720"/>
            <a:ext cx="347760" cy="3527280"/>
            <a:chOff x="8388360" y="2133720"/>
            <a:chExt cx="347760" cy="3527280"/>
          </a:xfrm>
        </p:grpSpPr>
        <p:sp>
          <p:nvSpPr>
            <p:cNvPr id="23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7552440" y="3686760"/>
              <a:ext cx="209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808080"/>
                  </a:solidFill>
                  <a:latin typeface="Verdana"/>
                </a:rPr>
                <a:t>Capacidad de análi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566100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A0A0-C0E8-487E-BC57-6F81E90A9FBB}" type="slidenum">
              <a:t>18</a:t>
            </a:fld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8080"/>
                </a:solidFill>
                <a:latin typeface="Verdana"/>
              </a:rPr>
              <a:t>Verbal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ff"/>
                </a:solidFill>
                <a:latin typeface="Verdan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99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73D7-38EB-4622-851B-AAA0604FC21A}" type="slidenum">
              <a:t>19</a:t>
            </a:fld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Motiv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Algunas preguntas que el marketing cuantitativo nos ayuda a resolver: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precio debería fijar a los distintos productos de una línea para maximizar las ventas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i aumento mi gasto publicitario en un 20%, ¿como impactará en la participación de mercado de la marc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Qué características debiera tener el nuevo producto que lance al mercado el próximo semestre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¿Cuántos vendedores debiéramos asignar a cada una de las marcas que comercializa la compañía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¿Cuánto espacio le asigno en la góndola de las galletas a cada SKU?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6AF6-1875-4ECE-9057-1473FF82F371}" type="slidenum">
              <a:t>2</a:t>
            </a:fld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1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71640" y="1969920"/>
            <a:ext cx="8001000" cy="4098600"/>
            <a:chOff x="971640" y="1969920"/>
            <a:chExt cx="8001000" cy="4098600"/>
          </a:xfrm>
        </p:grpSpPr>
        <p:sp>
          <p:nvSpPr>
            <p:cNvPr id="239" name=""/>
            <p:cNvSpPr/>
            <p:nvPr/>
          </p:nvSpPr>
          <p:spPr>
            <a:xfrm>
              <a:off x="2916360" y="196992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16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29440" y="319392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720" y="290664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Verdan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716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29440" y="425592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16360" y="542592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Verdan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6" name=""/>
            <p:cNvCxnSpPr>
              <a:stCxn id="243" idx="2"/>
              <a:endCxn id="245" idx="1"/>
            </p:cNvCxnSpPr>
            <p:nvPr/>
          </p:nvCxnSpPr>
          <p:spPr>
            <a:xfrm flipH="1" rot="16200000">
              <a:off x="2210760" y="506700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3"/>
            </p:cNvCxnSpPr>
            <p:nvPr/>
          </p:nvCxnSpPr>
          <p:spPr>
            <a:xfrm rot="5400000">
              <a:off x="6719400" y="487836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2"/>
              <a:endCxn id="243" idx="0"/>
            </p:cNvCxnSpPr>
            <p:nvPr/>
          </p:nvCxnSpPr>
          <p:spPr>
            <a:xfrm>
              <a:off x="2342880" y="359892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1" idx="2"/>
              <a:endCxn id="244" idx="0"/>
            </p:cNvCxnSpPr>
            <p:nvPr/>
          </p:nvCxnSpPr>
          <p:spPr>
            <a:xfrm flipV="1" rot="10800000">
              <a:off x="7600320" y="359856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39" idx="2"/>
              <a:endCxn id="240" idx="0"/>
            </p:cNvCxnSpPr>
            <p:nvPr/>
          </p:nvCxnSpPr>
          <p:spPr>
            <a:xfrm flipH="1">
              <a:off x="2342880" y="237492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1" name=""/>
            <p:cNvCxnSpPr>
              <a:stCxn id="239" idx="2"/>
              <a:endCxn id="241" idx="0"/>
            </p:cNvCxnSpPr>
            <p:nvPr/>
          </p:nvCxnSpPr>
          <p:spPr>
            <a:xfrm>
              <a:off x="4782960" y="237492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40" idx="3"/>
              <a:endCxn id="241" idx="1"/>
            </p:cNvCxnSpPr>
            <p:nvPr/>
          </p:nvCxnSpPr>
          <p:spPr>
            <a:xfrm>
              <a:off x="3727800" y="339048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2FAF-0E25-4C20-B69A-CE9700E5B89E}" type="slidenum">
              <a:t>20</a:t>
            </a:fld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Gráfico(2):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2322360" y="279072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476360" y="2276640"/>
            <a:ext cx="5616720" cy="4033800"/>
            <a:chOff x="1476360" y="2276640"/>
            <a:chExt cx="5616720" cy="4033800"/>
          </a:xfrm>
        </p:grpSpPr>
        <p:sp>
          <p:nvSpPr>
            <p:cNvPr id="257" name=""/>
            <p:cNvSpPr/>
            <p:nvPr/>
          </p:nvSpPr>
          <p:spPr>
            <a:xfrm flipV="1">
              <a:off x="2320920" y="227664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00400" y="581832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0000" y="270828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1400" y="594216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105480" y="379152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276720" y="227664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36C7-8FC0-478F-A8BB-FE895A5E3030}" type="slidenum">
              <a:t>21</a:t>
            </a:fld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jemplo: modelos de penetración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</a:rPr>
              <a:t>Matemático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0B39-0351-4A4E-B308-DD89CA1B966F}" type="slidenum">
              <a:t>22</a:t>
            </a:fld>
          </a:p>
        </p:txBody>
      </p:sp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Según propósito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scriptivos: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cuantificar la demanda o algún elemento asociad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Las variables independientes suelen ser las actividades del marketing mix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Típicamente comprenden una etapa de definición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estructura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 y otra de </a:t>
            </a:r>
            <a:r>
              <a:rPr b="1" lang="es-ES_tradnl" sz="1600" spc="-1" strike="noStrike">
                <a:solidFill>
                  <a:srgbClr val="0099ff"/>
                </a:solidFill>
                <a:latin typeface="Verdana"/>
              </a:rPr>
              <a:t>calibración</a:t>
            </a: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de Decisión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buscan sugerencias a los valores que debe tomar las variables asociadas a las acciones de marketing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8080"/>
                </a:solidFill>
                <a:latin typeface="Verdana"/>
              </a:rPr>
              <a:t>Modelos Teóricos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808080"/>
                </a:solidFill>
                <a:latin typeface="Verdana"/>
              </a:rPr>
              <a:t>Modelos de Pronóstico</a:t>
            </a:r>
            <a:r>
              <a:rPr b="0" lang="es-CL" sz="1600" spc="-1" strike="noStrike">
                <a:solidFill>
                  <a:srgbClr val="80808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ff"/>
                </a:solidFill>
                <a:latin typeface="Verdana"/>
              </a:rPr>
              <a:t>Su objetivo es pronosticar el valor que tomará una variable en el futur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AA7F-F845-45A1-A359-566F40D5A2EE}" type="slidenum">
              <a:t>23</a:t>
            </a:fld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99ff"/>
                </a:solidFill>
                <a:latin typeface="Verdana"/>
              </a:rPr>
              <a:t>Uso de modelos matemáticos en Marketing</a:t>
            </a:r>
            <a:endParaRPr b="1" lang="en-US" sz="32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IN58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ngeniería de Marketing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Nicolás Friti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nuel Rey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Mauricio Ramírez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arketing necesita de los modelos matemáticos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mpetidores cada vez más dinámicos y agresiv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Consumidores cada vez más exigentes y complej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Se hace cada vez más necesario contar con modelos y herramientas sofisticadas que apoyen las decisiones comerciales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ff"/>
                </a:solidFill>
                <a:latin typeface="Verdana"/>
              </a:rPr>
              <a:t>El marketing debe avanzar desde lo intuitivo a lo científico.</a:t>
            </a:r>
            <a:endParaRPr b="0" lang="en-US" sz="1600" spc="-1" strike="noStrike">
              <a:solidFill>
                <a:srgbClr val="0099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B79A-143A-4949-A281-51B2A7B99E14}" type="slidenum">
              <a:t>3</a:t>
            </a:fld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Los efectos de las decisiones de marketing son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Rezagados (no inmediatos)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No line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Multidimensionale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Estocástico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-339480" algn="just"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Difíciles de medir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99ff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99ff"/>
                </a:solidFill>
                <a:latin typeface="Verdan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394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0764-11B6-415F-9F50-93ABBA489C8B}" type="slidenum">
              <a:t>4</a:t>
            </a:fld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Tendencias que favorecen el modelamiento en marketing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desarrollo de soportes tecnológicos 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 preocupación de las empresas por el desarrollo de sus bases de da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ursos computacionale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os gestores comerciales más preparados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onocimientos cuantitativ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receptivos a apoyar sus decisiones con elementos científic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La teoría de marketing más evolucionada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literatura, sistematización del conocimiento, base teórica más sólida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ás casos de éxito en base a la aplicación de modelos más robustos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l beneficio de los modelos ha comenzado a ser reportado</a:t>
            </a:r>
            <a:endParaRPr b="0" lang="en-US" sz="16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ayores ingresos (ej.:descubrimiento de nuevos nichos de mercado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99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99ff"/>
                </a:solidFill>
                <a:latin typeface="Verdana"/>
              </a:rPr>
              <a:t>Menores costos (ej.: pronóstico de fuga de clientes)</a:t>
            </a:r>
            <a:endParaRPr b="0" lang="en-US" sz="15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2007-E0E1-427B-BEBB-4F2F204A1AA2}" type="slidenum">
              <a:t>5</a:t>
            </a:fld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Ciencias que han apoyado la construcción de estos modelos… 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Comportamiento del consumidor (psicología, sociología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conomía (micro-economía, teoría de juegos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Management (estrategia, administración)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tadística / Econometría 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9F04-9FE7-48E3-80E9-9E0DA7BC9088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l modelador debe ser capaz de…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Proponer un mecanismo eficiente de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Verdan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6B1A-A3A9-4399-B74D-1156A0682FD8}" type="slidenum">
              <a:t>7</a:t>
            </a:fld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Qué es un modelo..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modelo 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Busca proporcionar </a:t>
            </a:r>
            <a:r>
              <a:rPr b="1" lang="es-ES_tradnl" sz="2000" spc="-1" strike="noStrike">
                <a:solidFill>
                  <a:srgbClr val="808080"/>
                </a:solidFill>
                <a:latin typeface="Verdana"/>
              </a:rPr>
              <a:t>herramientas</a:t>
            </a:r>
            <a:r>
              <a:rPr b="0" lang="es-ES_tradnl" sz="2000" spc="-1" strike="noStrike">
                <a:solidFill>
                  <a:srgbClr val="808080"/>
                </a:solidFill>
                <a:latin typeface="Verdan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8202-299A-4097-B221-606926711174}" type="slidenum">
              <a:t>8</a:t>
            </a:fld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ff"/>
                </a:solidFill>
                <a:latin typeface="Verdana"/>
              </a:rPr>
              <a:t>Esquemáticamente</a:t>
            </a:r>
            <a:endParaRPr b="1" lang="en-US" sz="2800" spc="-1" strike="noStrike">
              <a:solidFill>
                <a:srgbClr val="0099ff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3289320" y="332424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08080"/>
                </a:solidFill>
                <a:latin typeface="Verdan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95760" y="3540240"/>
            <a:ext cx="175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87720" y="4154400"/>
            <a:ext cx="117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Anális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Dec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Teor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368960" y="274752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7560" y="23511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eo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71040" y="152388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Comporta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conom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rate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55920" y="3727440"/>
            <a:ext cx="80784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60800" y="3511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120" y="4022640"/>
            <a:ext cx="1789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Prim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Encuesta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Secund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(Bases de dat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68960" y="4115880"/>
            <a:ext cx="0" cy="5763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5000" y="4656240"/>
            <a:ext cx="12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ff"/>
                </a:solidFill>
                <a:latin typeface="Verdana"/>
              </a:rPr>
              <a:t>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85440" y="5195880"/>
            <a:ext cx="1968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Estadís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Optim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8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808080"/>
                </a:solidFill>
                <a:latin typeface="Verdana"/>
              </a:rPr>
              <a:t>Minerí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C2E6-86A1-461F-AB54-CBEC43BA3EB4}" type="slidenum">
              <a:t>9</a:t>
            </a:fld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4:33:53Z</dcterms:created>
  <dc:creator>Nicolas Fritis</dc:creator>
  <dc:description/>
  <dc:language>en-US</dc:language>
  <cp:lastModifiedBy>Nicolas Fritis</cp:lastModifiedBy>
  <dcterms:modified xsi:type="dcterms:W3CDTF">2008-08-01T12:42:43Z</dcterms:modified>
  <cp:revision>107</cp:revision>
  <dc:subject/>
  <dc:title>Presentación de PowerPoint</dc:title>
</cp:coreProperties>
</file>