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0B2BA-1A83-4300-9FB0-AA621B948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49329-0A77-4AE1-B24D-001AC5DF1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09B4-4F84-437B-B923-B4A60F8C4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19D5-D171-4671-B97A-DC7AF3562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6B6F7-A0E7-488C-96DD-C643CD75B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6613D-DA3C-4A42-A63B-FC306C6649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0207F-D5D3-4A08-AB35-4F81658F50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24F24-283A-453D-BE54-0C6BDAF212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BEB2F-35D1-4D8A-A0CB-9E9421D58B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E542D-75D3-49DC-AE25-65F05BDA30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420C-4069-479B-BD68-6525B989AC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5714C-137F-43F7-80C0-59F2F38B76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E916C-2449-4FDF-B16A-222B9285EF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8E7F7-BCF9-467A-8B44-B1B4BC389A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1D11E-A948-4ACB-9E93-B30A05FA3D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31EF4-5F4A-4F61-8085-17100A780C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026C1-A2D7-4B76-90F0-DC582433FC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1E6B0-21D2-43A1-AAB4-4AD8B24599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BAC1-28F1-4A1D-BBD2-CC45A90BFAD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BCC1-3608-47A6-8777-14498D838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21115-022E-40F4-8E61-160FDC7AE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9E57-57E0-4CAF-9CC0-0F9CF0BC6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DFF8-DFF6-4B31-8B07-4507CDE4E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C9A11-B699-475F-86EF-76C7559F4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5906880" y="6503760"/>
            <a:ext cx="312876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31EE-0D2A-4EA7-98CB-69EF2A2C36C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573360"/>
            <a:ext cx="9144000" cy="32990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808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5906880" y="6503760"/>
            <a:ext cx="312876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9D48-306A-4158-AECD-0FABAD4E7A78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90033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90033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808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IN58B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geniería de Marketi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Nicolás Friti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nuel Reye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uricio Ramírez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Importancia y beneficio del uso de modelos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La premisa básica de hacer ingeniería de marketing es que el proceso de construcción de modelos mejora las decisione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Mejorar la consistencia de las decis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xplorar más escenarios / opc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valuar el impacto relativo de las variabl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Facilitar los procesos de decisión grupal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Se actualizan los modelos mentales subjetivo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9E0A-6712-47D4-BA5A-5FEC37B675E1}" type="slidenum">
              <a:t>10</a:t>
            </a:fld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Antecedentes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55640" y="1989000"/>
            <a:ext cx="7773480" cy="3821040"/>
            <a:chOff x="755640" y="1989000"/>
            <a:chExt cx="7773480" cy="382104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755640" y="1989000"/>
              <a:ext cx="7632720" cy="32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364640" y="5229360"/>
              <a:ext cx="416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Correlación entre respuesta y pronóst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Marketing Engineering (p1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FE0D5-1CAE-406B-97E7-7033F45B82AD}" type="slidenum">
              <a:t>11</a:t>
            </a:fld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Críticas a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Aunque pueden generar beneficios significativos, muchos administradores son reticentes a su aplicación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A veces los modelos mentales son suficientemente buenos. No se permiten adaptar a nuevas situ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Los modelos son incompletos. Es preferible a no tener nada. 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Administradores no ven el costo de oportunidad de sus decisiones. No se cuantifica la pérdida de utilidad de cada decisión tomada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Modelos enfatizan el análisis por sobre la acción. Tendencia a integrar al analista y el tomador de decis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Temor de mandos medios de perder importancia. Los modelos no reemplazan, mas bien potencian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La dificultad en la implantación no justifica el costo. Avances tecnológicos ha disminuido costos y aumentado complejidad de las decisiones. 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41CB4-A6F4-45F2-9510-F2D577270CA8}" type="slidenum">
              <a:t>12</a:t>
            </a:fld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Los modelos no son perfectos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5661000"/>
            <a:ext cx="770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Siempre es mejor tener algo que no tener nada (a menos que cueste demasiado car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300720" y="1636560"/>
            <a:ext cx="2808360" cy="2713320"/>
            <a:chOff x="6300720" y="1636560"/>
            <a:chExt cx="2808360" cy="2713320"/>
          </a:xfrm>
        </p:grpSpPr>
        <p:sp>
          <p:nvSpPr>
            <p:cNvPr id="210" name=""/>
            <p:cNvSpPr/>
            <p:nvPr/>
          </p:nvSpPr>
          <p:spPr>
            <a:xfrm>
              <a:off x="6638400" y="1636560"/>
              <a:ext cx="21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08080"/>
                  </a:solidFill>
                  <a:latin typeface="Tahoma"/>
                </a:rPr>
                <a:t>Otros no tanto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6300720" y="2313000"/>
              <a:ext cx="2808360" cy="203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96840" y="1484280"/>
            <a:ext cx="2714760" cy="2865600"/>
            <a:chOff x="96840" y="1484280"/>
            <a:chExt cx="2714760" cy="2865600"/>
          </a:xfrm>
        </p:grpSpPr>
        <p:sp>
          <p:nvSpPr>
            <p:cNvPr id="213" name=""/>
            <p:cNvSpPr/>
            <p:nvPr/>
          </p:nvSpPr>
          <p:spPr>
            <a:xfrm>
              <a:off x="303120" y="1484280"/>
              <a:ext cx="230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08080"/>
                  </a:solidFill>
                  <a:latin typeface="Tahoma"/>
                </a:rPr>
                <a:t>Algunos modelos son buenos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96840" y="2313000"/>
              <a:ext cx="2714760" cy="203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935440" y="2324160"/>
            <a:ext cx="3240000" cy="201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ED412-91B3-406B-958F-BB630AFD4DEF}" type="slidenum">
              <a:t>13</a:t>
            </a:fld>
          </a:p>
        </p:txBody>
      </p:sp>
    </p:spTree>
  </p:cSld>
  <p:transition spd="slow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Para utilizar modelos en marketing se debe ser conciente que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a función comercial, por definición debe hacerse cargo de la interacción con </a:t>
            </a: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personas</a:t>
            </a: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 las que por su naturaleza única y cambiante dificultan mucho la estructuración de los fenómenos en que interviene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os modelos en marketing deben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Ser consistentes con el comportamiento esperable de los consumidor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Tener base empírica en los mercados relevant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60ECB-3FE7-478B-94AB-386E720E6FAF}" type="slidenum">
              <a:t>14</a:t>
            </a:fld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Dificultades de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Respuesta de ventas a un instrumento individual de marketin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En general, buscamos respuestas de venta ante acciones individuales, pero la venta depende de muchos factores simultáneamente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Interacción del marketing mix en las decisiones: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Verdana"/>
              </a:rPr>
              <a:t>Las decisiones son multivariadas y las relaciones suelen ser altamente no lineales.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Verdana"/>
              </a:rPr>
              <a:t>Efectos de la competencia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Verdana"/>
              </a:rPr>
              <a:t>Las ventas no solo dependen de mis decisiones sino que también de las acciones de la competencia. 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Impacto desfasado: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Verdana"/>
              </a:rPr>
              <a:t>Las respuestas de las acciones de marketing puede distribuirse en el tiempo.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40551-B9C8-4357-A2B3-E616F3B3D888}" type="slidenum">
              <a:t>15</a:t>
            </a:fld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ff"/>
                </a:solidFill>
                <a:latin typeface="Verdana"/>
              </a:rPr>
              <a:t>Dificultades de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territorio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La aplicación de actividades de marketing pueden tener un efecto muy distinto para cada región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Producto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La interacción de distintos productos (complementarios/sustitutos) dificulta la toma de decis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meta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Objetivos contrapuestos: “Maximas ventas y minimo costo” o “Maxima rotación vs minimo quiebre de stock”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Interacción funcional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Muchas veces, las decisiones de marketing no pueden ser separadas de las funciones operacionales y financiera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96E9-E57E-4181-A311-DFACD35DF00E}" type="slidenum">
              <a:t>16</a:t>
            </a:fld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212640"/>
            <a:ext cx="6400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Verdana"/>
              </a:rPr>
              <a:t>Clasificación de modelos de marketing</a:t>
            </a:r>
            <a:endParaRPr b="1" lang="en-US" sz="28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Verdana"/>
              </a:rPr>
              <a:t>Metodología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Verdana"/>
              </a:rPr>
              <a:t>Propósito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Según metodología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2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Verbales:</a:t>
            </a: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describen con palabra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Carecen de cuantificación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ncillo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Gráficos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explicitan las rel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Guían el análisi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irven de puente entre modelos verbales y matemático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Matemáticos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El tipo y magnitud de las relaciones se definen formalmente por medio de ecu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434360" y="2133720"/>
            <a:ext cx="666720" cy="3527280"/>
            <a:chOff x="7434360" y="2133720"/>
            <a:chExt cx="666720" cy="3527280"/>
          </a:xfrm>
        </p:grpSpPr>
        <p:sp>
          <p:nvSpPr>
            <p:cNvPr id="227" name=""/>
            <p:cNvSpPr/>
            <p:nvPr/>
          </p:nvSpPr>
          <p:spPr>
            <a:xfrm flipV="1">
              <a:off x="810108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34360" y="3686040"/>
              <a:ext cx="180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7327800" y="3821760"/>
              <a:ext cx="106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808080"/>
                  </a:solidFill>
                  <a:latin typeface="Verdana"/>
                </a:rPr>
                <a:t>Simplic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8388360" y="2133720"/>
            <a:ext cx="347760" cy="3527280"/>
            <a:chOff x="8388360" y="2133720"/>
            <a:chExt cx="347760" cy="3527280"/>
          </a:xfrm>
        </p:grpSpPr>
        <p:sp>
          <p:nvSpPr>
            <p:cNvPr id="231" name=""/>
            <p:cNvSpPr/>
            <p:nvPr/>
          </p:nvSpPr>
          <p:spPr>
            <a:xfrm>
              <a:off x="838836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200000">
              <a:off x="7552440" y="3686760"/>
              <a:ext cx="209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808080"/>
                  </a:solidFill>
                  <a:latin typeface="Verdana"/>
                </a:rPr>
                <a:t>Capacidad de análi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566100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ahoma"/>
              </a:rPr>
              <a:t>Los 3 tipos son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C8689-424F-4FE2-A10A-09942388F793}" type="slidenum">
              <a:t>18</a:t>
            </a:fld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8080"/>
                </a:solidFill>
                <a:latin typeface="Verdana"/>
              </a:rPr>
              <a:t>Verbal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Las ventas de un nuevo producto parten tan lentamente como los “innovadores” de la población adoptan el producto.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Los innovadores influencian a los “imitadores” llevando a acelerar el crecimiento de las ventas.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Como más personas en la población compran el producto, las ventas totales continúan incrementándose pero la tasa de crecimiento de las ventas es menor.</a:t>
            </a: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4134E-C8D7-4204-BAD0-AA17CCA17FBD}" type="slidenum">
              <a:t>19</a:t>
            </a:fld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Motiv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Algunas preguntas que el marketing cuantitativo nos ayuda a resolver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Qué precio debería fijar a los distintos productos de una línea para maximizar las ventas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i aumento mi gasto publicitario en un 20%, ¿como impactará en la participación de mercado de la marca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Qué características debiera tener el nuevo producto que lance al mercado el próximo semestre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Cuántos vendedores debiéramos asignar a cada una de las marcas que comercializa la compañía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Verdana"/>
              </a:rPr>
              <a:t>¿Cuánto espacio le asigno en la góndola de las galletas a cada SKU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1D432-8889-46C1-BE36-F3333319A643}" type="slidenum">
              <a:t>2</a:t>
            </a:fld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Gráfico(1)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971640" y="1969920"/>
            <a:ext cx="8001000" cy="4098600"/>
            <a:chOff x="971640" y="1969920"/>
            <a:chExt cx="8001000" cy="4098600"/>
          </a:xfrm>
        </p:grpSpPr>
        <p:sp>
          <p:nvSpPr>
            <p:cNvPr id="239" name=""/>
            <p:cNvSpPr/>
            <p:nvPr/>
          </p:nvSpPr>
          <p:spPr>
            <a:xfrm>
              <a:off x="2916360" y="1969920"/>
              <a:ext cx="373392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amaño Población Fi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71640" y="319392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29440" y="319392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76720" y="2906640"/>
              <a:ext cx="304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3333cc"/>
                  </a:solidFill>
                  <a:latin typeface="Verdana"/>
                </a:rPr>
                <a:t>Influe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71640" y="425592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iempo de compras de 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29440" y="425592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iempo de compras de 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16360" y="5425920"/>
              <a:ext cx="373392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Patrón del Crecimiento de Ventas de un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6" name=""/>
            <p:cNvCxnSpPr>
              <a:stCxn id="243" idx="2"/>
              <a:endCxn id="245" idx="1"/>
            </p:cNvCxnSpPr>
            <p:nvPr/>
          </p:nvCxnSpPr>
          <p:spPr>
            <a:xfrm flipH="1" rot="16200000">
              <a:off x="2210760" y="5067000"/>
              <a:ext cx="824400" cy="56124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44" idx="2"/>
              <a:endCxn id="245" idx="3"/>
            </p:cNvCxnSpPr>
            <p:nvPr/>
          </p:nvCxnSpPr>
          <p:spPr>
            <a:xfrm rot="5400000">
              <a:off x="6719400" y="4878360"/>
              <a:ext cx="824400" cy="93888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2"/>
              <a:endCxn id="243" idx="0"/>
            </p:cNvCxnSpPr>
            <p:nvPr/>
          </p:nvCxnSpPr>
          <p:spPr>
            <a:xfrm>
              <a:off x="2342880" y="3598920"/>
              <a:ext cx="1080" cy="645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1" idx="2"/>
              <a:endCxn id="244" idx="0"/>
            </p:cNvCxnSpPr>
            <p:nvPr/>
          </p:nvCxnSpPr>
          <p:spPr>
            <a:xfrm flipV="1" rot="10800000">
              <a:off x="7600320" y="3598560"/>
              <a:ext cx="1080" cy="64512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39" idx="2"/>
              <a:endCxn id="240" idx="0"/>
            </p:cNvCxnSpPr>
            <p:nvPr/>
          </p:nvCxnSpPr>
          <p:spPr>
            <a:xfrm flipH="1">
              <a:off x="2342880" y="2374920"/>
              <a:ext cx="244080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1" name=""/>
            <p:cNvCxnSpPr>
              <a:stCxn id="239" idx="2"/>
              <a:endCxn id="241" idx="0"/>
            </p:cNvCxnSpPr>
            <p:nvPr/>
          </p:nvCxnSpPr>
          <p:spPr>
            <a:xfrm>
              <a:off x="4782960" y="2374920"/>
              <a:ext cx="281844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40" idx="3"/>
              <a:endCxn id="241" idx="1"/>
            </p:cNvCxnSpPr>
            <p:nvPr/>
          </p:nvCxnSpPr>
          <p:spPr>
            <a:xfrm>
              <a:off x="3727800" y="3390480"/>
              <a:ext cx="2489400" cy="108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DF08C-9870-4139-94EB-FB9D86F28068}" type="slidenum">
              <a:t>20</a:t>
            </a:fld>
          </a:p>
        </p:txBody>
      </p:sp>
    </p:spTree>
  </p:cSld>
  <p:transition spd="slow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Gráfico(2)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2322360" y="2790720"/>
            <a:ext cx="4645080" cy="2965680"/>
          </a:xfrm>
          <a:custGeom>
            <a:avLst/>
            <a:gdLst/>
            <a:ahLst/>
            <a:rect l="l" t="t" r="r" b="b"/>
            <a:pathLst>
              <a:path w="3560" h="2291">
                <a:moveTo>
                  <a:pt x="0" y="2291"/>
                </a:moveTo>
                <a:cubicBezTo>
                  <a:pt x="76" y="2282"/>
                  <a:pt x="256" y="2291"/>
                  <a:pt x="456" y="2235"/>
                </a:cubicBezTo>
                <a:cubicBezTo>
                  <a:pt x="656" y="2179"/>
                  <a:pt x="1004" y="2090"/>
                  <a:pt x="1200" y="1955"/>
                </a:cubicBezTo>
                <a:cubicBezTo>
                  <a:pt x="1396" y="1820"/>
                  <a:pt x="1499" y="1620"/>
                  <a:pt x="1632" y="1427"/>
                </a:cubicBezTo>
                <a:cubicBezTo>
                  <a:pt x="1765" y="1234"/>
                  <a:pt x="1808" y="1011"/>
                  <a:pt x="2000" y="795"/>
                </a:cubicBezTo>
                <a:cubicBezTo>
                  <a:pt x="2192" y="579"/>
                  <a:pt x="2524" y="262"/>
                  <a:pt x="2784" y="131"/>
                </a:cubicBezTo>
                <a:cubicBezTo>
                  <a:pt x="3044" y="0"/>
                  <a:pt x="3398" y="36"/>
                  <a:pt x="3560" y="11"/>
                </a:cubicBezTo>
              </a:path>
            </a:pathLst>
          </a:custGeom>
          <a:noFill/>
          <a:ln w="316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476360" y="2276640"/>
            <a:ext cx="5616720" cy="4033800"/>
            <a:chOff x="1476360" y="2276640"/>
            <a:chExt cx="5616720" cy="4033800"/>
          </a:xfrm>
        </p:grpSpPr>
        <p:sp>
          <p:nvSpPr>
            <p:cNvPr id="257" name=""/>
            <p:cNvSpPr/>
            <p:nvPr/>
          </p:nvSpPr>
          <p:spPr>
            <a:xfrm flipV="1">
              <a:off x="2320920" y="2276640"/>
              <a:ext cx="0" cy="3541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00400" y="5818320"/>
              <a:ext cx="4573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40000" y="2708280"/>
              <a:ext cx="4680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1400" y="5942160"/>
              <a:ext cx="306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6200000">
              <a:off x="105480" y="3791520"/>
              <a:ext cx="33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Ventas Acumuladas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76720" y="227664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amaño de la población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69E8-1B8B-492E-A608-5CA5D1A759F0}" type="slidenum">
              <a:t>21</a:t>
            </a:fld>
          </a:p>
        </p:txBody>
      </p:sp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Matemático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771640" y="3068640"/>
          <a:ext cx="295128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068640"/>
                    <a:ext cx="29512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332000" y="4292640"/>
          <a:ext cx="67690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292640"/>
                    <a:ext cx="67690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BD62C-EEC1-46AC-AC5A-89F3D12EA3B2}" type="slidenum">
              <a:t>22</a:t>
            </a:fld>
          </a:p>
        </p:txBody>
      </p:sp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Según propósito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Descriptivos: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Buscan cuantificar la demanda o algún elemento asociad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Las variables independientes suelen ser las actividades del marketing mix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Típicamente comprenden una etapa de definición de </a:t>
            </a:r>
            <a:r>
              <a:rPr b="1" lang="es-ES_tradnl" sz="1600" spc="-1" strike="noStrike">
                <a:solidFill>
                  <a:srgbClr val="0099ff"/>
                </a:solidFill>
                <a:latin typeface="Verdana"/>
              </a:rPr>
              <a:t>estructura</a:t>
            </a: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 y otra de </a:t>
            </a:r>
            <a:r>
              <a:rPr b="1" lang="es-ES_tradnl" sz="1600" spc="-1" strike="noStrike">
                <a:solidFill>
                  <a:srgbClr val="0099ff"/>
                </a:solidFill>
                <a:latin typeface="Verdana"/>
              </a:rPr>
              <a:t>calibración</a:t>
            </a: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de Decisión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buscan sugerencias a los valores que debe tomar las variables asociadas a las acciones de marketing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Teóricos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Buscan el efecto de postular un conjunto de supuestos sobre algún fenómeno. Ayudan a entender fenómenos y generan hipótesis que pueden apoyar modelos mas operacional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808080"/>
                </a:solidFill>
                <a:latin typeface="Verdana"/>
              </a:rPr>
              <a:t>Modelos de Pronóstico</a:t>
            </a:r>
            <a:r>
              <a:rPr b="0" lang="es-CL" sz="1600" spc="-1" strike="noStrike">
                <a:solidFill>
                  <a:srgbClr val="80808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Verdana"/>
              </a:rPr>
              <a:t>Su objetivo es pronosticar el valor que tomará una variable en el futur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5C0A2-4A3D-4F32-B0A0-476929EA3B21}" type="slidenum">
              <a:t>23</a:t>
            </a:fld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IN58B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geniería de Marketi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Nicolás Friti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nuel Reye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uricio Ramírez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l marketing necesita de los modelos matemáticos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a batalla por los mercados de consumo masivo ha crecido en intensidad en las últimas década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Competidores cada vez más dinámicos y agresiv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Consumidores cada vez más exigentes y complej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Marcas con crecimientos planos o ciclos de vida extremadamente cort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hace cada vez más necesario contar con modelos y herramientas sofisticadas que apoyen las decisiones comercial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El marketing debe avanzar desde lo intuitivo a lo científic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29DC-ADD5-4127-9CB5-8590A2B9A849}" type="slidenum">
              <a:t>3</a:t>
            </a:fld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Los efectos de las decisiones de marketing son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Rezagados (no inmediatos)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No lineal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Multidimensional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Estocástico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Difíciles de medir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99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l modelamiento de las variables de marketing es complejo, pero sumamente necesario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5FC42-1DCB-446B-8385-4A92F8251CD6}" type="slidenum">
              <a:t>4</a:t>
            </a:fld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Tendencias que favorecen el modelamiento en marketing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l desarrollo de soportes tecnológicos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ayor preocupación de las empresas por el desarrollo de sus bases de dat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recursos computacionale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Los gestores comerciales más preparados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conocimientos cuantitativ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receptivos a apoyar sus decisiones con elementos científic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La teoría de marketing más evolucionada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literatura, sistematización del conocimiento, base teórica más sólida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casos de éxito en base a la aplicación de modelos más robust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l beneficio de los modelos ha comenzado a ser reportado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ayores ingresos (ej.:descubrimiento de nuevos nichos de mercado)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enores costos (ej.: pronóstico de fuga de clientes)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83E6-E2CD-4ED2-8F49-3CFC52CFD3E7}" type="slidenum">
              <a:t>5</a:t>
            </a:fld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Ciencias que han apoyado la construcción de estos modelos…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Comportamiento del consumidor (psicología, sociología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conomía (micro-economía, teoría de juegos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Management (estrategia, administración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stadística / Econometría 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7F47-F7A7-4102-8176-B5EB266B20C1}" type="slidenum">
              <a:t>6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l modelador debe ser capaz de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Diagnosticar si corresponde la aplicación de un modelo formal y evaluar la conveniencia de su ejecució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Estructurar el problema detectando: objetivos, variables endógenas/exógenas y la forma (ecuaciones) en que se relaciona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Proponer un mecanismo eficiente de resolución del problema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Establecer un conjunto de requerimientos, restricciones y alcances para la resolución del problema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Implementar (llevar a la práctica) las soluciones propuestas (a través de la teoría)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D38BC-63AB-4157-B8D2-E79109F37683}" type="slidenum">
              <a:t>7</a:t>
            </a:fld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Qué es un modelo..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es-ES_tradnl" sz="2000" spc="-1" strike="noStrike">
                <a:solidFill>
                  <a:srgbClr val="808080"/>
                </a:solidFill>
                <a:latin typeface="Verdana"/>
              </a:rPr>
              <a:t>modelo </a:t>
            </a: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s una representación simplificada de la realidad, la cual es mas fácil de tratar y de explorar que la realidad misma, para un propósito especifico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Busca proporcionar </a:t>
            </a:r>
            <a:r>
              <a:rPr b="1" lang="es-ES_tradnl" sz="2000" spc="-1" strike="noStrike">
                <a:solidFill>
                  <a:srgbClr val="808080"/>
                </a:solidFill>
                <a:latin typeface="Verdana"/>
              </a:rPr>
              <a:t>herramientas</a:t>
            </a: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 analíticas para poder plasmar la teoría en modelos capaces de resolver problemáticas complejas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8B85D-B5DA-4B13-BEBF-446C4F21AD78}" type="slidenum">
              <a:t>8</a:t>
            </a:fld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squemáticamente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3289320" y="3324240"/>
            <a:ext cx="2160720" cy="792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8080"/>
                </a:solidFill>
                <a:latin typeface="Verdana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35640" y="3727440"/>
            <a:ext cx="8078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95760" y="3540240"/>
            <a:ext cx="17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87720" y="4154400"/>
            <a:ext cx="117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Análi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Decis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Teor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368960" y="2747520"/>
            <a:ext cx="0" cy="57636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77560" y="235116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Teo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71040" y="1523880"/>
            <a:ext cx="199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Comporta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conom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strate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55920" y="3727440"/>
            <a:ext cx="8078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60800" y="35114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120" y="4022640"/>
            <a:ext cx="1789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Primar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(Encuesta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Secund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(Bases de dato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368960" y="4115880"/>
            <a:ext cx="0" cy="5763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5000" y="465624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Té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85440" y="5195880"/>
            <a:ext cx="196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stadís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Optimiz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Minería de da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48AD-49CF-4DD1-B47D-83842BC81F19}" type="slidenum">
              <a:t>9</a:t>
            </a:fld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4:33:53Z</dcterms:created>
  <dc:creator>Nicolas Fritis</dc:creator>
  <dc:description/>
  <dc:language>en-US</dc:language>
  <cp:lastModifiedBy>Nicolas Fritis</cp:lastModifiedBy>
  <dcterms:modified xsi:type="dcterms:W3CDTF">2008-08-01T12:42:43Z</dcterms:modified>
  <cp:revision>107</cp:revision>
  <dc:subject/>
  <dc:title>Presentación de PowerPoint</dc:title>
</cp:coreProperties>
</file>