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4.png" ContentType="image/png"/>
  <Override PartName="/ppt/media/image20.wmf" ContentType="image/x-wmf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4725-4FA6-450A-BD5B-EFF37499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F610-8083-45C6-A36E-84EC86B5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661FF5-610E-48D8-9522-085B3B00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400491-D86E-4324-B1DC-0E278040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0F0E5F-FAB0-47C2-AE21-32AEC61F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85F216-FBD6-45FC-B8A9-C4A82D84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D54D42-C47B-4AF2-8BD7-566892B6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6A3AB2-4756-4894-853A-EC5AF98D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F7E9D6-E5FC-4752-A281-8B50CBE3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AC6811-E927-4F34-A23E-72140737F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25185E-40F2-4ED9-817A-7A1B75196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305A1B-B7D4-4E61-87D8-961EF498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14B2-8372-4799-AFAF-D1651B7E9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5CF7D4-6C74-4737-A00D-1CA27D5B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5A10FD-27BD-4141-8F5E-81E2B4DE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8463E7-BF5B-4400-8FB7-7312E6AE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FA14A4-CF4E-448B-90B3-71A12DE4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1E844B-65B1-4E14-9E12-AE066038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0258B3-1FF0-401A-B009-A7EB81E9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65CCC5-17A6-4D57-AB7A-629DA6D4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88068B-CB38-4229-AE6B-08C53260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BE69F6-5F91-41FB-9C6D-3A5298AA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06B4F0-C09A-4444-8870-244B9CA7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7D0E-E2FE-4CCD-9473-A91208F95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4FFF1C-0B5B-4B4A-A9C4-45C690E60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3C77A1-D66D-46D8-A442-21BDBBB93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2D2163-0831-4996-97E9-D0856818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3804E1-6188-4A4D-AC75-DDFD55E6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FCE7D0-2037-4FD4-B214-AE762CB7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AEE5B0-DBF2-4263-95CF-8E7C1F0D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AEE307-DD16-4108-80DA-A471F3DC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462C0A-118C-4F01-9A03-3FF93723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07A91B7-204D-4B94-BFC4-CB75FD84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60E38C-07DD-405D-81AD-4F6B3A05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39B79-D19C-4324-BDDA-3804368376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01DB14-B995-4264-B9D1-F0CF557E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49FEED-4171-4FE3-997D-FA4B8E218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02312E-27A7-4D64-BD9E-478E9B36B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4D9BA77-6E4D-4F74-9E6E-876CE4A1C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896DD2-C955-4C52-B60B-33A42085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D8617D-34F4-4A73-9FC6-2B7EE633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72B5B5-698F-4635-9637-6EFC3C91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ABD34D-3538-44FD-BE72-1D9C69B8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3AA82C-40F8-4E9A-BC38-5FAA8F14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DFB66B8-8CEB-4B35-AB79-4DEFDD65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F865F-61C7-4A1F-B8D3-B3DE462E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E2E310D-3896-46CC-9BB3-6D9C982A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495A9B-1B52-41EB-B423-2496FF03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7986BC4-962A-4C63-9623-74EDBBB4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01C854-DE8D-4E95-BC3A-1A0EECDD5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43C9167-CD24-4676-AA30-5EC79BFE8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47CCF-034E-4736-899B-30575521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24542-59D7-4DB1-A485-471EF839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5C906-3F2E-40CA-82CE-212F4088A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CDA3D-282D-4116-83D3-CB1A5E4E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C85F1-3644-41C4-B97A-1E47D39F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A249-1ADD-4D68-A84C-4425DD48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D3945-09B6-4B93-B92A-FD199E20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01767-B75A-4180-A11D-815FD6F9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E518B-C2C8-438F-B5C1-0820A2B2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1C590-DE84-468C-AF61-56DC4CAD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4BE71-B3A9-4766-A0D8-0F7EC1AD82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41019D-D919-4143-8166-E9CF254F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4D0EC4-8D9A-4604-A3F7-B607EA00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A64269-8382-4BF1-B4D4-F7DDC366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73E9A2-5859-4A87-B5EB-D5C5236D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EE74EA-1F20-4225-A58D-34F227FC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752F-DBC3-4799-9690-C229B6C5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B99234-ADF5-4DFE-88EB-00716B02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9A9B03-690B-40CF-9967-2E56642D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14160C-98BA-453E-B4E0-DBBC558A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1DE9BF-DB3A-4A40-B08D-E465F232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6552F4-03E7-4981-8608-B3A9F066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9249CC-55C3-4B98-A102-A44771D8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D60B1F-7323-4257-B617-80249A387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4FF937-CA4E-4F4A-8F3B-E79EECB7A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B1FC51-455A-44B6-84EC-7BABB98F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2A853E-84DC-4803-9C85-0F9C6984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70AC-DD6F-4A80-B0ED-77049F19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C9BEF4-587F-49E0-A15C-A4ACA7EA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9C6876-4C02-49CC-9949-3BF3E87E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F367A2-CEE8-449A-A470-62DD31C7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CA6F5D-62CE-4BE8-AE7D-682ECD3A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BFC4BD-FCD4-4DD6-BBB6-EBF8038D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F9F07B-A527-40D8-B1AE-41B6E942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9FC3FD-2902-43C3-B144-B347EAD4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72854D-4692-4BA9-ACF0-E93763C37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F585E9-BF88-4DB9-A905-36CCE1D8B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B52EEE-02FF-4287-9560-58B571F1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E479-0A5D-4475-8810-8D274E1F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9723AB-8227-4EFF-A3CA-9D3327F2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06AA08-3484-4F17-B0F3-242085F2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6ADA70-17DB-4B4B-B7C1-5DE29773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154BE6-F1C5-41FB-97E9-EA7B509C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934054-5B26-45A7-BD85-218BBCC6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5E8F19-6168-49F5-9682-7903FC9C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19E73A-832F-4EC7-AEDD-951DC0DE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05D85E-82A6-4A63-8FC5-22BB115D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CCAB2B-4CDF-4D0C-BD43-ADB816E5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8FAB06-8601-41CB-BB94-8E75C431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909F-0B6F-422F-9E35-3C24D66B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72BEBD-147E-444A-8C1A-4087879E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450D81-BAF0-440C-BDA7-2C334306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8F0BB2-9606-4566-982E-E37D5C54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579061-2D0A-49AF-8171-6819EC13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7330A1-75EA-4328-9517-7AF49235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DBA64C-DF9C-48FE-83FC-E2076616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EA6F09-F2DB-4194-8A51-9BC891F7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EF6066-B342-4A20-A5B2-BFDE3AA9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F4CECC-AF12-4066-8DD7-A74E6523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EC7D37-1152-454A-AAED-60400734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9FCD-49C0-4A56-B9E3-C5E05903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1F1A82-96E2-487F-A8D8-709773AE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C84A51-CE56-47FE-8B52-CAB1CCC6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C20C69-7841-4739-B119-E537FCAB0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B961D5-5074-4408-8E98-CDF118090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EB5D92-2C3E-42CC-B212-1A4D2C21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ED9614-FAAA-4411-A367-FA75E9BA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C3EFDD-1392-4E4D-9DF9-FBFEC07D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B303C1-4EED-4101-9A07-EF66E47A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7AA271-D222-4086-9822-824A5DA3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275626-E7BC-44A2-BEF2-C3D228B8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9834-9737-4C68-B85A-39CF6FC7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ECEF13-991C-4EF9-93C2-66A5592A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32D715-5D87-4A70-A263-E4BFE598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B12DC8-7E92-4727-B850-49E078AA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DD6462-DBE4-46A9-8BF7-F01B1621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78FCE9-6594-473C-B272-0BA86061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278B68-EFC0-4115-82F4-229724FB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A35D6C-74DF-4FF9-852C-8B0A31B3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FF326F-E947-424C-A1C2-018C1743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92B046-55AF-4B53-9D49-90E37AE9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D2DB65-CA2A-4BF4-989B-0378DF3E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0B58-7E97-4432-AB56-B5F3ADBC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E5C2AB-DC9B-42E0-AF11-CD5270F8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BC2E2D-BA68-45F3-BA05-C98F1BAE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C45035-ABD0-4B20-8FB4-AE5E11C7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C5FF3A-206E-4932-B835-45846046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1C529D-CC7E-4A09-BC28-36F50973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58FC3D-218E-4108-A81D-CF806B8DD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659178-7D89-41AB-90AC-D3DFAA8B5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7582F1-11D9-4844-BC9A-6E3E5E58F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1CC464-DD5A-4757-A983-709E5B4C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8812D3-FC5E-45D3-8799-53E25692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C249-7642-4E34-8AF3-E2DD05149F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Text Box 30"/>
          <p:cNvSpPr/>
          <p:nvPr/>
        </p:nvSpPr>
        <p:spPr>
          <a:xfrm>
            <a:off x="7381800" y="6354720"/>
            <a:ext cx="1384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Picture 38" descr="@"/>
          <p:cNvPicPr/>
          <p:nvPr/>
        </p:nvPicPr>
        <p:blipFill>
          <a:blip r:embed="rId3"/>
          <a:stretch/>
        </p:blipFill>
        <p:spPr>
          <a:xfrm>
            <a:off x="1066680" y="304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7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8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9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5D95-3171-41DF-9D1B-88006F1F69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0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1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2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2C7E-BA41-46F6-AAAF-15545504D5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3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4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5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305E-CFD1-47E7-BAE3-650960D291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0"/>
          <p:cNvSpPr/>
          <p:nvPr/>
        </p:nvSpPr>
        <p:spPr>
          <a:xfrm>
            <a:off x="7696080" y="228600"/>
            <a:ext cx="13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5562720" y="33480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7200" y="6553080"/>
            <a:ext cx="13716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7848720" y="6553080"/>
            <a:ext cx="8380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CB41-DFA7-437F-9C57-F2FF33C24A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8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2051-8379-479F-AC64-DC06C26718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9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0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1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F686-41FA-43AE-9D54-A069DEC484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2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3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4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BFD1-2FA7-409A-9428-3CFA0261B2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5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6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7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8E06-36AE-410D-9ED1-BAD0596F9E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8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9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0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59C1-2D12-4DFA-B33F-4988F5C417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1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2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3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7DC0-261F-46F2-88F4-467BF3C107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4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5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6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4CD2-2D70-492D-B31A-C798FF7AFE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28440" y="157176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studio de Percepcion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1571760" y="2428920"/>
            <a:ext cx="73245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cc9d"/>
                </a:solidFill>
                <a:latin typeface="Arial"/>
              </a:rPr>
              <a:t>Mediante el uso de Multi-Dimensional Scaling</a:t>
            </a: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97" name="TextBox 5"/>
          <p:cNvSpPr/>
          <p:nvPr/>
        </p:nvSpPr>
        <p:spPr>
          <a:xfrm>
            <a:off x="6429240" y="5857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Grupo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15" descr=""/>
          <p:cNvPicPr/>
          <p:nvPr/>
        </p:nvPicPr>
        <p:blipFill>
          <a:blip r:embed="rId1"/>
          <a:stretch/>
        </p:blipFill>
        <p:spPr>
          <a:xfrm>
            <a:off x="3286080" y="4857840"/>
            <a:ext cx="1238400" cy="12380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6" descr=""/>
          <p:cNvPicPr/>
          <p:nvPr/>
        </p:nvPicPr>
        <p:blipFill>
          <a:blip r:embed="rId2"/>
          <a:stretch/>
        </p:blipFill>
        <p:spPr>
          <a:xfrm>
            <a:off x="2000160" y="350028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7" descr=""/>
          <p:cNvPicPr/>
          <p:nvPr/>
        </p:nvPicPr>
        <p:blipFill>
          <a:blip r:embed="rId3"/>
          <a:stretch/>
        </p:blipFill>
        <p:spPr>
          <a:xfrm>
            <a:off x="3286080" y="350028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8" descr=""/>
          <p:cNvPicPr/>
          <p:nvPr/>
        </p:nvPicPr>
        <p:blipFill>
          <a:blip r:embed="rId4"/>
          <a:stretch/>
        </p:blipFill>
        <p:spPr>
          <a:xfrm>
            <a:off x="4572000" y="350028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9" descr=""/>
          <p:cNvPicPr/>
          <p:nvPr/>
        </p:nvPicPr>
        <p:blipFill>
          <a:blip r:embed="rId5"/>
          <a:stretch/>
        </p:blipFill>
        <p:spPr>
          <a:xfrm>
            <a:off x="714240" y="4857840"/>
            <a:ext cx="1238400" cy="12380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0" descr=""/>
          <p:cNvPicPr/>
          <p:nvPr/>
        </p:nvPicPr>
        <p:blipFill>
          <a:blip r:embed="rId6"/>
          <a:stretch/>
        </p:blipFill>
        <p:spPr>
          <a:xfrm>
            <a:off x="2009880" y="4857840"/>
            <a:ext cx="1238040" cy="12380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2" descr=""/>
          <p:cNvPicPr/>
          <p:nvPr/>
        </p:nvPicPr>
        <p:blipFill>
          <a:blip r:embed="rId7"/>
          <a:stretch/>
        </p:blipFill>
        <p:spPr>
          <a:xfrm>
            <a:off x="4581360" y="4867200"/>
            <a:ext cx="1214640" cy="12146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24" descr=""/>
          <p:cNvPicPr/>
          <p:nvPr/>
        </p:nvPicPr>
        <p:blipFill>
          <a:blip r:embed="rId8"/>
          <a:stretch/>
        </p:blipFill>
        <p:spPr>
          <a:xfrm>
            <a:off x="714240" y="3500280"/>
            <a:ext cx="1224000" cy="12146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25" descr=""/>
          <p:cNvPicPr/>
          <p:nvPr/>
        </p:nvPicPr>
        <p:blipFill>
          <a:blip r:embed="rId9"/>
          <a:stretch/>
        </p:blipFill>
        <p:spPr>
          <a:xfrm>
            <a:off x="6858000" y="3214800"/>
            <a:ext cx="1138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Footer Placeholder 4"/>
          <p:cNvSpPr/>
          <p:nvPr/>
        </p:nvSpPr>
        <p:spPr>
          <a:xfrm>
            <a:off x="6083280" y="6427800"/>
            <a:ext cx="17906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sultados Obt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Group 9"/>
          <p:cNvGrpSpPr/>
          <p:nvPr/>
        </p:nvGrpSpPr>
        <p:grpSpPr>
          <a:xfrm>
            <a:off x="1752480" y="2967120"/>
            <a:ext cx="5562720" cy="1306440"/>
            <a:chOff x="1752480" y="2967120"/>
            <a:chExt cx="5562720" cy="1306440"/>
          </a:xfrm>
        </p:grpSpPr>
        <p:sp>
          <p:nvSpPr>
            <p:cNvPr id="534" name="AutoShape 10"/>
            <p:cNvSpPr/>
            <p:nvPr/>
          </p:nvSpPr>
          <p:spPr>
            <a:xfrm>
              <a:off x="1752480" y="2967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AutoShape 11"/>
            <p:cNvSpPr/>
            <p:nvPr/>
          </p:nvSpPr>
          <p:spPr>
            <a:xfrm>
              <a:off x="1874880" y="3087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Freeform 12"/>
            <p:cNvSpPr/>
            <p:nvPr/>
          </p:nvSpPr>
          <p:spPr>
            <a:xfrm>
              <a:off x="1941480" y="3156120"/>
              <a:ext cx="534960" cy="534960"/>
            </a:xfrm>
            <a:prstGeom prst="pie">
              <a:avLst/>
            </a:pr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Text Box 13"/>
            <p:cNvSpPr/>
            <p:nvPr/>
          </p:nvSpPr>
          <p:spPr>
            <a:xfrm>
              <a:off x="1969920" y="3381480"/>
              <a:ext cx="97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r/P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Text Box 14"/>
            <p:cNvSpPr/>
            <p:nvPr/>
          </p:nvSpPr>
          <p:spPr>
            <a:xfrm>
              <a:off x="3092400" y="3144960"/>
              <a:ext cx="408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Resultados de estudiantes de Tradicionales vs Privad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9" name="Group 15"/>
          <p:cNvGrpSpPr/>
          <p:nvPr/>
        </p:nvGrpSpPr>
        <p:grpSpPr>
          <a:xfrm>
            <a:off x="1752480" y="4427640"/>
            <a:ext cx="5605560" cy="1306440"/>
            <a:chOff x="1752480" y="4427640"/>
            <a:chExt cx="5605560" cy="1306440"/>
          </a:xfrm>
        </p:grpSpPr>
        <p:sp>
          <p:nvSpPr>
            <p:cNvPr id="540" name="AutoShape 16"/>
            <p:cNvSpPr/>
            <p:nvPr/>
          </p:nvSpPr>
          <p:spPr>
            <a:xfrm>
              <a:off x="1752480" y="442764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AutoShape 17"/>
            <p:cNvSpPr/>
            <p:nvPr/>
          </p:nvSpPr>
          <p:spPr>
            <a:xfrm>
              <a:off x="1928880" y="457200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Freeform 18"/>
            <p:cNvSpPr/>
            <p:nvPr/>
          </p:nvSpPr>
          <p:spPr>
            <a:xfrm>
              <a:off x="1941480" y="4616640"/>
              <a:ext cx="534960" cy="534960"/>
            </a:xfrm>
            <a:prstGeom prst="pie">
              <a:avLst/>
            </a:pr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Text Box 19"/>
            <p:cNvSpPr/>
            <p:nvPr/>
          </p:nvSpPr>
          <p:spPr>
            <a:xfrm>
              <a:off x="1793520" y="4857840"/>
              <a:ext cx="130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ng/O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Text Box 20"/>
            <p:cNvSpPr/>
            <p:nvPr/>
          </p:nvSpPr>
          <p:spPr>
            <a:xfrm>
              <a:off x="3092400" y="4605480"/>
              <a:ext cx="426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Resultados de estudiantes de Ingeniería vs Otras Carrer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5" name="TextBox 22"/>
          <p:cNvSpPr/>
          <p:nvPr/>
        </p:nvSpPr>
        <p:spPr>
          <a:xfrm>
            <a:off x="785880" y="135720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encontraron además diferencias notables en las siguientes categorías, las cuales son dignas de menciona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sultados Obt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-360" y="1285920"/>
            <a:ext cx="928692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3cc9d"/>
                </a:solidFill>
                <a:latin typeface="Arial"/>
              </a:rPr>
              <a:t>Resultados de estudiantes de Tradicionales vs Privadas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1" name="Object 5"/>
          <p:cNvGraphicFramePr/>
          <p:nvPr/>
        </p:nvGraphicFramePr>
        <p:xfrm>
          <a:off x="71280" y="2260440"/>
          <a:ext cx="6786720" cy="445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2260440"/>
                    <a:ext cx="6786720" cy="44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3" name=""/>
          <p:cNvGraphicFramePr/>
          <p:nvPr/>
        </p:nvGraphicFramePr>
        <p:xfrm>
          <a:off x="6959520" y="2786040"/>
          <a:ext cx="2041560" cy="3000240"/>
        </p:xfrm>
        <a:graphic>
          <a:graphicData uri="http://schemas.openxmlformats.org/drawingml/2006/table">
            <a:tbl>
              <a:tblPr/>
              <a:tblGrid>
                <a:gridCol w="1112760"/>
                <a:gridCol w="928800"/>
              </a:tblGrid>
              <a:tr h="361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 bruto normalizad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06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3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-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2573(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731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-I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0000(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3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-Stres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8864(b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68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persión explicada (D.A.F.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39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69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eficiente de congruencia de Tuck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454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sultados Obt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1285920"/>
            <a:ext cx="928692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3cc9d"/>
                </a:solidFill>
                <a:latin typeface="Arial"/>
              </a:rPr>
              <a:t>Resultados de estudiantes de Tradicionales vs Privadas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71280" y="2214720"/>
          <a:ext cx="6856560" cy="450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2214720"/>
                    <a:ext cx="6856560" cy="45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6959520" y="2857680"/>
          <a:ext cx="2041560" cy="2928600"/>
        </p:xfrm>
        <a:graphic>
          <a:graphicData uri="http://schemas.openxmlformats.org/drawingml/2006/table">
            <a:tbl>
              <a:tblPr/>
              <a:tblGrid>
                <a:gridCol w="1106640"/>
                <a:gridCol w="934920"/>
              </a:tblGrid>
              <a:tr h="3808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 bruto normalizad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059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-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2545(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-I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0000(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9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-Stres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8536(b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03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persión explicada (D.A.F.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40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03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eficiente de congruencia de Tuck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455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sultados Obt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500040" y="10713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s mayores diferencias se observan en el Nivel Socioeconómico de la Chile y la Católica: los encuestados de Universidades Privadas los perciben mayores. 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Notable es también la percepción de los anteriores sobre la Universidad de los Andes, la cual se acerca bastante a la de la Chile y Católica, salvo en su dimesión Socioeconómica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66" name="Content Placeholder 2"/>
          <p:cNvSpPr/>
          <p:nvPr/>
        </p:nvSpPr>
        <p:spPr>
          <a:xfrm>
            <a:off x="0" y="1285920"/>
            <a:ext cx="92869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3cc9d"/>
                </a:solidFill>
                <a:latin typeface="Arial"/>
              </a:rPr>
              <a:t>Resultados de estudiantes de Tradicionales vs Priva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sultados Obt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57160" y="1071720"/>
            <a:ext cx="714384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3cc9d"/>
                </a:solidFill>
                <a:latin typeface="Arial"/>
              </a:rPr>
              <a:t>Resultados de estudiantes de Ingeniería vs Otras Carreras 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4" name="Object 3"/>
          <p:cNvGraphicFramePr/>
          <p:nvPr/>
        </p:nvGraphicFramePr>
        <p:xfrm>
          <a:off x="108000" y="2143080"/>
          <a:ext cx="696420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2143080"/>
                    <a:ext cx="69642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6" name=""/>
          <p:cNvGraphicFramePr/>
          <p:nvPr/>
        </p:nvGraphicFramePr>
        <p:xfrm>
          <a:off x="7215120" y="2786040"/>
          <a:ext cx="1785960" cy="2928960"/>
        </p:xfrm>
        <a:graphic>
          <a:graphicData uri="http://schemas.openxmlformats.org/drawingml/2006/table">
            <a:tbl>
              <a:tblPr/>
              <a:tblGrid>
                <a:gridCol w="992160"/>
                <a:gridCol w="793800"/>
              </a:tblGrid>
              <a:tr h="3808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 bruto normalizad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059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-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2549(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-I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0000(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-Stres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9014(b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03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persión explicada (D.A.F.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40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03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eficiente de congruencia de Tuck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455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sultados Obt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4" name="Object 3"/>
          <p:cNvGraphicFramePr/>
          <p:nvPr/>
        </p:nvGraphicFramePr>
        <p:xfrm>
          <a:off x="146160" y="2098800"/>
          <a:ext cx="696420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60" y="2098800"/>
                    <a:ext cx="69642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6" name="Content Placeholder 2"/>
          <p:cNvSpPr/>
          <p:nvPr/>
        </p:nvSpPr>
        <p:spPr>
          <a:xfrm>
            <a:off x="857160" y="1071720"/>
            <a:ext cx="71438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3cc9d"/>
                </a:solidFill>
                <a:latin typeface="Arial"/>
              </a:rPr>
              <a:t>Resultados de estudiantes de Ingeniería vs Otras Carrer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7174080" y="2928960"/>
          <a:ext cx="1827000" cy="2857320"/>
        </p:xfrm>
        <a:graphic>
          <a:graphicData uri="http://schemas.openxmlformats.org/drawingml/2006/table">
            <a:tbl>
              <a:tblPr/>
              <a:tblGrid>
                <a:gridCol w="1000080"/>
                <a:gridCol w="826920"/>
              </a:tblGrid>
              <a:tr h="4078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 bruto normalizad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070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-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2719(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-I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0000(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-Stres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8838(b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109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persión explicada (D.A.F.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29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127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eficiente de congruencia de Tuck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449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sultados Obt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cá se observa una clara tendencia de los Ingenieros de agrupar, en la dimensión prestigio, a las clásicamente mejores Universidades para Ingeniería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ara los encuestados de Otras Carreras se perciben la Universidad Diego Portales y Universidad de las Américas con un prestigio comparable a las Tradicionales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91" name="Content Placeholder 2"/>
          <p:cNvSpPr/>
          <p:nvPr/>
        </p:nvSpPr>
        <p:spPr>
          <a:xfrm>
            <a:off x="857160" y="1071720"/>
            <a:ext cx="71438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3cc9d"/>
                </a:solidFill>
                <a:latin typeface="Arial"/>
              </a:rPr>
              <a:t>Resultados de estudiantes de Ingeniería vs Otras Carrer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bjetivos del Estud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Box 64"/>
          <p:cNvSpPr/>
          <p:nvPr/>
        </p:nvSpPr>
        <p:spPr>
          <a:xfrm>
            <a:off x="428760" y="1928880"/>
            <a:ext cx="8215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udiar las Percepciones sobre distintas  Universid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ar qué grupos de personas tienden a tener un determinado tipo de Percepción sobre las Universid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upo de Estud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Box 64"/>
          <p:cNvSpPr/>
          <p:nvPr/>
        </p:nvSpPr>
        <p:spPr>
          <a:xfrm>
            <a:off x="428760" y="1595520"/>
            <a:ext cx="871524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Marco Muestral se centró en jóvenes universitarios o profesionales, de entre 18 y 25 añ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le pidieron los siguientes datos al encuesta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x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r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iversidad Tradicional/Priv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500040" y="1428840"/>
            <a:ext cx="75722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cc9d"/>
                </a:solidFill>
                <a:latin typeface="Arial"/>
              </a:rPr>
              <a:t>Encuesta a 60 personas, utilizando planilla Excel diseñada especialmente</a:t>
            </a: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 le solicitó al encuestado comparar las 9 Universidades elegidas utilizando la siguiente esca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cc9d"/>
                </a:solidFill>
                <a:latin typeface="Arial"/>
              </a:rPr>
              <a:t>La encuesta fue efectuada mediante e-mail y mensajería instantánea, pidiendo al sujeto rellenar la planilla Excel para luego entregarla completada al encuestador.</a:t>
            </a: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pic>
        <p:nvPicPr>
          <p:cNvPr id="512" name="Picture 1" descr=""/>
          <p:cNvPicPr/>
          <p:nvPr/>
        </p:nvPicPr>
        <p:blipFill>
          <a:blip r:embed="rId1"/>
          <a:stretch/>
        </p:blipFill>
        <p:spPr>
          <a:xfrm>
            <a:off x="714240" y="3143160"/>
            <a:ext cx="7391520" cy="97164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seño de la Encues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3cc9d"/>
                </a:solidFill>
                <a:latin typeface="Arial"/>
              </a:rPr>
              <a:t>Universidades elegidas para el estudio: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Pontificia Universidad Católica de Chi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iversidad Técnica Federico Santamarí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iversidad de Santiag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iversidad Adolfo Ibáñez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iversidad de los And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iversidad de las Améric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iversidad Diego Porta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iversidad Andrés Bell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seño de la Encues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jemplo Tabla Completad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357120" y="1714680"/>
            <a:ext cx="848700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sultados Obt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3cc9d"/>
                </a:solidFill>
                <a:latin typeface="Arial"/>
              </a:rPr>
              <a:t>Los siguientes son los datos del Marco Muestra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4643280" y="2000160"/>
          <a:ext cx="3000600" cy="4281480"/>
        </p:xfrm>
        <a:graphic>
          <a:graphicData uri="http://schemas.openxmlformats.org/drawingml/2006/table">
            <a:tbl>
              <a:tblPr/>
              <a:tblGrid>
                <a:gridCol w="1990800"/>
                <a:gridCol w="1009800"/>
              </a:tblGrid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Hombres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59,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Mujeres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0,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Tradicionales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74,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Privadas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5,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Edad&lt;23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6,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Edad&gt;=23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53,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Ingenieros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59,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Otras Carreras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0,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Número de Encuestas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6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1" name="Picture 1" descr="C:\Users\The Architect\AppData\Local\Microsoft\Windows\Temporary Internet Files\Content.IE5\HMUQWA6X\MCj04316260000[1].png"/>
          <p:cNvPicPr/>
          <p:nvPr/>
        </p:nvPicPr>
        <p:blipFill>
          <a:blip r:embed="rId1"/>
          <a:stretch/>
        </p:blipFill>
        <p:spPr>
          <a:xfrm>
            <a:off x="1428840" y="27147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sultados Obt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533520" y="1219320"/>
            <a:ext cx="815328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3cc9d"/>
                </a:solidFill>
                <a:latin typeface="Arial"/>
              </a:rPr>
              <a:t>Resultados de Todas las Encuestas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5" name="Object 1"/>
          <p:cNvGraphicFramePr/>
          <p:nvPr/>
        </p:nvGraphicFramePr>
        <p:xfrm>
          <a:off x="71280" y="2357280"/>
          <a:ext cx="6572520" cy="43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2357280"/>
                    <a:ext cx="657252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6715080" y="2786040"/>
          <a:ext cx="2286000" cy="2928960"/>
        </p:xfrm>
        <a:graphic>
          <a:graphicData uri="http://schemas.openxmlformats.org/drawingml/2006/table">
            <a:tbl>
              <a:tblPr/>
              <a:tblGrid>
                <a:gridCol w="1278000"/>
                <a:gridCol w="1008000"/>
              </a:tblGrid>
              <a:tr h="3808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 bruto normalizad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06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-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2573(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-I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000(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-Stres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8944(b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03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persión explicada (D.A.F.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8939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03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eficiente de congruencia de Tuck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9454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sultados Obt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533520" y="1219320"/>
            <a:ext cx="815328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9000"/>
          </a:bodyPr>
          <a:p>
            <a:pPr marL="65160" indent="-651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3cc9d"/>
                </a:solidFill>
                <a:latin typeface="Arial"/>
              </a:rPr>
              <a:t>Resultados de Todas las Encuestas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65160" indent="-6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65160" indent="-6516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e observa que las 2 Universidades más importantes del país son percibidas con el más alto prestigio, pero con Nivel Socioeconómico distinto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65160" indent="-6516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65160" indent="-6516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n general las Universidades Tradicionales se observan con mayor prestigio que las privadas, salvo una, la Universidad Adolfo Ibáñez, que está al nivel de las Tradicionales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4T22:42:23Z</dcterms:created>
  <dc:creator>Cristian Ludwig</dc:creator>
  <dc:description/>
  <dc:language>en-US</dc:language>
  <cp:lastModifiedBy>Paola Nahum</cp:lastModifiedBy>
  <dcterms:modified xsi:type="dcterms:W3CDTF">2008-04-30T21:09:32Z</dcterms:modified>
  <cp:revision>30</cp:revision>
  <dc:subject/>
  <dc:title>Estudio de Percepciones</dc:title>
</cp:coreProperties>
</file>