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B01-AB25-4841-83D0-93DB2563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7B6-B2C7-4928-B996-5F1DE090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E1916F-FE1E-4391-B332-E125DAAB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E29971-6772-4FCE-86AA-CA141592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28D51B-5CF4-432A-B310-9B838470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3EDB0F-2BEA-436C-AF34-E7987208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B9CF5D-071F-41E4-AA67-CEBF7837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B72741-8937-4E30-8238-F9FC9787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52B75B-EB48-4B1C-BFB9-6B364481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A41E58-5D4D-406B-BDCF-26552793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756E51-F5D5-42B9-95A8-35A71D44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6BE3EA-06EE-4DDE-8494-068A94A9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B9B-3C0A-4EC6-A0C7-D508EF89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2CF836-2056-4B7B-992B-F16BDADD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B17837-C7DE-482C-A6E1-80F30844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53B171-091C-4B2F-92A1-3711B2B4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F6EDA8-ADED-4184-90B0-9804F4D0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0458F8-4CC6-43F8-9BFD-3B288D65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FD2FEE-E489-43F4-89A7-05EAEFEB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ED2831-1930-431D-A179-F466DA77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B5A709-A60B-43C9-868E-641A0303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61F4F0-DF2E-4800-906D-78EFC74F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69CAE4-2724-449C-8203-1FFDE9E3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98A-D8FD-4EBB-A39D-177A10F0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A76274-6FFA-420A-BA13-4E6E3CA3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A8F8C7-1FBB-4265-8FA6-78CC43DD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21FB93-CF72-4F25-ABB3-039A85E4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774B1A-EC47-4916-8245-50CC2524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3C8AD3-E7D9-430E-B9D8-9CB02C52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181713-58F8-41AF-BBBC-B8394156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27A47F-B453-43FF-98E1-50BE1444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50C140-404E-45B3-B671-40271936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F3F038-6DEA-473A-880E-8D1AEF58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4BC03D-4255-4E89-9F64-59715261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72C18-2477-44A4-90CF-F948585366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34D197-34A2-4677-B7EC-AE5E2123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471809-C3E6-4AD5-8840-22A14684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584983-C223-4A32-9BC2-C71CAB30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53B518-D978-4749-8EB1-83A02AF8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B4FEEC-F42A-4580-B3F1-DDC817B8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F58A4E-53CB-46EE-B725-55FEC690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55977F-7C3E-483E-BBCD-AA9AF83A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DE4AA0-B3E9-4B3D-AC8E-A5B9B8C5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D1BA63-6637-4BD4-A0C1-4F1A1D5E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E05B50-FC9F-4437-AAEF-3A013392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2FBCF-A030-414F-93A9-35BDF236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CA961B-7046-482C-9802-7CFE2AB9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33B46A-53CB-4392-B1C0-387A9BA7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47A1C5-215A-4545-B64D-81870A92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998FBB-E9DD-4BD6-8D06-33F1AA93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95FCE6-3D6B-43B9-8357-358E7DB1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D3AE8-B8B9-4D97-9228-2DE8D4BA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185E7-FAA9-4242-8922-FA36671F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06C5B-EAE8-4C9F-9FDF-421BEAA9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DE661-89C3-4E1F-8B87-0183E91E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B42E5-B9D6-46EA-944A-12D9034E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ED3-28A6-41F0-94F4-3F262E9D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95F82-5C8A-4C4A-82A0-60F766AC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529D5-CEFC-4CEE-85FF-EA36E46C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C37E1-4CE4-4F77-A8CC-9E4D73CA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E2879-1EA7-497E-A4B8-7EC78CAD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9342F-1E4D-4B5B-8C19-47233F67A5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6036A-72F5-4E18-AB01-42D34100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0C743-96C8-478B-B107-9B288543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94C9F-6DDB-4EEE-9128-2C528B97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9DCEE-6AC2-48B2-8277-67AE690E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B1551-9DD5-4CBC-844D-ABB0F129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E66-97D0-42FE-87A5-A759FFDC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C7642-D30E-4BE5-9E1F-7162ECA8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974ED-8E8E-47AD-A24D-456C3E04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6F944-5C0A-4C57-8F9D-7971DDC0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EBE69-59A7-4E43-B62F-0A286E9A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93D2A-FB2A-469C-B5E1-7F4C6E9E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9D83F-C93E-4050-905B-EC2806E2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A49AC-D2DB-4614-98A2-580EAD1D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BB769-22DC-43D9-8D94-3D42095C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261AA-37C6-4EE8-800B-D2FE13C5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822E5-F1A4-4186-A52B-A20796AA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798-8E17-441C-8394-B3E6BA28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AF67A2-09BF-4EA8-A527-D7A5D730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642D9-B2EE-4761-95D2-BEB8B392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7425A-723C-4BFD-B658-E621046C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2A6BF4-5548-42A7-A343-AC81674C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5D455-AFE2-4EFF-AC53-D60E934C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4C778-0E43-485C-B304-2FD92CBD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5CEDF6-8FA5-4086-A31F-EC0EA4C0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DC7F1-5A5E-483A-B5BC-F0A691A8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774F9-E7A6-41C6-9270-56913008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7C68A-ABD6-449B-B9C1-BC0AE22E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344-050B-479B-9AAE-93D4B413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11E37-5A0C-4820-8958-225169DB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6CB2A-3377-4E19-9937-1BA35D6D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09F78-D79F-4472-BEB9-33780073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8FFF9-7C1D-4FA0-8444-26C31336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056B5-63B2-4C0E-8DE7-E9D5CCCF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34AF0-EFB3-4F7A-9244-47BE8FDF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604B9-9F5B-488B-9CAB-22E70953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0CF21-F9D7-465C-ADC8-09FBF12F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94AB8-B89F-4354-B3E6-4DA635CF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3D7155-05F4-4E0D-A13D-4089E0EA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82AC-BD60-4EF0-BD34-E5F416D7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6FE31-80BF-4819-A794-280264D1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EFD0E-09A2-41C3-9143-A3AEF06B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70357-E575-4948-8211-9309CD7E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8EF4F-5E63-4A2B-901B-E92EF5CA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06634-E967-4A76-95F1-DB58A4D2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23A12-B356-43D4-B963-42B7EA04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1BE21-E68C-45E7-B262-1F265075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534F5-9880-4426-B504-7B3F10DF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89503-46A6-4128-9507-93F9AD62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24BEF-72F2-4027-B08A-DC624884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D75-4EFA-45CD-8BAC-4B367994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26B639-A77D-4820-806F-D973F803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05447-5264-44CA-9EA8-0AFF7C02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0AB0F-2BF8-4A69-8773-81FFE2BE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ABDC1-E748-4A13-889F-4E7E73AB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26727-A104-4567-81A2-0A050FB2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8F993-5E27-4966-8E64-AD6315FB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68E19-1F9A-4BA8-A785-2A7874D6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4546B-B36A-453F-9092-444113C2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39C20-F6E1-4253-B063-F481B5CB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AD0DC6-8FC1-4CE0-B97A-A410B874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3BC-56CE-483F-AFA9-DDE2614C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E0133-ADCC-4942-B487-C7D233F1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6BA7C-40C7-45C1-A345-C3F5D129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8AC197-3BB5-466E-A63D-29D20B27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38C3C-8B0F-432C-826A-C50943A0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60F67-FD1D-4BDB-B0AB-24083E6B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6FF1E9-B0C0-40C4-AAA8-14352C02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3F27AB-D3BB-4AFB-8078-DE3BB151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E23B39-BC51-42E9-89B0-FF341350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F9231A-F135-464B-A0FE-C3162AC2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EB5C6A-FF5E-4087-B771-20C26384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DC1-CA4A-497E-B7F1-1ED19A76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B6FA2E-9076-4070-83B9-04F04592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556828-EDDE-412C-B0EB-586A4258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5F203C-D5DC-46A1-94F7-49598600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CC0733-BFB4-42E1-ACBF-455AC7A0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167C7D-D045-4EC6-BF1C-1AC275F3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738D23-3A67-4685-85BD-096D099B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E34593-2F5B-492B-8E49-3DFA1C23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F238B8-F8DE-4A24-B2DB-812676B9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F14608-5B07-4DC9-8D96-8B126E79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8C45E4-C662-47F1-9DEF-8064A51A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EDD9-DE9D-4C73-BC56-5564037B25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Text Box 30"/>
          <p:cNvSpPr/>
          <p:nvPr/>
        </p:nvSpPr>
        <p:spPr>
          <a:xfrm>
            <a:off x="7381800" y="6354720"/>
            <a:ext cx="13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7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8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9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83D5-11C0-41EA-BE45-44E8FDEEDF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0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1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2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2C6C-2335-476D-82F3-865B1F04DE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3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4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5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3A56-E65E-4242-A588-21B66FFD62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0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553080"/>
            <a:ext cx="1371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7848720" y="655308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E420-AB55-43D4-9D07-115B80EF58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D6EB-A18E-4F82-8F76-C22CF11C4A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4048-3E2C-43E2-8913-9E746CC2EF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33CC-ED20-4450-BA1E-849D6111F9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5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6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7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616F-F815-418F-B386-F076062C54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8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9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0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A7A1-CC3A-4FC7-919B-881D8E56E6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2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3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4408-2CC2-45E0-B90D-B257CDB1CA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4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5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6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5371-5E93-4928-B353-0870684908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28440" y="157176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studio de Percepcion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571760" y="2428920"/>
            <a:ext cx="73245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cc9d"/>
                </a:solidFill>
                <a:latin typeface="Arial"/>
              </a:rPr>
              <a:t>Mediante el uso de Multi-Dimensional Scaling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642924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Grupo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15" descr=""/>
          <p:cNvPicPr/>
          <p:nvPr/>
        </p:nvPicPr>
        <p:blipFill>
          <a:blip r:embed="rId1"/>
          <a:stretch/>
        </p:blipFill>
        <p:spPr>
          <a:xfrm>
            <a:off x="3286080" y="485784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6" descr=""/>
          <p:cNvPicPr/>
          <p:nvPr/>
        </p:nvPicPr>
        <p:blipFill>
          <a:blip r:embed="rId2"/>
          <a:stretch/>
        </p:blipFill>
        <p:spPr>
          <a:xfrm>
            <a:off x="2000160" y="35002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7" descr=""/>
          <p:cNvPicPr/>
          <p:nvPr/>
        </p:nvPicPr>
        <p:blipFill>
          <a:blip r:embed="rId3"/>
          <a:stretch/>
        </p:blipFill>
        <p:spPr>
          <a:xfrm>
            <a:off x="3286080" y="35002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8" descr=""/>
          <p:cNvPicPr/>
          <p:nvPr/>
        </p:nvPicPr>
        <p:blipFill>
          <a:blip r:embed="rId4"/>
          <a:stretch/>
        </p:blipFill>
        <p:spPr>
          <a:xfrm>
            <a:off x="4572000" y="35002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9" descr=""/>
          <p:cNvPicPr/>
          <p:nvPr/>
        </p:nvPicPr>
        <p:blipFill>
          <a:blip r:embed="rId5"/>
          <a:stretch/>
        </p:blipFill>
        <p:spPr>
          <a:xfrm>
            <a:off x="714240" y="485784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0" descr=""/>
          <p:cNvPicPr/>
          <p:nvPr/>
        </p:nvPicPr>
        <p:blipFill>
          <a:blip r:embed="rId6"/>
          <a:stretch/>
        </p:blipFill>
        <p:spPr>
          <a:xfrm>
            <a:off x="2009880" y="485784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2" descr=""/>
          <p:cNvPicPr/>
          <p:nvPr/>
        </p:nvPicPr>
        <p:blipFill>
          <a:blip r:embed="rId7"/>
          <a:stretch/>
        </p:blipFill>
        <p:spPr>
          <a:xfrm>
            <a:off x="4581360" y="486720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4" descr=""/>
          <p:cNvPicPr/>
          <p:nvPr/>
        </p:nvPicPr>
        <p:blipFill>
          <a:blip r:embed="rId8"/>
          <a:stretch/>
        </p:blipFill>
        <p:spPr>
          <a:xfrm>
            <a:off x="714240" y="3500280"/>
            <a:ext cx="1224000" cy="12146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5" descr=""/>
          <p:cNvPicPr/>
          <p:nvPr/>
        </p:nvPicPr>
        <p:blipFill>
          <a:blip r:embed="rId9"/>
          <a:stretch/>
        </p:blipFill>
        <p:spPr>
          <a:xfrm>
            <a:off x="6858000" y="3214800"/>
            <a:ext cx="1138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4"/>
          <p:cNvSpPr/>
          <p:nvPr/>
        </p:nvSpPr>
        <p:spPr>
          <a:xfrm>
            <a:off x="6083280" y="6427800"/>
            <a:ext cx="1790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9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534" name="AutoShape 10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AutoShape 11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12"/>
            <p:cNvSpPr/>
            <p:nvPr/>
          </p:nvSpPr>
          <p:spPr>
            <a:xfrm>
              <a:off x="1941480" y="315612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1969920" y="3381480"/>
              <a:ext cx="97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r/P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3092400" y="3144960"/>
              <a:ext cx="408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esultados de estudiantes de Tradicionales vs Privad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15"/>
          <p:cNvGrpSpPr/>
          <p:nvPr/>
        </p:nvGrpSpPr>
        <p:grpSpPr>
          <a:xfrm>
            <a:off x="1752480" y="4427640"/>
            <a:ext cx="5605560" cy="1306440"/>
            <a:chOff x="1752480" y="4427640"/>
            <a:chExt cx="5605560" cy="1306440"/>
          </a:xfrm>
        </p:grpSpPr>
        <p:sp>
          <p:nvSpPr>
            <p:cNvPr id="540" name="AutoShape 16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AutoShape 17"/>
            <p:cNvSpPr/>
            <p:nvPr/>
          </p:nvSpPr>
          <p:spPr>
            <a:xfrm>
              <a:off x="1928880" y="45720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18"/>
            <p:cNvSpPr/>
            <p:nvPr/>
          </p:nvSpPr>
          <p:spPr>
            <a:xfrm>
              <a:off x="1941480" y="461664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1793520" y="4857840"/>
              <a:ext cx="130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g/O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20"/>
            <p:cNvSpPr/>
            <p:nvPr/>
          </p:nvSpPr>
          <p:spPr>
            <a:xfrm>
              <a:off x="3092400" y="4605480"/>
              <a:ext cx="426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esultados de estudiantes de Ingeniería vs Otras Carre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TextBox 22"/>
          <p:cNvSpPr/>
          <p:nvPr/>
        </p:nvSpPr>
        <p:spPr>
          <a:xfrm>
            <a:off x="785880" y="1357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encontraron además diferencias notables en las siguientes categorías, las cuales son dignas de mencion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1285920"/>
            <a:ext cx="9286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Tradicionales vs Privad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Object 5"/>
          <p:cNvGraphicFramePr/>
          <p:nvPr/>
        </p:nvGraphicFramePr>
        <p:xfrm>
          <a:off x="71280" y="2260440"/>
          <a:ext cx="678672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260440"/>
                    <a:ext cx="678672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6959520" y="2786040"/>
          <a:ext cx="2041560" cy="3000240"/>
        </p:xfrm>
        <a:graphic>
          <a:graphicData uri="http://schemas.openxmlformats.org/drawingml/2006/table">
            <a:tbl>
              <a:tblPr/>
              <a:tblGrid>
                <a:gridCol w="1112760"/>
                <a:gridCol w="928800"/>
              </a:tblGrid>
              <a:tr h="361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6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573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31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8864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3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9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5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1285920"/>
            <a:ext cx="9286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Tradicionales vs Privad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71280" y="2214720"/>
          <a:ext cx="6856560" cy="45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214720"/>
                    <a:ext cx="685656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6959520" y="2857680"/>
          <a:ext cx="2041560" cy="2928600"/>
        </p:xfrm>
        <a:graphic>
          <a:graphicData uri="http://schemas.openxmlformats.org/drawingml/2006/table">
            <a:tbl>
              <a:tblPr/>
              <a:tblGrid>
                <a:gridCol w="1106640"/>
                <a:gridCol w="934920"/>
              </a:tblGrid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59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545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9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8536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4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55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500040" y="10713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s mayores diferencias se observan en el Nivel Socioeconómico de la Chile y la Católica: los encuestados de Universidades Privadas los perciben mayores.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table es también la percepción de los anteriores sobre la Universidad de los Andes, la cual se acerca bastante a la de la Chile y Católica, salvo en su dimesión Socioeconómica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66" name="Content Placeholder 2"/>
          <p:cNvSpPr/>
          <p:nvPr/>
        </p:nvSpPr>
        <p:spPr>
          <a:xfrm>
            <a:off x="0" y="1285920"/>
            <a:ext cx="9286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Tradicionales vs Priv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57160" y="1071720"/>
            <a:ext cx="71438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Ingeniería vs Otras Carreras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4" name="Object 3"/>
          <p:cNvGraphicFramePr/>
          <p:nvPr/>
        </p:nvGraphicFramePr>
        <p:xfrm>
          <a:off x="108000" y="2143080"/>
          <a:ext cx="69642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143080"/>
                    <a:ext cx="6964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7215120" y="2786040"/>
          <a:ext cx="1785960" cy="2928960"/>
        </p:xfrm>
        <a:graphic>
          <a:graphicData uri="http://schemas.openxmlformats.org/drawingml/2006/table">
            <a:tbl>
              <a:tblPr/>
              <a:tblGrid>
                <a:gridCol w="992160"/>
                <a:gridCol w="793800"/>
              </a:tblGrid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59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549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014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40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55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4" name="Object 3"/>
          <p:cNvGraphicFramePr/>
          <p:nvPr/>
        </p:nvGraphicFramePr>
        <p:xfrm>
          <a:off x="146160" y="2098800"/>
          <a:ext cx="69642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2098800"/>
                    <a:ext cx="6964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Content Placeholder 2"/>
          <p:cNvSpPr/>
          <p:nvPr/>
        </p:nvSpPr>
        <p:spPr>
          <a:xfrm>
            <a:off x="857160" y="1071720"/>
            <a:ext cx="7143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Ingeniería vs Otras Carre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174080" y="2928960"/>
          <a:ext cx="1827000" cy="2857320"/>
        </p:xfrm>
        <a:graphic>
          <a:graphicData uri="http://schemas.openxmlformats.org/drawingml/2006/table">
            <a:tbl>
              <a:tblPr/>
              <a:tblGrid>
                <a:gridCol w="1000080"/>
                <a:gridCol w="826920"/>
              </a:tblGrid>
              <a:tr h="407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70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719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8838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29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49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cá se observa una clara tendencia de los Ingenieros de agrupar, en la dimensión prestigio, a las clásicamente mejores Universidades para Ingeniería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 los encuestados de Otras Carreras se perciben la Universidad Diego Portales y Universidad de las Américas con un prestigio comparable a las Tradicionale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91" name="Content Placeholder 2"/>
          <p:cNvSpPr/>
          <p:nvPr/>
        </p:nvSpPr>
        <p:spPr>
          <a:xfrm>
            <a:off x="857160" y="1071720"/>
            <a:ext cx="7143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Ingeniería vs Otras Carre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tivos del Estud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64"/>
          <p:cNvSpPr/>
          <p:nvPr/>
        </p:nvSpPr>
        <p:spPr>
          <a:xfrm>
            <a:off x="428760" y="1928880"/>
            <a:ext cx="82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udiar las Percepciones sobre distintas  Univers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r qué grupos de personas tienden a tener un determinado tipo de Percepción sobre las Univers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upo de Estud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64"/>
          <p:cNvSpPr/>
          <p:nvPr/>
        </p:nvSpPr>
        <p:spPr>
          <a:xfrm>
            <a:off x="428760" y="1595520"/>
            <a:ext cx="87152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Marco Muestral se centró en jóvenes universitarios o profesionales, de entre 18 y 25 añ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le pidieron los siguientes datos al encuesta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x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r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dad Tradicional/Priv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7572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cc9d"/>
                </a:solidFill>
                <a:latin typeface="Arial"/>
              </a:rPr>
              <a:t>Encuesta a 60 personas, utilizando planilla Excel diseñada especialmente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 le solicitó al encuestado comparar las 9 Universidades elegidas utilizando la siguiente esca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cc9d"/>
                </a:solidFill>
                <a:latin typeface="Arial"/>
              </a:rPr>
              <a:t>La encuesta fue efectuada mediante e-mail y mensajería instantánea, pidiendo al sujeto rellenar la planilla Excel para luego entregarla completada al encuestador.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pic>
        <p:nvPicPr>
          <p:cNvPr id="512" name="Picture 1" descr=""/>
          <p:cNvPicPr/>
          <p:nvPr/>
        </p:nvPicPr>
        <p:blipFill>
          <a:blip r:embed="rId1"/>
          <a:stretch/>
        </p:blipFill>
        <p:spPr>
          <a:xfrm>
            <a:off x="714240" y="3143160"/>
            <a:ext cx="7391520" cy="9716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eño de la Encues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Universidades elegidas para el estudio: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ontificia Universidad Católica de 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Técnica Federico Santamarí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Santia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Adolfo Ibáñ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los An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las Améric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iego Port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Andrés Bell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eño de la Encues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jemplo Tabla Completa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487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Los siguientes son los datos del Marco Muestra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643280" y="2000160"/>
          <a:ext cx="3000600" cy="4281480"/>
        </p:xfrm>
        <a:graphic>
          <a:graphicData uri="http://schemas.openxmlformats.org/drawingml/2006/table">
            <a:tbl>
              <a:tblPr/>
              <a:tblGrid>
                <a:gridCol w="1990800"/>
                <a:gridCol w="1009800"/>
              </a:tblGrid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Hombr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9,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ujer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0,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radicional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4,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Privada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5,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dad&lt;2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6,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dad&gt;=2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3,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ngeniero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9,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Otras Carrera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0,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úmero de Encuesta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1" name="Picture 1" descr="C:\Users\The Architect\AppData\Local\Microsoft\Windows\Temporary Internet Files\Content.IE5\HMUQWA6X\MCj04316260000[1].png"/>
          <p:cNvPicPr/>
          <p:nvPr/>
        </p:nvPicPr>
        <p:blipFill>
          <a:blip r:embed="rId1"/>
          <a:stretch/>
        </p:blipFill>
        <p:spPr>
          <a:xfrm>
            <a:off x="1428840" y="27147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33520" y="1219320"/>
            <a:ext cx="815328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Todas las Encuest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Object 1"/>
          <p:cNvGraphicFramePr/>
          <p:nvPr/>
        </p:nvGraphicFramePr>
        <p:xfrm>
          <a:off x="71280" y="2357280"/>
          <a:ext cx="6572520" cy="43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357280"/>
                    <a:ext cx="65725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6715080" y="2786040"/>
          <a:ext cx="2286000" cy="2928960"/>
        </p:xfrm>
        <a:graphic>
          <a:graphicData uri="http://schemas.openxmlformats.org/drawingml/2006/table">
            <a:tbl>
              <a:tblPr/>
              <a:tblGrid>
                <a:gridCol w="1278000"/>
                <a:gridCol w="1008000"/>
              </a:tblGrid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6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573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8944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93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45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33520" y="1219320"/>
            <a:ext cx="815328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Todas las Encuest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observa que las 2 Universidades más importantes del país son percibidas con el más alto prestigio, pero con Nivel Socioeconómico distinto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general las Universidades Tradicionales se observan con mayor prestigio que las privadas, salvo una, la Universidad Adolfo Ibáñez, que está al nivel de las Tradicionale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22:42:23Z</dcterms:created>
  <dc:creator>Cristian Ludwig</dc:creator>
  <dc:description/>
  <dc:language>en-US</dc:language>
  <cp:lastModifiedBy>Paola Nahum</cp:lastModifiedBy>
  <dcterms:modified xsi:type="dcterms:W3CDTF">2008-04-30T21:09:32Z</dcterms:modified>
  <cp:revision>30</cp:revision>
  <dc:subject/>
  <dc:title>Estudio de Percepciones</dc:title>
</cp:coreProperties>
</file>