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14BC-C87F-4DBF-895A-71CD2E88D71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028D-44C7-4715-8EC7-8F30296394C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10A0-EA72-4B67-AF4A-620764E7453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42A-3A4D-4C7D-8C67-A3395E8C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B197-84E1-4BDC-AB86-37D5A976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E174-8211-4568-B210-63F8F4C1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392-055D-465B-AE8F-11ED14A2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5E3-F117-40C0-9EAA-225882B1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BF7-6782-4AE8-80AA-B9308092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8B32-2BE1-4D15-A3B7-232BD02C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5DB2-BA11-4A33-9E70-D51F0E49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23C-84C0-4B21-91CB-CD824E2F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BC5-CCBB-41D5-8D91-C5F292B1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D41-E4B5-4FA5-A53F-92490547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10E-EB1A-479E-A1A3-FD859422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A96C-6CC8-4D81-9ECD-983A4FB0A75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285480"/>
            <a:ext cx="788652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0" spc="-1" strike="noStrike">
                <a:solidFill>
                  <a:srgbClr val="000000"/>
                </a:solidFill>
                <a:latin typeface="Calibri"/>
              </a:rPr>
              <a:t>Laddering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3 CuadroTexto"/>
          <p:cNvSpPr/>
          <p:nvPr/>
        </p:nvSpPr>
        <p:spPr>
          <a:xfrm>
            <a:off x="2375280" y="2143080"/>
            <a:ext cx="436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800" spc="-1" strike="noStrike">
                <a:solidFill>
                  <a:srgbClr val="000000"/>
                </a:solidFill>
                <a:latin typeface="Calibri"/>
              </a:rPr>
              <a:t>Casado con Hij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C:\Users\Williams Arevalo\Desktop\cch1.jpg"/>
          <p:cNvPicPr/>
          <p:nvPr/>
        </p:nvPicPr>
        <p:blipFill>
          <a:blip r:embed="rId1"/>
          <a:stretch/>
        </p:blipFill>
        <p:spPr>
          <a:xfrm>
            <a:off x="2500200" y="2857680"/>
            <a:ext cx="3857760" cy="2857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Calibri"/>
              </a:rPr>
              <a:t>Atributos, Consecuencias y Valores encontr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85960" y="2041560"/>
            <a:ext cx="5772240" cy="6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98989"/>
                </a:solidFill>
                <a:latin typeface="Calibri"/>
              </a:rPr>
              <a:t>Atribu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14240" y="2928960"/>
          <a:ext cx="7429680" cy="2503440"/>
        </p:xfrm>
        <a:graphic>
          <a:graphicData uri="http://schemas.openxmlformats.org/drawingml/2006/table">
            <a:tbl>
              <a:tblPr/>
              <a:tblGrid>
                <a:gridCol w="1943280"/>
                <a:gridCol w="979560"/>
                <a:gridCol w="782640"/>
                <a:gridCol w="868320"/>
                <a:gridCol w="965160"/>
                <a:gridCol w="893880"/>
                <a:gridCol w="996840"/>
              </a:tblGrid>
              <a:tr h="2905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dad de la Actuació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ización Apropia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rario Apropia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3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a Adaptación a Ch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ación Apropia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Chulo“, Chabacano, Burd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746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sto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2905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or Livia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56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Calibri"/>
              </a:rPr>
              <a:t>Atributos, Consecuencias y Valores encontr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57120" y="2786040"/>
          <a:ext cx="8215560" cy="2259000"/>
        </p:xfrm>
        <a:graphic>
          <a:graphicData uri="http://schemas.openxmlformats.org/drawingml/2006/table">
            <a:tbl>
              <a:tblPr/>
              <a:tblGrid>
                <a:gridCol w="2584440"/>
                <a:gridCol w="1023840"/>
                <a:gridCol w="833760"/>
                <a:gridCol w="880920"/>
                <a:gridCol w="1074600"/>
                <a:gridCol w="885960"/>
                <a:gridCol w="932040"/>
              </a:tblGrid>
              <a:tr h="405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cuenc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0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ción con persona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507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ntra similitud con la vi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95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uentra similitud con socied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3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saca de lo comú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57" name="2 Subtítulo"/>
          <p:cNvSpPr/>
          <p:nvPr/>
        </p:nvSpPr>
        <p:spPr>
          <a:xfrm>
            <a:off x="1785960" y="1827360"/>
            <a:ext cx="5772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a6a6a6"/>
                </a:solidFill>
                <a:latin typeface="Calibri"/>
              </a:rPr>
              <a:t>Consecu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6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000000"/>
                </a:solidFill>
                <a:latin typeface="Calibri"/>
              </a:rPr>
              <a:t>Atributos, Consecuencias y Valores encontrado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2 Subtítulo"/>
          <p:cNvSpPr/>
          <p:nvPr/>
        </p:nvSpPr>
        <p:spPr>
          <a:xfrm>
            <a:off x="1785960" y="1827360"/>
            <a:ext cx="57722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a6a6a6"/>
                </a:solidFill>
                <a:latin typeface="Calibri"/>
              </a:rPr>
              <a:t>Va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28800" y="3083040"/>
          <a:ext cx="7358040" cy="1774800"/>
        </p:xfrm>
        <a:graphic>
          <a:graphicData uri="http://schemas.openxmlformats.org/drawingml/2006/table">
            <a:tbl>
              <a:tblPr/>
              <a:tblGrid>
                <a:gridCol w="2314440"/>
                <a:gridCol w="917640"/>
                <a:gridCol w="745920"/>
                <a:gridCol w="789120"/>
                <a:gridCol w="961920"/>
                <a:gridCol w="793800"/>
                <a:gridCol w="835200"/>
              </a:tblGrid>
              <a:tr h="404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Aparicio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si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Neg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49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gría / Felicidad / Ri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49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tención / Divers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47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j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740040" y="1282680"/>
            <a:ext cx="136836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treten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860400" y="1282680"/>
            <a:ext cx="136836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eg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405480" y="1303200"/>
            <a:ext cx="136836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Rel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392040" y="3657600"/>
            <a:ext cx="1476360" cy="86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Identificación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con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Personaj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2624040" y="3586320"/>
            <a:ext cx="140508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imilitud 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u V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6837480" y="3586320"/>
            <a:ext cx="136836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Me saca </a:t>
            </a:r>
            <a:br>
              <a:rPr sz="1400"/>
            </a:br>
            <a:r>
              <a:rPr b="0" i="1" lang="es-ES" sz="1400" spc="-1" strike="noStrike">
                <a:solidFill>
                  <a:srgbClr val="000000"/>
                </a:solidFill>
                <a:latin typeface="Calibri"/>
              </a:rPr>
              <a:t>de lo comú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4821120" y="3587760"/>
            <a:ext cx="1368720" cy="93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Similitud 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la Socie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357120" y="6073920"/>
            <a:ext cx="104616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lidad de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ct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6"/>
          <p:cNvSpPr/>
          <p:nvPr/>
        </p:nvSpPr>
        <p:spPr>
          <a:xfrm>
            <a:off x="1581120" y="6073920"/>
            <a:ext cx="1119240" cy="5950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Buena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Adap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7"/>
          <p:cNvSpPr/>
          <p:nvPr/>
        </p:nvSpPr>
        <p:spPr>
          <a:xfrm>
            <a:off x="3021120" y="6033960"/>
            <a:ext cx="1190520" cy="63504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aracter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propi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8"/>
          <p:cNvSpPr/>
          <p:nvPr/>
        </p:nvSpPr>
        <p:spPr>
          <a:xfrm>
            <a:off x="7916760" y="6073920"/>
            <a:ext cx="91440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or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Apropi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0"/>
          <p:cNvSpPr/>
          <p:nvPr/>
        </p:nvSpPr>
        <p:spPr>
          <a:xfrm>
            <a:off x="4460760" y="6073920"/>
            <a:ext cx="111924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Burdo, “Chulo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habac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1"/>
          <p:cNvSpPr/>
          <p:nvPr/>
        </p:nvSpPr>
        <p:spPr>
          <a:xfrm>
            <a:off x="5684760" y="6073920"/>
            <a:ext cx="91440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Chisto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>
            <a:off x="6765840" y="6073920"/>
            <a:ext cx="914400" cy="609480"/>
          </a:xfrm>
          <a:prstGeom prst="flowChartAlternateProcess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Humor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Livi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33"/>
          <p:cNvCxnSpPr>
            <a:stCxn id="67" idx="0"/>
            <a:endCxn id="61" idx="2"/>
          </p:cNvCxnSpPr>
          <p:nvPr/>
        </p:nvCxnSpPr>
        <p:spPr>
          <a:xfrm flipH="1" flipV="1">
            <a:off x="4423680" y="2196720"/>
            <a:ext cx="1081800" cy="139104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76" name="AutoShape 34"/>
          <p:cNvCxnSpPr>
            <a:stCxn id="61" idx="2"/>
            <a:endCxn id="65" idx="0"/>
          </p:cNvCxnSpPr>
          <p:nvPr/>
        </p:nvCxnSpPr>
        <p:spPr>
          <a:xfrm flipH="1">
            <a:off x="3326760" y="2196720"/>
            <a:ext cx="1097640" cy="138996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77" name="AutoShape 35"/>
          <p:cNvCxnSpPr>
            <a:stCxn id="62" idx="2"/>
            <a:endCxn id="65" idx="0"/>
          </p:cNvCxnSpPr>
          <p:nvPr/>
        </p:nvCxnSpPr>
        <p:spPr>
          <a:xfrm>
            <a:off x="1544760" y="2196720"/>
            <a:ext cx="1783440" cy="13899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78" name="AutoShape 37"/>
          <p:cNvCxnSpPr>
            <a:stCxn id="62" idx="2"/>
            <a:endCxn id="64" idx="0"/>
          </p:cNvCxnSpPr>
          <p:nvPr/>
        </p:nvCxnSpPr>
        <p:spPr>
          <a:xfrm flipH="1">
            <a:off x="1129680" y="2196720"/>
            <a:ext cx="415080" cy="14612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79" name="AutoShape 38"/>
          <p:cNvCxnSpPr>
            <a:stCxn id="62" idx="2"/>
            <a:endCxn id="67" idx="1"/>
          </p:cNvCxnSpPr>
          <p:nvPr/>
        </p:nvCxnSpPr>
        <p:spPr>
          <a:xfrm>
            <a:off x="1544400" y="2197080"/>
            <a:ext cx="3477240" cy="1527840"/>
          </a:xfrm>
          <a:prstGeom prst="straightConnector1">
            <a:avLst/>
          </a:prstGeom>
          <a:ln w="114480">
            <a:solidFill>
              <a:srgbClr val="000000"/>
            </a:solidFill>
            <a:miter/>
          </a:ln>
        </p:spPr>
      </p:cxnSp>
      <p:cxnSp>
        <p:nvCxnSpPr>
          <p:cNvPr id="80" name="AutoShape 39"/>
          <p:cNvCxnSpPr>
            <a:stCxn id="64" idx="0"/>
            <a:endCxn id="61" idx="2"/>
          </p:cNvCxnSpPr>
          <p:nvPr/>
        </p:nvCxnSpPr>
        <p:spPr>
          <a:xfrm flipV="1">
            <a:off x="1130400" y="2196360"/>
            <a:ext cx="3294720" cy="146124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81" name="AutoShape 40"/>
          <p:cNvCxnSpPr>
            <a:stCxn id="63" idx="2"/>
            <a:endCxn id="65" idx="7"/>
          </p:cNvCxnSpPr>
          <p:nvPr/>
        </p:nvCxnSpPr>
        <p:spPr>
          <a:xfrm flipH="1">
            <a:off x="3822120" y="2217240"/>
            <a:ext cx="3267720" cy="15058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2" name="AutoShape 41"/>
          <p:cNvCxnSpPr>
            <a:stCxn id="64" idx="7"/>
            <a:endCxn id="63" idx="2"/>
          </p:cNvCxnSpPr>
          <p:nvPr/>
        </p:nvCxnSpPr>
        <p:spPr>
          <a:xfrm flipV="1">
            <a:off x="1652400" y="2216880"/>
            <a:ext cx="5437800" cy="156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AutoShape 42"/>
          <p:cNvCxnSpPr>
            <a:stCxn id="67" idx="0"/>
            <a:endCxn id="63" idx="2"/>
          </p:cNvCxnSpPr>
          <p:nvPr/>
        </p:nvCxnSpPr>
        <p:spPr>
          <a:xfrm flipV="1">
            <a:off x="5505120" y="2217240"/>
            <a:ext cx="1585080" cy="137088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4" name="AutoShape 43"/>
          <p:cNvCxnSpPr>
            <a:stCxn id="66" idx="0"/>
            <a:endCxn id="63" idx="2"/>
          </p:cNvCxnSpPr>
          <p:nvPr/>
        </p:nvCxnSpPr>
        <p:spPr>
          <a:xfrm flipH="1" flipV="1">
            <a:off x="7089120" y="2217240"/>
            <a:ext cx="432360" cy="1369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5" name="AutoShape 44"/>
          <p:cNvCxnSpPr>
            <a:stCxn id="68" idx="0"/>
            <a:endCxn id="65" idx="3"/>
          </p:cNvCxnSpPr>
          <p:nvPr/>
        </p:nvCxnSpPr>
        <p:spPr>
          <a:xfrm flipV="1">
            <a:off x="880920" y="4385880"/>
            <a:ext cx="1950480" cy="1688400"/>
          </a:xfrm>
          <a:prstGeom prst="straightConnector1">
            <a:avLst/>
          </a:prstGeom>
          <a:ln w="165240">
            <a:solidFill>
              <a:srgbClr val="000000"/>
            </a:solidFill>
            <a:miter/>
          </a:ln>
        </p:spPr>
      </p:cxnSp>
      <p:cxnSp>
        <p:nvCxnSpPr>
          <p:cNvPr id="86" name="AutoShape 45"/>
          <p:cNvCxnSpPr>
            <a:stCxn id="70" idx="0"/>
            <a:endCxn id="67" idx="4"/>
          </p:cNvCxnSpPr>
          <p:nvPr/>
        </p:nvCxnSpPr>
        <p:spPr>
          <a:xfrm flipV="1">
            <a:off x="3616200" y="4522320"/>
            <a:ext cx="1890000" cy="151200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87" name="AutoShape 46"/>
          <p:cNvCxnSpPr>
            <a:stCxn id="65" idx="4"/>
            <a:endCxn id="70" idx="0"/>
          </p:cNvCxnSpPr>
          <p:nvPr/>
        </p:nvCxnSpPr>
        <p:spPr>
          <a:xfrm>
            <a:off x="3327480" y="4522680"/>
            <a:ext cx="289440" cy="151200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88" name="AutoShape 47"/>
          <p:cNvCxnSpPr>
            <a:stCxn id="69" idx="0"/>
            <a:endCxn id="67" idx="4"/>
          </p:cNvCxnSpPr>
          <p:nvPr/>
        </p:nvCxnSpPr>
        <p:spPr>
          <a:xfrm flipV="1">
            <a:off x="2141640" y="4521960"/>
            <a:ext cx="3364560" cy="155196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89" name="AutoShape 48"/>
          <p:cNvCxnSpPr>
            <a:stCxn id="69" idx="0"/>
            <a:endCxn id="65" idx="4"/>
          </p:cNvCxnSpPr>
          <p:nvPr/>
        </p:nvCxnSpPr>
        <p:spPr>
          <a:xfrm flipV="1">
            <a:off x="2141640" y="4521960"/>
            <a:ext cx="1186560" cy="155196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90" name="AutoShape 49"/>
          <p:cNvCxnSpPr>
            <a:stCxn id="69" idx="0"/>
            <a:endCxn id="64" idx="4"/>
          </p:cNvCxnSpPr>
          <p:nvPr/>
        </p:nvCxnSpPr>
        <p:spPr>
          <a:xfrm flipH="1" flipV="1">
            <a:off x="1129680" y="4521960"/>
            <a:ext cx="1011960" cy="1551960"/>
          </a:xfrm>
          <a:prstGeom prst="straightConnector1">
            <a:avLst/>
          </a:prstGeom>
          <a:ln w="88920">
            <a:solidFill>
              <a:srgbClr val="000000"/>
            </a:solidFill>
            <a:miter/>
          </a:ln>
        </p:spPr>
      </p:cxnSp>
      <p:cxnSp>
        <p:nvCxnSpPr>
          <p:cNvPr id="91" name="AutoShape 50"/>
          <p:cNvCxnSpPr>
            <a:stCxn id="73" idx="0"/>
            <a:endCxn id="67" idx="4"/>
          </p:cNvCxnSpPr>
          <p:nvPr/>
        </p:nvCxnSpPr>
        <p:spPr>
          <a:xfrm flipH="1" flipV="1">
            <a:off x="5505120" y="4521960"/>
            <a:ext cx="637200" cy="15519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92" name="AutoShape 51"/>
          <p:cNvCxnSpPr>
            <a:stCxn id="72" idx="0"/>
            <a:endCxn id="67" idx="4"/>
          </p:cNvCxnSpPr>
          <p:nvPr/>
        </p:nvCxnSpPr>
        <p:spPr>
          <a:xfrm flipV="1">
            <a:off x="5020920" y="4521960"/>
            <a:ext cx="484920" cy="15519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cxnSp>
        <p:nvCxnSpPr>
          <p:cNvPr id="93" name="AutoShape 52"/>
          <p:cNvCxnSpPr>
            <a:stCxn id="73" idx="0"/>
            <a:endCxn id="66" idx="4"/>
          </p:cNvCxnSpPr>
          <p:nvPr/>
        </p:nvCxnSpPr>
        <p:spPr>
          <a:xfrm flipV="1">
            <a:off x="6141960" y="4521960"/>
            <a:ext cx="1380240" cy="155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AutoShape 53"/>
          <p:cNvCxnSpPr>
            <a:stCxn id="74" idx="0"/>
            <a:endCxn id="66" idx="4"/>
          </p:cNvCxnSpPr>
          <p:nvPr/>
        </p:nvCxnSpPr>
        <p:spPr>
          <a:xfrm flipV="1">
            <a:off x="7222680" y="4521960"/>
            <a:ext cx="299160" cy="155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AutoShape 54"/>
          <p:cNvCxnSpPr>
            <a:stCxn id="71" idx="0"/>
            <a:endCxn id="66" idx="4"/>
          </p:cNvCxnSpPr>
          <p:nvPr/>
        </p:nvCxnSpPr>
        <p:spPr>
          <a:xfrm flipH="1" flipV="1">
            <a:off x="7521120" y="4521960"/>
            <a:ext cx="853200" cy="1551960"/>
          </a:xfrm>
          <a:prstGeom prst="straightConnector1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96" name="36 CuadroTexto"/>
          <p:cNvSpPr/>
          <p:nvPr/>
        </p:nvSpPr>
        <p:spPr>
          <a:xfrm>
            <a:off x="714240" y="285840"/>
            <a:ext cx="742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Calibri"/>
              </a:rPr>
              <a:t>Mapa Jerárquico de Val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7:13:12Z</dcterms:created>
  <dc:creator>Williams Arevalo</dc:creator>
  <dc:description/>
  <dc:language>en-US</dc:language>
  <cp:lastModifiedBy>Paola</cp:lastModifiedBy>
  <dcterms:modified xsi:type="dcterms:W3CDTF">2008-10-13T19:20:59Z</dcterms:modified>
  <cp:revision>15</cp:revision>
  <dc:subject/>
  <dc:title>Laddering</dc:title>
</cp:coreProperties>
</file>