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E56-5D4B-4415-8A10-24B90E2D2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703-E6E2-4831-AE43-350A5B7D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5ED9C7-D23C-4D42-AB46-E1C8F33A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2DEC80-3C7D-4A51-89CB-22816488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E89E27-1CC8-48E2-AE80-D03588F1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548F34-C558-457F-BA04-7C20C0E2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79985B-3CD5-4893-BCC0-D6511228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548ED6-C8A3-42DD-AEB2-B3B8D613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7E9579-6DB8-4B58-A67E-B76C571F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3000BF-EA99-4CE7-AC19-19BCDC04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A61804-B0BE-48A6-816B-09763504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D1EE1C-47BF-4C0A-BF31-0E4C08192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3D7-F37F-4C5D-B974-2A0984E9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226EB8-A214-4557-A2DD-5D53837A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5CA256-FC1A-402F-9FA0-56962DEF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D1450D-29A1-43AB-AEB7-D545A9A0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F3BF4F-E558-4327-8874-D26C4328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9F5E8F-F714-4BD7-942E-555824B5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7B5AC1-80D5-4C88-A78B-FD8A3F5A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9A2F02-A527-43C3-AE09-FF9F05FB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E15EBB-BE53-4426-A838-960C8F8B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18B681-6124-4307-AA18-D1B03D8B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5ABE93-D4E5-44BA-9AF9-E129A6EB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4D45-DA9E-4F02-A84E-5A96FCC0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F6F44C-4657-4F47-9574-84E2B6B4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BAE1D5-E511-492C-89D6-D1F4885B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6C97EA-DBC7-4F2E-B955-2BA28F34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A0B63A-08FE-4048-A573-0A2AC8DD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0C348C-26C4-4097-85F7-5FE7F29E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B7D1B1-C694-4CB6-9322-2A56FD01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5FA5AB-AF98-481A-918B-2DE9FCE3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A38EC1-6E03-4A27-AC0D-3D7F2306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22073F-FB98-46EB-82D5-593C1045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43F773-EE02-4E1F-B8AB-51E84DAD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FC8A5-0DC4-4525-8E50-4ED094C990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05BFB7-1F5D-4BBB-8E85-B79C583B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0C598A-96D2-4702-B712-5F608972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F8E535-6495-4C52-A947-600D3519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27468A-E97B-4450-9FF1-DB0AEB7E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3816A7-1065-43B4-88CE-B9BAB840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EE0D7C-BCF1-4DE2-BE4C-8B5E359D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969173-4225-48B9-A4B5-2C95E1D9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EF0227-74F7-4A42-9A23-A169181B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5DC85AD-8370-4B87-A4F9-5430E7D9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4CA0B3-CD14-484B-B2EF-714F8AE1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9C7FF-D835-4548-A105-8C972D54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B99F3D-5064-4611-A3C5-F725714A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B3ACCE-5D3C-4845-B7F5-A7A97984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83201E-F4E2-4FD6-B312-4806D4F0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35BC3A-F954-4E2D-B202-8F9FC289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3A22C2-FC49-4B91-96C9-89524EA9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33CBD-5CCB-4000-9DC3-D39C6896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9CB18-804B-41D6-BB96-487F5EBE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51A72-AFF6-401D-96DD-37868188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7D527-ED24-48E4-8C0A-C68E8BE3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B7DCC-AD32-4A47-A18C-F0C3A024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72A7-1DDB-418C-A9D1-683E9545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4812C-F3BF-4261-B817-8BEA8CD1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35214-1B71-4932-A090-8D28CF45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0861A-ABB9-41CD-B024-E11CCC4F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504F2-5F6D-484F-BFE5-F5F64CFC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146BF-972A-460E-9482-DC7A779B71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AA9F2B-0A74-4EBB-A8DB-F318C793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2C87D-5EB3-4A00-B576-8F7C5F08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258F5-70DD-471D-B902-729574F6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E970F-E3BC-44DA-AC1F-4BB54959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B5C60-C62E-4804-80B7-BEA75F80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C8E-F85F-4952-B7FB-D7A04C77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52292-0DC1-417A-B28A-C2E3FB1D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C079C-39B7-468B-B6A7-C50BF777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E3E9F-6FBA-4E31-9ECE-3AE622D2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A74620-5B49-4A26-8533-913A7424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087B2-3E5C-41BF-B866-FB124467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46E47-A6AA-4456-BD7A-3AB2C841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0EB68-7FB3-45E9-AED6-399B752B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7FFC3B-6FFF-4571-8E0A-8D8D53B2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CCD5CD-2D66-4EBE-B09A-14CD5DCA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2C96DE-93FE-451E-9720-2BEB6190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FA7-B20B-41B5-B997-15336C86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E5ED05-0285-431B-804D-2A76F597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AFDFA3-EF40-44A8-8D44-F8550AF6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349FA-4E12-470F-A114-BD922131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9D3B78-E0E3-4A72-A004-B7F93912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1D1652-9B34-4238-9EA3-A78929F5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5B742D-821A-439F-A0A5-EF988F15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9E372-FAFE-4542-B1B2-CFE47E3E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B2C14C-281A-4C00-8181-8567B57FC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6F2EAD-CA05-4166-9614-3731AF8B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55558D-C80D-4422-A11A-52C0181D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B584-BF2D-4303-AAAA-7A0CD9D7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20FCF1-72C3-4F85-BB0E-418B2862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88251-13AC-4B04-98C2-1537BE05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473B7C-FE94-42CA-9388-F2FDEE15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3C5F06-DFFF-4429-B459-361D11DD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54EFA9-A78C-4A79-A12E-6D9A314A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453123-66D4-4F00-BBD6-E5A40C82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976617-8956-4E35-82E1-C248C162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75D01E-C5F2-4E53-BFFA-2D98A56A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F229D-E262-4F26-9066-A757320A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B8631-8D97-4A77-B95A-B6C00330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139A-F14E-4D5C-8B25-B1545D2A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C6F1D1-F997-4148-852C-6BD5102F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54952D-EE55-4298-A5A2-A03CB838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8D134D-903A-4BDE-942B-347FE9E0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5D6F97-8996-45DA-BFC6-32172B8D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5ABEC1-66F3-4670-ABC7-4F02F6BA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BF7955-8BB7-43F6-B84D-BEDD49B2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F5E039-49D7-4BC1-90A8-5637671D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B87FBE-CF50-4A76-A5B0-F41E7AD8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0F0AC7-DE7A-4CF1-B7C7-635DF2D2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63C50A-5F94-4D3E-A62C-362A5341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40D5-9AE4-4642-B36C-3A36D93C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A9E1E7-EAB6-4AB8-AAB3-46E9B028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45F69-373F-4CB6-B81B-855C791E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FAA7A-AA19-40B4-AA79-2492E7D9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DC3FFE-D1A8-40E7-9811-07A2ABC6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D5A99-E0F8-410E-A6AE-445F5FED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068FF-0FA7-40C3-A8AF-49463C72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C6FE64-9EEC-43FF-BF56-4DCECF61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96631-5BB6-4584-B8DF-8D33C2E8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C35534-4F69-4CD5-A871-B2C93FF9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27E58-588D-4832-9A86-BDAF0E28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A3F2-F6F2-451C-A2B6-2EF6C0BE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27D8A8-D73B-4330-B359-F386C2DE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A36831-CBB7-4192-8237-C53188D6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BEE45F-187A-4095-8ACD-0495B701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EE083F-1694-465C-A233-400C10CA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293081-84AE-4FDD-AC31-FF41EB090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A34FBB-AA2F-49B0-89D2-36A14BB62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4BBD20-E62A-40D1-B461-10429EB7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E443BA-C467-4AFE-869F-4C877D27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544724-3F3A-4134-838B-52C0DB13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13A189-54A6-4FFC-83CD-19F7F320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67BB-4870-4F3E-9CBB-6A34C6C8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7315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0781B5-56AB-4796-8800-2CD4A9DF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DC6904-B4ED-43AC-9C54-6FA75437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CAC50E-D2C8-46E9-8DE4-3DC4BC9A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908C76-198D-4D71-9AC8-28706B47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3352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BB632A-93AD-44DF-BB9C-92B410A2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3352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71168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5465A0-5CE3-49A1-9E73-315D38A2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904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4692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335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904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4692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584CAA-B9CA-43D2-8D14-205DD238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A7532D-48EC-4931-BEBB-D27A59CF5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947179-359B-48FF-AFDE-FCFF0C75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828800" y="28836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B0D4BB-126E-4D33-8629-3F4D7601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8FF6-6D5E-4FA1-B409-59A4DABA39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" name="Text Box 30"/>
          <p:cNvSpPr/>
          <p:nvPr/>
        </p:nvSpPr>
        <p:spPr>
          <a:xfrm>
            <a:off x="7381800" y="6354720"/>
            <a:ext cx="1384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38" descr="@"/>
          <p:cNvPicPr/>
          <p:nvPr/>
        </p:nvPicPr>
        <p:blipFill>
          <a:blip r:embed="rId3"/>
          <a:stretch/>
        </p:blipFill>
        <p:spPr>
          <a:xfrm>
            <a:off x="1066680" y="304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7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8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9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5171-D4A6-44C6-BC6B-639A48EBB1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0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1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2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8149-5DED-4CB5-A389-B6667A86AC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3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4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5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0386-B08C-4E87-8321-8BB5345D2A1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0"/>
          <p:cNvSpPr/>
          <p:nvPr/>
        </p:nvSpPr>
        <p:spPr>
          <a:xfrm>
            <a:off x="7696080" y="22860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5562720" y="33480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553080"/>
            <a:ext cx="13716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7848720" y="6553080"/>
            <a:ext cx="838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4DCF-C2CD-4CA4-82B3-1FF02498CE2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8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37EB-F9B6-4D96-A512-693853F21F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9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0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1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B072-9229-4965-AD7B-5A54B62E070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2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3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4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7161-20C8-4768-8A76-AA7A0BA25B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5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6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7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DCA4-3C7A-4DAB-8B35-30045B06D9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8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9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0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BA45-1D3D-41A9-A5B6-00A6BC8E8D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1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2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3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EE70-1FC7-44C4-B690-4AA421C01A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cc9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4"/>
          </p:nvPr>
        </p:nvSpPr>
        <p:spPr>
          <a:xfrm>
            <a:off x="380520" y="646092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5"/>
          </p:nvPr>
        </p:nvSpPr>
        <p:spPr>
          <a:xfrm>
            <a:off x="6083280" y="6427440"/>
            <a:ext cx="179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6"/>
          </p:nvPr>
        </p:nvSpPr>
        <p:spPr>
          <a:xfrm>
            <a:off x="4114800" y="646092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8F90-C638-496A-B6F8-EFC6C4C288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28440" y="157176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studio de Percepciones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571760" y="2428920"/>
            <a:ext cx="73245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cc9d"/>
                </a:solidFill>
                <a:latin typeface="Arial"/>
              </a:rPr>
              <a:t>Mediante el uso de Multi-Dimensional Scaling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497" name="TextBox 5"/>
          <p:cNvSpPr/>
          <p:nvPr/>
        </p:nvSpPr>
        <p:spPr>
          <a:xfrm>
            <a:off x="6429240" y="585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Grupo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15" descr=""/>
          <p:cNvPicPr/>
          <p:nvPr/>
        </p:nvPicPr>
        <p:blipFill>
          <a:blip r:embed="rId1"/>
          <a:stretch/>
        </p:blipFill>
        <p:spPr>
          <a:xfrm>
            <a:off x="3286080" y="485784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6" descr=""/>
          <p:cNvPicPr/>
          <p:nvPr/>
        </p:nvPicPr>
        <p:blipFill>
          <a:blip r:embed="rId2"/>
          <a:stretch/>
        </p:blipFill>
        <p:spPr>
          <a:xfrm>
            <a:off x="2000160" y="350028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7" descr=""/>
          <p:cNvPicPr/>
          <p:nvPr/>
        </p:nvPicPr>
        <p:blipFill>
          <a:blip r:embed="rId3"/>
          <a:stretch/>
        </p:blipFill>
        <p:spPr>
          <a:xfrm>
            <a:off x="3286080" y="350028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8" descr=""/>
          <p:cNvPicPr/>
          <p:nvPr/>
        </p:nvPicPr>
        <p:blipFill>
          <a:blip r:embed="rId4"/>
          <a:stretch/>
        </p:blipFill>
        <p:spPr>
          <a:xfrm>
            <a:off x="4572000" y="350028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9" descr=""/>
          <p:cNvPicPr/>
          <p:nvPr/>
        </p:nvPicPr>
        <p:blipFill>
          <a:blip r:embed="rId5"/>
          <a:stretch/>
        </p:blipFill>
        <p:spPr>
          <a:xfrm>
            <a:off x="714240" y="485784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0" descr=""/>
          <p:cNvPicPr/>
          <p:nvPr/>
        </p:nvPicPr>
        <p:blipFill>
          <a:blip r:embed="rId6"/>
          <a:stretch/>
        </p:blipFill>
        <p:spPr>
          <a:xfrm>
            <a:off x="2009880" y="4857840"/>
            <a:ext cx="1238040" cy="1238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2" descr=""/>
          <p:cNvPicPr/>
          <p:nvPr/>
        </p:nvPicPr>
        <p:blipFill>
          <a:blip r:embed="rId7"/>
          <a:stretch/>
        </p:blipFill>
        <p:spPr>
          <a:xfrm>
            <a:off x="4581360" y="486720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24" descr=""/>
          <p:cNvPicPr/>
          <p:nvPr/>
        </p:nvPicPr>
        <p:blipFill>
          <a:blip r:embed="rId8"/>
          <a:stretch/>
        </p:blipFill>
        <p:spPr>
          <a:xfrm>
            <a:off x="714240" y="3500280"/>
            <a:ext cx="1224000" cy="12146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5" descr=""/>
          <p:cNvPicPr/>
          <p:nvPr/>
        </p:nvPicPr>
        <p:blipFill>
          <a:blip r:embed="rId9"/>
          <a:stretch/>
        </p:blipFill>
        <p:spPr>
          <a:xfrm>
            <a:off x="6858000" y="3214800"/>
            <a:ext cx="1138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Footer Placeholder 4"/>
          <p:cNvSpPr/>
          <p:nvPr/>
        </p:nvSpPr>
        <p:spPr>
          <a:xfrm>
            <a:off x="6083280" y="6427800"/>
            <a:ext cx="17906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Group 9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534" name="AutoShape 10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AutoShape 11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12"/>
            <p:cNvSpPr/>
            <p:nvPr/>
          </p:nvSpPr>
          <p:spPr>
            <a:xfrm>
              <a:off x="1941480" y="3156120"/>
              <a:ext cx="534960" cy="534960"/>
            </a:xfrm>
            <a:prstGeom prst="pie">
              <a:avLst/>
            </a:pr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Text Box 13"/>
            <p:cNvSpPr/>
            <p:nvPr/>
          </p:nvSpPr>
          <p:spPr>
            <a:xfrm>
              <a:off x="1969920" y="3381480"/>
              <a:ext cx="97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r/P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Text Box 14"/>
            <p:cNvSpPr/>
            <p:nvPr/>
          </p:nvSpPr>
          <p:spPr>
            <a:xfrm>
              <a:off x="3092400" y="3144960"/>
              <a:ext cx="408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Resultados de estudiantes de Tradicionales vs Privad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Group 15"/>
          <p:cNvGrpSpPr/>
          <p:nvPr/>
        </p:nvGrpSpPr>
        <p:grpSpPr>
          <a:xfrm>
            <a:off x="1752480" y="4427640"/>
            <a:ext cx="5605560" cy="1306440"/>
            <a:chOff x="1752480" y="4427640"/>
            <a:chExt cx="5605560" cy="1306440"/>
          </a:xfrm>
        </p:grpSpPr>
        <p:sp>
          <p:nvSpPr>
            <p:cNvPr id="540" name="AutoShape 16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AutoShape 17"/>
            <p:cNvSpPr/>
            <p:nvPr/>
          </p:nvSpPr>
          <p:spPr>
            <a:xfrm>
              <a:off x="1928880" y="45720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18"/>
            <p:cNvSpPr/>
            <p:nvPr/>
          </p:nvSpPr>
          <p:spPr>
            <a:xfrm>
              <a:off x="1941480" y="4616640"/>
              <a:ext cx="534960" cy="534960"/>
            </a:xfrm>
            <a:prstGeom prst="pie">
              <a:avLst/>
            </a:pr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1793520" y="4857840"/>
              <a:ext cx="1306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ng/O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20"/>
            <p:cNvSpPr/>
            <p:nvPr/>
          </p:nvSpPr>
          <p:spPr>
            <a:xfrm>
              <a:off x="3092400" y="4605480"/>
              <a:ext cx="4265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Arial"/>
                </a:rPr>
                <a:t>Resultados de estudiantes de Ingeniería vs Otras Carrer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5" name="TextBox 22"/>
          <p:cNvSpPr/>
          <p:nvPr/>
        </p:nvSpPr>
        <p:spPr>
          <a:xfrm>
            <a:off x="785880" y="135720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encontraron además diferencias notables en las siguientes categorías, las cuales son dignas de menciona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1285920"/>
            <a:ext cx="92869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Tradicionales vs Privada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1" name="Object 5"/>
          <p:cNvGraphicFramePr/>
          <p:nvPr/>
        </p:nvGraphicFramePr>
        <p:xfrm>
          <a:off x="71280" y="2260440"/>
          <a:ext cx="6786720" cy="44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260440"/>
                    <a:ext cx="678672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"/>
          <p:cNvGraphicFramePr/>
          <p:nvPr/>
        </p:nvGraphicFramePr>
        <p:xfrm>
          <a:off x="6959520" y="2786040"/>
          <a:ext cx="2041560" cy="3000240"/>
        </p:xfrm>
        <a:graphic>
          <a:graphicData uri="http://schemas.openxmlformats.org/drawingml/2006/table">
            <a:tbl>
              <a:tblPr/>
              <a:tblGrid>
                <a:gridCol w="1112760"/>
                <a:gridCol w="928800"/>
              </a:tblGrid>
              <a:tr h="361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6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573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731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3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8864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68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3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69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454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1285920"/>
            <a:ext cx="928692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Tradicionales vs Privada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71280" y="2214720"/>
          <a:ext cx="6856560" cy="45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214720"/>
                    <a:ext cx="685656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6959520" y="2857680"/>
          <a:ext cx="2041560" cy="2928600"/>
        </p:xfrm>
        <a:graphic>
          <a:graphicData uri="http://schemas.openxmlformats.org/drawingml/2006/table">
            <a:tbl>
              <a:tblPr/>
              <a:tblGrid>
                <a:gridCol w="1106640"/>
                <a:gridCol w="934920"/>
              </a:tblGrid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59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545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9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8536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40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455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500040" y="10713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s mayores diferencias se observan en el Nivel Socioeconómico de la Chile y la Católica: los encuestados de Universidades Privadas los perciben mayores. 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otable es también la percepción de los anteriores sobre la Universidad de los Andes, la cual se acerca bastante a la de la Chile y Católica, salvo en su dimesión Socioeconómica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66" name="Content Placeholder 2"/>
          <p:cNvSpPr/>
          <p:nvPr/>
        </p:nvSpPr>
        <p:spPr>
          <a:xfrm>
            <a:off x="0" y="1285920"/>
            <a:ext cx="92869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Tradicionales vs Priv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857160" y="1071720"/>
            <a:ext cx="71438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Ingeniería vs Otras Carreras 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4" name="Object 3"/>
          <p:cNvGraphicFramePr/>
          <p:nvPr/>
        </p:nvGraphicFramePr>
        <p:xfrm>
          <a:off x="108000" y="2143080"/>
          <a:ext cx="69642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2143080"/>
                    <a:ext cx="6964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7215120" y="2786040"/>
          <a:ext cx="1785960" cy="2928960"/>
        </p:xfrm>
        <a:graphic>
          <a:graphicData uri="http://schemas.openxmlformats.org/drawingml/2006/table">
            <a:tbl>
              <a:tblPr/>
              <a:tblGrid>
                <a:gridCol w="992160"/>
                <a:gridCol w="793800"/>
              </a:tblGrid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59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549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9014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40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455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4" name="Object 3"/>
          <p:cNvGraphicFramePr/>
          <p:nvPr/>
        </p:nvGraphicFramePr>
        <p:xfrm>
          <a:off x="146160" y="2098800"/>
          <a:ext cx="696420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60" y="2098800"/>
                    <a:ext cx="69642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Content Placeholder 2"/>
          <p:cNvSpPr/>
          <p:nvPr/>
        </p:nvSpPr>
        <p:spPr>
          <a:xfrm>
            <a:off x="857160" y="1071720"/>
            <a:ext cx="7143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Ingeniería vs Otras Carre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174080" y="2928960"/>
          <a:ext cx="1827000" cy="2857320"/>
        </p:xfrm>
        <a:graphic>
          <a:graphicData uri="http://schemas.openxmlformats.org/drawingml/2006/table">
            <a:tbl>
              <a:tblPr/>
              <a:tblGrid>
                <a:gridCol w="1000080"/>
                <a:gridCol w="826920"/>
              </a:tblGrid>
              <a:tr h="407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70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8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2719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096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8838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109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29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127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449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cá se observa una clara tendencia de los Ingenieros de agrupar, en la dimensión prestigio, a las clásicamente mejores Universidades para Ingeniería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a los encuestados de Otras Carreras se perciben la Universidad Diego Portales y Universidad de las Américas con un prestigio comparable a las Tradicionale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91" name="Content Placeholder 2"/>
          <p:cNvSpPr/>
          <p:nvPr/>
        </p:nvSpPr>
        <p:spPr>
          <a:xfrm>
            <a:off x="857160" y="1071720"/>
            <a:ext cx="71438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estudiantes de Ingeniería vs Otras Carrer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jetivos del Estud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64"/>
          <p:cNvSpPr/>
          <p:nvPr/>
        </p:nvSpPr>
        <p:spPr>
          <a:xfrm>
            <a:off x="428760" y="1928880"/>
            <a:ext cx="82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udiar las Percepciones sobre distintas  Univers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r qué grupos de personas tienden a tener un determinado tipo de Percepción sobre las Univers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rupo de Estud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64"/>
          <p:cNvSpPr/>
          <p:nvPr/>
        </p:nvSpPr>
        <p:spPr>
          <a:xfrm>
            <a:off x="428760" y="1595520"/>
            <a:ext cx="871524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Marco Muestral se centró en jóvenes universitarios o profesionales, de entre 18 y 25 añ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le pidieron los siguientes datos al encuesta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x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re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niversidad Tradicional/Priv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75722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cc9d"/>
                </a:solidFill>
                <a:latin typeface="Arial"/>
              </a:rPr>
              <a:t>Encuesta a 60 personas, utilizando planilla Excel diseñada especialmente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57fe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 le solicitó al encuestado comparar las 9 Universidades elegidas utilizando la siguiente escal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cc9d"/>
                </a:solidFill>
                <a:latin typeface="Arial"/>
              </a:rPr>
              <a:t>La encuesta fue efectuada mediante e-mail y mensajería instantánea, pidiendo al sujeto rellenar la planilla Excel para luego entregarla completada al encuestador.</a:t>
            </a:r>
            <a:endParaRPr b="0" lang="en-US" sz="2400" spc="-1" strike="noStrike">
              <a:solidFill>
                <a:srgbClr val="f3cc9d"/>
              </a:solidFill>
              <a:latin typeface="Arial"/>
            </a:endParaRPr>
          </a:p>
        </p:txBody>
      </p:sp>
      <p:pic>
        <p:nvPicPr>
          <p:cNvPr id="512" name="Picture 1" descr=""/>
          <p:cNvPicPr/>
          <p:nvPr/>
        </p:nvPicPr>
        <p:blipFill>
          <a:blip r:embed="rId1"/>
          <a:stretch/>
        </p:blipFill>
        <p:spPr>
          <a:xfrm>
            <a:off x="714240" y="3143160"/>
            <a:ext cx="7391520" cy="9716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eño de la Encues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Universidades elegidas para el estudio: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3cc9d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Pontificia Universidad Católica de Chi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Técnica Federico Santamarí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e Santiag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Adolfo Ibáñe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e los And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e las Améric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Diego Porta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</a:rPr>
              <a:t>Universidad Andrés Bello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seño de la Encues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jemplo Tabla Completa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848700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53352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Los siguientes son los datos del Marco Muestral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4643280" y="2000160"/>
          <a:ext cx="3000600" cy="4281480"/>
        </p:xfrm>
        <a:graphic>
          <a:graphicData uri="http://schemas.openxmlformats.org/drawingml/2006/table">
            <a:tbl>
              <a:tblPr/>
              <a:tblGrid>
                <a:gridCol w="1990800"/>
                <a:gridCol w="1009800"/>
              </a:tblGrid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Hombre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9,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Mujere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0,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Tradicionale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4,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Privada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5,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Edad&lt;23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6,8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Edad&gt;=23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3,2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Ingeniero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59,7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Otras Carrera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40,3%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Número de Encuestas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1" name="Picture 1" descr="C:\Users\The Architect\AppData\Local\Microsoft\Windows\Temporary Internet Files\Content.IE5\HMUQWA6X\MCj04316260000[1].png"/>
          <p:cNvPicPr/>
          <p:nvPr/>
        </p:nvPicPr>
        <p:blipFill>
          <a:blip r:embed="rId1"/>
          <a:stretch/>
        </p:blipFill>
        <p:spPr>
          <a:xfrm>
            <a:off x="1428840" y="27147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33520" y="1219320"/>
            <a:ext cx="815328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Todas las Encuesta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5" name="Object 1"/>
          <p:cNvGraphicFramePr/>
          <p:nvPr/>
        </p:nvGraphicFramePr>
        <p:xfrm>
          <a:off x="71280" y="2357280"/>
          <a:ext cx="6572520" cy="43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2357280"/>
                    <a:ext cx="6572520" cy="43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6715080" y="2786040"/>
          <a:ext cx="2286000" cy="2928960"/>
        </p:xfrm>
        <a:graphic>
          <a:graphicData uri="http://schemas.openxmlformats.org/drawingml/2006/table">
            <a:tbl>
              <a:tblPr/>
              <a:tblGrid>
                <a:gridCol w="1278000"/>
                <a:gridCol w="1008000"/>
              </a:tblGrid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 bruto normalizado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06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2573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ess-II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000(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-Str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8944(b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ersión explicada (D.A.F.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939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703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eficiente de congruencia de Tuck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9454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Arial"/>
              </a:rPr>
              <a:t>Resultados Obt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533520" y="1219320"/>
            <a:ext cx="815328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9000"/>
          </a:bodyPr>
          <a:p>
            <a:pPr marL="65160" indent="-651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3cc9d"/>
                </a:solidFill>
                <a:latin typeface="Arial"/>
              </a:rPr>
              <a:t>Resultados de Todas las Encuesta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e observa que las 2 Universidades más importantes del país son percibidas con el más alto prestigio, pero con Nivel Socioeconómico distinto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  <a:p>
            <a:pPr marL="65160" indent="-65160">
              <a:spcBef>
                <a:spcPts val="700"/>
              </a:spcBef>
              <a:buClr>
                <a:srgbClr val="f3cc9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n general las Universidades Tradicionales se observan con mayor prestigio que las privadas, salvo una, la Universidad Adolfo Ibáñez, que está al nivel de las Tradicionales</a:t>
            </a:r>
            <a:endParaRPr b="0" lang="en-US" sz="2800" spc="-1" strike="noStrike">
              <a:solidFill>
                <a:srgbClr val="f3cc9d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4T22:42:23Z</dcterms:created>
  <dc:creator>Cristian Ludwig</dc:creator>
  <dc:description/>
  <dc:language>en-US</dc:language>
  <cp:lastModifiedBy>Paola Nahum</cp:lastModifiedBy>
  <dcterms:modified xsi:type="dcterms:W3CDTF">2008-04-30T21:09:32Z</dcterms:modified>
  <cp:revision>30</cp:revision>
  <dc:subject/>
  <dc:title>Estudio de Percepciones</dc:title>
</cp:coreProperties>
</file>