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0D2-1F95-4D93-A290-F69132AE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102-6AD3-4265-9616-1D2E1F0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7F245-5E07-4F9E-B916-0574B2B5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4372F7-5418-4B99-BCA4-688FB48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2420AB-1D76-4C7D-B799-17A6EB0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14F42-674B-4326-8CC6-E5A7A36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B81D3-A2B8-44E4-9544-6F99CB0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498B2-B495-4344-91EB-E475C07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40B09-7C95-4B46-8674-C0B066E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1CE4A7-1030-4BBD-BD50-83B7A6DE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6DD59-E7E8-40BC-9CE3-C34A0749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558D01-42ED-4A16-BEF9-848E0E3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560-FD1F-4F2A-95E7-18AD2307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0453C9-63C0-45D3-A7E2-07003D61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147F5D-C8C4-459E-88D2-443774D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18A7BE-56AE-4AFC-AF5F-C6A6B9E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74CC24-EAD4-44CD-9E7B-F74CCF05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E58BC-2A62-47C8-84E4-F02AA9BB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C84A97-B698-410A-B453-8474F66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E80E72-9CAC-4D53-B316-68EE05C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A9B637-7FA1-4DF1-9B30-F6339EA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875224-DCD5-4599-B744-68245B1E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36EAEB-D3E2-45D8-8DE2-D1136567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22F-2754-48C4-A8C6-F63CB644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BC9C22-A1FF-4535-BE8D-6006CD46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A6523E-23AF-491D-92C5-0774CAA2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5E65F3-511D-47A2-A23B-568F8AC4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C319C9-CB77-4112-8ECA-0A04ABCF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FD2F14-60B4-4201-8F73-9A30F92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56D1B-0F79-426D-A7EE-A7341DEF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C25099-4FF1-4AB5-B5A7-35AC8E4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0E6740-8DB0-49B4-9201-D4AD665F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EAB9EA-E161-484B-B76A-C66FA73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30DACD-AD48-4230-B50E-26BF36A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D004B-CF9D-495C-BCFF-B612281294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503083-6146-46A8-AA17-01E2FB52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103E5F-AC90-4FC4-9CA0-58E529F3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DC44E0-3FA7-4616-979E-D5E3F650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276F71-89DF-4CDA-A53F-2F943C6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F23892-BF88-4B83-B73B-B123E4BD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005CA9-403D-47AF-8A4F-22A293F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DBC55C-D6E6-4551-8AA5-2B936C5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D61B68-B80D-49B2-9093-8848740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EC8548-FC8E-4A7C-A1B4-2AA935C9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9268F9-4B21-4ECD-A78A-3EA0FDD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976D4-410B-4829-9209-485EF26D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676006-E2F1-459D-BB27-78CE270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AC8455-8DD3-46CC-AA0E-A39EE31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13DDF9-A802-4D23-943A-1A461F59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734F5-F48C-4C1C-A63A-DA810867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20D96-46C8-4D24-933F-5D562EF8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A7A6-8F2C-426E-BCB7-79BB3BBA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3EA87-AB37-4F0A-9B92-2F7F1DE8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3A226-CB60-4236-859D-A3B274B1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5802A-EFEF-456D-9DB7-FB8BFF9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2856-8691-426F-9521-08A885E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9C3-9A74-434E-918F-116579F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5D60C-CEA3-466B-9884-0A3E7E4F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7403B-CF9E-417A-9403-67DC0F3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D2C19-B29C-45A5-B43D-ECD6DF7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28A1B-0FE3-48FF-9FFB-2155719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917D-926D-44EE-A2F3-429FEF643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00456-310A-4D8F-B001-B1085D72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8D709-7F0C-4CF3-A889-D366378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0ADE3-B788-48BA-BD83-93A2D4F0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A0B47-6042-4D13-AFF5-57C271B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91B27-ABFB-4E4A-838F-A8304790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81E-CFDF-46E2-B881-2B6755D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B2C6A-9859-4512-8EE4-CC4B9DA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71991-A4B5-404A-8F5C-BB973AC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0D41C-A7AF-4788-A260-BBDB38E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BA356-BE28-44B9-B088-9ADA260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6D25E-B5C2-4D91-934D-2DCC048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6FB4B-86D5-4A35-9C1D-B1AD1448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D694B-6FCA-4E8F-9977-91F02936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4FDC6-2A95-4B9F-AFD5-AB131CFC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AB89E-FB78-42BE-BB4F-F8AF471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B2032-A155-4B7A-BB3D-28C4FCC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7A9-720C-42B6-897C-8F4815CE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F25C3-9830-4DE8-A93A-92875CC9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780C8-31EF-4956-91B9-64D612F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CBCA2-1BDD-419E-B1B3-DB54A7C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182E1-C0A9-471B-92DF-A808280C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0E4B9-6A60-450A-9E6C-DEA13CB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1DDF4-3950-452F-B677-24D557C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9261F-A1CB-4ABB-8E14-671B5B28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57800-4175-4A8A-9A42-C516DD39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81F84-B0AB-40F8-B247-BE46C08D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5B2EC-1B49-4604-8204-D50C7D71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32A-11CE-4E49-B944-0F5F57BF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9B36A-D60B-4129-B52E-8DEFA70A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E4B54-0D8B-4F50-AF60-F6E81EB3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1CF5B-E2A8-4CAA-9F6D-80DAD677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EB939-6574-4CD0-8A19-01524B4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FE0B4-C215-48C4-82DA-D437C56A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F2433-790B-4EA8-B00D-4D6275E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40857-A262-403B-A6DA-F982BDEB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D323E-8E6F-4198-9EA8-BF212AF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FBD33-F560-45F7-852F-E42DD8E7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EBE64-4BA6-4C50-9CCA-8CF783D6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87E-FD57-4EA9-A506-839C910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8EF08-8131-4E9B-A98F-F118D00A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EC616-90A7-4B45-B00E-A951B717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FCC1D-EEC8-4593-9FCD-3CDD1408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41EF9-47C1-4E8F-9BAD-A7A5BE3D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71DA3-0FDA-4A5A-9406-02B39DD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65F68-59BA-40D8-B032-ECDA9B62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AF870-A369-4B33-AEF2-A23B28C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8755D-D2CE-4D3F-A8FB-67E6D5A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D5B0F-90DA-4DC3-833F-A243C25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93E1E-4317-4FDC-8B13-AD0953C2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094-385A-43D6-A014-39F8B94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00808-1FDD-4CFA-B979-73F0311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80CD0-A607-4BC4-8FD0-682D7790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60049-8231-4E3E-9D2F-D727A0DF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AF78B-03C8-4E13-97F2-46739DE5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8A766-441D-4CBD-A8E2-0307503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6D5F2-154A-4EAA-AD92-CE92015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7CAE9-EB27-441B-990F-5E27E21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CE8F7-A425-4E4D-9A34-3BCD6C9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C85D5-FC1D-4256-BB9F-0F4024E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905D4-95BF-40E5-AF12-B39B440C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306-A034-4706-B0BC-CAA72E6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224D5-28C7-4E41-897D-8264238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EE77E-2D97-4722-BDA1-0A13E59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3FC5F-208A-41C6-BCBF-B7F1F52E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33CE3-2925-44B0-BCA2-A35E2F35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76FCC-1CB8-4C9E-A380-E58DC38E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E1F10-009C-47FA-8BC1-9C13EB3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83022-33D6-44A8-B1E1-7DE5C64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62CD1-A92B-44E3-803E-62AED45B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DDE517-7706-4487-AB53-174E7168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6CD8C-727F-4547-829C-706C648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5A0-0C36-42D6-B9F2-C81E5BA9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907AF3-A6A3-4D31-8084-2B10C086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BDA10-E10B-440B-8D21-DB45CC3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C6A04-6ECB-42F0-8A31-F0E63FB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A1E16-9A04-45FA-9CB4-69F3487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122F3F-D164-4ED2-A2CF-7B7482E3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4A837-697E-4A77-A507-BCF46D4A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F55BC-F481-475E-ACFC-8086E905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F6820-9570-41F5-89F7-D8DDB47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B7052-286E-494C-B3DB-16FA9438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D9541-8E05-4DF3-893D-3AC6CEED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3112-B4A4-4130-AC19-301A23465F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35472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7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8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9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9D10-9CF3-4126-BBD6-393B26B12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0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1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B36F-1C78-4E86-92F1-EC8AC6A9E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3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4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5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E1A-061D-4DE1-9C9B-45C4C8680B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0B7-7D5F-48D3-A0B1-D66763C40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26F-9EFD-4F6B-AB03-82AB24CC9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538B-C672-474E-B4C6-5A704073D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C064-16F6-4E68-8DFA-C41B24532E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B428-C22E-4473-855D-BE23C129D2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8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9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0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8CD-3866-429C-992E-E16AC12BC4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798A-0E5D-44AE-951E-9C5CC0908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4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5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6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AB6-861B-4D35-AE62-B9431AD30F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28440" y="157176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tudio de Percepcio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571760" y="2428920"/>
            <a:ext cx="7324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Mediante el uso de Multi-Dimensional Scaling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642924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Grup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5" descr=""/>
          <p:cNvPicPr/>
          <p:nvPr/>
        </p:nvPicPr>
        <p:blipFill>
          <a:blip r:embed="rId1"/>
          <a:stretch/>
        </p:blipFill>
        <p:spPr>
          <a:xfrm>
            <a:off x="328608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6" descr=""/>
          <p:cNvPicPr/>
          <p:nvPr/>
        </p:nvPicPr>
        <p:blipFill>
          <a:blip r:embed="rId2"/>
          <a:stretch/>
        </p:blipFill>
        <p:spPr>
          <a:xfrm>
            <a:off x="200016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7" descr=""/>
          <p:cNvPicPr/>
          <p:nvPr/>
        </p:nvPicPr>
        <p:blipFill>
          <a:blip r:embed="rId3"/>
          <a:stretch/>
        </p:blipFill>
        <p:spPr>
          <a:xfrm>
            <a:off x="328608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9" descr=""/>
          <p:cNvPicPr/>
          <p:nvPr/>
        </p:nvPicPr>
        <p:blipFill>
          <a:blip r:embed="rId5"/>
          <a:stretch/>
        </p:blipFill>
        <p:spPr>
          <a:xfrm>
            <a:off x="71424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0" descr=""/>
          <p:cNvPicPr/>
          <p:nvPr/>
        </p:nvPicPr>
        <p:blipFill>
          <a:blip r:embed="rId6"/>
          <a:stretch/>
        </p:blipFill>
        <p:spPr>
          <a:xfrm>
            <a:off x="2009880" y="485784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2" descr=""/>
          <p:cNvPicPr/>
          <p:nvPr/>
        </p:nvPicPr>
        <p:blipFill>
          <a:blip r:embed="rId7"/>
          <a:stretch/>
        </p:blipFill>
        <p:spPr>
          <a:xfrm>
            <a:off x="4581360" y="4867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4" descr=""/>
          <p:cNvPicPr/>
          <p:nvPr/>
        </p:nvPicPr>
        <p:blipFill>
          <a:blip r:embed="rId8"/>
          <a:stretch/>
        </p:blipFill>
        <p:spPr>
          <a:xfrm>
            <a:off x="714240" y="3500280"/>
            <a:ext cx="1224000" cy="1214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5" descr=""/>
          <p:cNvPicPr/>
          <p:nvPr/>
        </p:nvPicPr>
        <p:blipFill>
          <a:blip r:embed="rId9"/>
          <a:stretch/>
        </p:blipFill>
        <p:spPr>
          <a:xfrm>
            <a:off x="6858000" y="3214800"/>
            <a:ext cx="1138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6083280" y="6427800"/>
            <a:ext cx="1790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534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1941480" y="315612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1969920" y="338148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r/P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092400" y="3144960"/>
              <a:ext cx="408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Tradicionales vs Privad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5"/>
          <p:cNvGrpSpPr/>
          <p:nvPr/>
        </p:nvGrpSpPr>
        <p:grpSpPr>
          <a:xfrm>
            <a:off x="1752480" y="4427640"/>
            <a:ext cx="5605560" cy="1306440"/>
            <a:chOff x="1752480" y="4427640"/>
            <a:chExt cx="5605560" cy="1306440"/>
          </a:xfrm>
        </p:grpSpPr>
        <p:sp>
          <p:nvSpPr>
            <p:cNvPr id="540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17"/>
            <p:cNvSpPr/>
            <p:nvPr/>
          </p:nvSpPr>
          <p:spPr>
            <a:xfrm>
              <a:off x="1928880" y="45720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1941480" y="461664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1793520" y="48578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g/O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20"/>
            <p:cNvSpPr/>
            <p:nvPr/>
          </p:nvSpPr>
          <p:spPr>
            <a:xfrm>
              <a:off x="3092400" y="4605480"/>
              <a:ext cx="426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Ingeniería vs Otras Carre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TextBox 22"/>
          <p:cNvSpPr/>
          <p:nvPr/>
        </p:nvSpPr>
        <p:spPr>
          <a:xfrm>
            <a:off x="785880" y="1357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encontraron además diferencias notables en las siguientes categorías, las cuales son dignas de mencion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71280" y="2260440"/>
          <a:ext cx="678672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60440"/>
                    <a:ext cx="678672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959520" y="2786040"/>
          <a:ext cx="2041560" cy="3000240"/>
        </p:xfrm>
        <a:graphic>
          <a:graphicData uri="http://schemas.openxmlformats.org/drawingml/2006/table">
            <a:tbl>
              <a:tblPr/>
              <a:tblGrid>
                <a:gridCol w="1112760"/>
                <a:gridCol w="928800"/>
              </a:tblGrid>
              <a:tr h="361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6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71280" y="2214720"/>
          <a:ext cx="6856560" cy="45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14720"/>
                    <a:ext cx="68565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6959520" y="2857680"/>
          <a:ext cx="2041560" cy="2928600"/>
        </p:xfrm>
        <a:graphic>
          <a:graphicData uri="http://schemas.openxmlformats.org/drawingml/2006/table">
            <a:tbl>
              <a:tblPr/>
              <a:tblGrid>
                <a:gridCol w="1106640"/>
                <a:gridCol w="93492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5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536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00040" y="1071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mayores diferencias se observan en el Nivel Socioeconómico de la Chile y la Católica: los encuestados de Universidades Privadas los perciben mayores.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table es también la percepción de los anteriores sobre la Universidad de los Andes, la cual se acerca bastante a la de la Chile y Católica, salvo en su dimesión Socioeconómic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6" name="Content Placeholder 2"/>
          <p:cNvSpPr/>
          <p:nvPr/>
        </p:nvSpPr>
        <p:spPr>
          <a:xfrm>
            <a:off x="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Object 3"/>
          <p:cNvGraphicFramePr/>
          <p:nvPr/>
        </p:nvGraphicFramePr>
        <p:xfrm>
          <a:off x="108000" y="214308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14308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7215120" y="2786040"/>
          <a:ext cx="1785960" cy="2928960"/>
        </p:xfrm>
        <a:graphic>
          <a:graphicData uri="http://schemas.openxmlformats.org/drawingml/2006/table">
            <a:tbl>
              <a:tblPr/>
              <a:tblGrid>
                <a:gridCol w="992160"/>
                <a:gridCol w="7938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01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146160" y="209880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209880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74080" y="2928960"/>
          <a:ext cx="1827000" cy="2857320"/>
        </p:xfrm>
        <a:graphic>
          <a:graphicData uri="http://schemas.openxmlformats.org/drawingml/2006/table">
            <a:tbl>
              <a:tblPr/>
              <a:tblGrid>
                <a:gridCol w="1000080"/>
                <a:gridCol w="826920"/>
              </a:tblGrid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7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71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38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2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49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á se observa una clara tendencia de los Ingenieros de agrupar, en la dimensión prestigio, a las clásicamente mejores Universidades para Ingenierí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os encuestados de Otras Carreras se perciben la Universidad Diego Portales y Universidad de las Américas con un prestigio comparable a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1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tivos del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4"/>
          <p:cNvSpPr/>
          <p:nvPr/>
        </p:nvSpPr>
        <p:spPr>
          <a:xfrm>
            <a:off x="428760" y="192888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iar las Percepciones sobre distintas 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r qué grupos de personas tienden a tener un determinado tipo de Percepción sobre las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upo de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4"/>
          <p:cNvSpPr/>
          <p:nvPr/>
        </p:nvSpPr>
        <p:spPr>
          <a:xfrm>
            <a:off x="428760" y="1595520"/>
            <a:ext cx="87152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arco Muestral se centró en jóvenes universitarios o profesionales, de entre 18 y 25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e pidieron los siguientes datos al encu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dad Tradicional/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7572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Encuesta a 60 personas, utilizando planilla Excel diseñada especialment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le solicitó al encuestado comparar las 9 Universidades elegidas utilizando la siguiente esca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La encuesta fue efectuada mediante e-mail y mensajería instantánea, pidiendo al sujeto rellenar la planilla Excel para luego entregarla completada al encuestador.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7391520" cy="971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Universidades elegidas para el estudio: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ntificia Universidad Católica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Técnica Federico Santamar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Santia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dolfo Ibáñ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os An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as Amér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iego Port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ndrés Bell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jemplo Tabla Complet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487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Los siguientes son los datos del Marco Muestra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643280" y="2000160"/>
          <a:ext cx="3000600" cy="4281480"/>
        </p:xfrm>
        <a:graphic>
          <a:graphicData uri="http://schemas.openxmlformats.org/drawingml/2006/table">
            <a:tbl>
              <a:tblPr/>
              <a:tblGrid>
                <a:gridCol w="1990800"/>
                <a:gridCol w="100980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omb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uje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radicional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4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ivad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lt;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6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gt;=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3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ngeniero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tras Carrer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úmero de Encuest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Picture 1" descr="C:\Users\The Architect\AppData\Local\Microsoft\Windows\Temporary Internet Files\Content.IE5\HMUQWA6X\MCj04316260000[1].png"/>
          <p:cNvPicPr/>
          <p:nvPr/>
        </p:nvPicPr>
        <p:blipFill>
          <a:blip r:embed="rId1"/>
          <a:stretch/>
        </p:blipFill>
        <p:spPr>
          <a:xfrm>
            <a:off x="1428840" y="2714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Object 1"/>
          <p:cNvGraphicFramePr/>
          <p:nvPr/>
        </p:nvGraphicFramePr>
        <p:xfrm>
          <a:off x="71280" y="2357280"/>
          <a:ext cx="657252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357280"/>
                    <a:ext cx="65725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6715080" y="2786040"/>
          <a:ext cx="2286000" cy="2928960"/>
        </p:xfrm>
        <a:graphic>
          <a:graphicData uri="http://schemas.openxmlformats.org/drawingml/2006/table">
            <a:tbl>
              <a:tblPr/>
              <a:tblGrid>
                <a:gridCol w="1278000"/>
                <a:gridCol w="10080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94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observa que las 2 Universidades más importantes del país son percibidas con el más alto prestigio, pero con Nivel Socioeconómico distinto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neral las Universidades Tradicionales se observan con mayor prestigio que las privadas, salvo una, la Universidad Adolfo Ibáñez, que está al nivel de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2:42:23Z</dcterms:created>
  <dc:creator>Cristian Ludwig</dc:creator>
  <dc:description/>
  <dc:language>en-US</dc:language>
  <cp:lastModifiedBy>Paola Nahum</cp:lastModifiedBy>
  <dcterms:modified xsi:type="dcterms:W3CDTF">2008-04-30T21:09:32Z</dcterms:modified>
  <cp:revision>30</cp:revision>
  <dc:subject/>
  <dc:title>Estudio de Percepciones</dc:title>
</cp:coreProperties>
</file>