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BD0-87E9-4A7F-AC61-6E505650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8C2-4AC5-44F8-A3EA-706B1FCB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939-7BC0-4B8D-9835-037030DB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8A5-567E-4F3E-9683-9E277ADA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2D0-642A-4471-920C-F4718F7D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2EA-5358-4C71-B499-752688E1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8A9-E187-4583-9894-33B1F3A5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951-A615-4567-B6AA-BB0A8BAA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C0B-41A5-444C-B03B-269568C5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C04-130D-4EB7-B9B9-028CFF38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F11-5044-4E2F-AE79-DC21583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3FE-E6BB-49DA-8BC8-54C3C4F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6105-C7E2-4127-A5EB-4F1310230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7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1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5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9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3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7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8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2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academico</cp:lastModifiedBy>
  <cp:lastPrinted>2000-03-10T16:13:12Z</cp:lastPrinted>
  <dcterms:modified xsi:type="dcterms:W3CDTF">2008-05-05T23:21:05Z</dcterms:modified>
  <cp:revision>2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1885006579</vt:r8>
  </property>
</Properties>
</file>