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51D-D082-4B32-90B3-D48396A4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0CD-DBA0-4A6D-897F-240594E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96A-631E-4014-9327-FD5A720A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009-F836-47E1-8845-39BDC311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452-8321-42E6-AA36-A09C687E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311-5948-413F-9E26-18AD59C6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C2F-42D4-4FD3-BFB4-EABDCDEC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056-147B-414D-BEA4-8FA4A750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4AA-BE9B-471B-8767-8ABF5760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38F-E1E3-4F68-991D-34E53A22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BC7-C2A0-45B3-B3EA-7D228B0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585-7E93-46E1-B191-D062FE84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281D-CCD8-4FFC-8A26-45A396932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7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1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5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9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3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7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8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2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academico</cp:lastModifiedBy>
  <cp:lastPrinted>2000-03-10T16:13:12Z</cp:lastPrinted>
  <dcterms:modified xsi:type="dcterms:W3CDTF">2008-05-05T23:21:05Z</dcterms:modified>
  <cp:revision>2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1885006579</vt:r8>
  </property>
</Properties>
</file>