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8F4-627B-4F4F-BFA3-55705370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BD4-8AAA-40F8-B15D-6DDCF4A2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6BC4-3B9C-411D-AB0B-0BD494E7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2F4B-038A-4D9C-B868-44F3DA91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4D5B-8C4C-4FEC-B291-0F42F22A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5ABF-3DA1-4F3C-8E5D-05F9D070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7D9-1F3E-4C58-8561-16FC5D71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ABB7-DAD9-4DBB-982E-5F0CAE70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51CF-4F27-4F6C-9171-603C0894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C1F-4424-4203-9B9E-BAFA1FB0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A375-81E9-428F-9E90-D810B75E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352-FB9B-4D15-A618-05748948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EB82-87D6-4BFC-84C1-5AAA2F7C7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7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1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5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9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3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7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8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2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4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2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academico</cp:lastModifiedBy>
  <cp:lastPrinted>2000-03-10T16:13:12Z</cp:lastPrinted>
  <dcterms:modified xsi:type="dcterms:W3CDTF">2008-05-05T23:21:05Z</dcterms:modified>
  <cp:revision>23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ReviewCycleID">
    <vt:r8>-1885006579</vt:r8>
  </property>
</Properties>
</file>