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AD2-0B82-4742-B664-64D3DFCF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C94-FE73-4B61-9B1B-5313B775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878-82EA-4493-86A4-2FD43063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7F3-F949-4EB9-8C6E-457273C7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8FF-89F6-4B95-BECD-6B7832B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6C3-1AEC-48CB-B8E6-1F02029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AFE-0521-4690-B377-26FE8B4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2E9-91A0-4030-8116-9DCE2DA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283-49D1-4EFA-958F-CFC88D3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23D-C6E9-474E-8D4D-5EAFB633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3AC-CB88-480F-ABA6-DB3AC5C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0D4-89B3-475E-9142-80D449F3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59E1-B480-48A2-B82F-5F0F9042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7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1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5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9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3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7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8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2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academico</cp:lastModifiedBy>
  <cp:lastPrinted>2000-03-10T16:13:12Z</cp:lastPrinted>
  <dcterms:modified xsi:type="dcterms:W3CDTF">2008-05-05T23:21:05Z</dcterms:modified>
  <cp:revision>2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1885006579</vt:r8>
  </property>
</Properties>
</file>