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08A-3467-4745-8675-2174264B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D472-5150-4FD1-8F01-9A9E4FA6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BE8A-1E71-4796-99BA-B0977717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E53-53A1-4AF8-8226-04FD6189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1E8-D48C-4336-AE91-C28A2A32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866-6A36-4C4A-977D-9B389350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7FD-23DB-46FB-A9AD-32F641C8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757-DF22-42A3-8EE3-E06DA2C0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A72-DC87-4AAB-9285-38C58CA7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61D3-6116-49B5-B0F3-0EB4F8D1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ACDC-0967-4A60-A105-EA59532C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A50-993D-4C4B-9510-3FC80027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E9FF-FEC6-4632-ACA9-CEBB61B41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420640"/>
            <a:ext cx="6781680" cy="15526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 BALANCED SCORECARD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22200" y="692280"/>
          <a:ext cx="8496360" cy="5335560"/>
        </p:xfrm>
        <a:graphic>
          <a:graphicData uri="http://schemas.openxmlformats.org/drawingml/2006/table">
            <a:tbl>
              <a:tblPr/>
              <a:tblGrid>
                <a:gridCol w="1368360"/>
                <a:gridCol w="712800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 FINANCIER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 DEL CLIEN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 INTERN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PECTIVA DE APRENDIZAJE Y CRECIMIENT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763640" y="92088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OCE: Return on capital employ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1365120"/>
            <a:ext cx="129708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RECIMIENTO REN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O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99280" y="1352520"/>
            <a:ext cx="12970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CREMENT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6560" y="2306520"/>
            <a:ext cx="10080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REAR IMAGEN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01840" y="2289240"/>
            <a:ext cx="10810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ISEÑO DE MO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2289240"/>
            <a:ext cx="100836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ALIDAD AJUSTE CONST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43640" y="2289240"/>
            <a:ext cx="1008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DUCCION DE CO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2200" y="316080"/>
            <a:ext cx="8496360" cy="337320"/>
          </a:xfrm>
          <a:prstGeom prst="rect">
            <a:avLst/>
          </a:prstGeom>
          <a:gradFill rotWithShape="0">
            <a:gsLst>
              <a:gs pos="0">
                <a:srgbClr val="473424"/>
              </a:gs>
              <a:gs pos="50000">
                <a:srgbClr val="9c7150">
                  <a:alpha val="0"/>
                </a:srgbClr>
              </a:gs>
              <a:gs pos="100000">
                <a:srgbClr val="47342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JEMPLO: MAPA DE BSC DE UN FABRICANTE DE RO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67640" y="2289240"/>
            <a:ext cx="107964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T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DECU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2908440"/>
            <a:ext cx="100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11640" y="286236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ODUCTO  ACER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96360" y="2908440"/>
            <a:ext cx="12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148360" y="170028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858920" y="17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54560" y="2289240"/>
            <a:ext cx="9367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ECIO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698920" y="1784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98920" y="17845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883640" y="1700280"/>
            <a:ext cx="144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66764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3640" y="3602160"/>
            <a:ext cx="10796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AMPAÑA PUBLICIT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14560" y="3602160"/>
            <a:ext cx="9367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JORAR PROCESO DE DISEÑ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27640" y="3586320"/>
            <a:ext cx="11527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RAS DE ESC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23280" y="3586320"/>
            <a:ext cx="12240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ARROLLO DE PROVEE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3586320"/>
            <a:ext cx="11509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JORAR SISTEMA DE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083280" y="29368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948360" y="29368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2560" y="3602160"/>
            <a:ext cx="100836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JORAR SISTEMA DE CO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27640" y="28656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98920" y="28656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35280" y="28656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35280" y="34416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5168880"/>
            <a:ext cx="1223640" cy="3985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ARROLLO COMPETENCI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6920" y="43052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CELENCIA EN PRODU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27640" y="4276800"/>
            <a:ext cx="251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CELENCIA EN COMP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24360" y="170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356000" y="4952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564000" y="45208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5168880"/>
            <a:ext cx="1224000" cy="3985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LINEACIÓN DE OBJETIV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91280" y="5186520"/>
            <a:ext cx="1224000" cy="5508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 DE EVALUACION DE PERS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04000" y="5178600"/>
            <a:ext cx="1655640" cy="5508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 DE REMUNERACION POR DESEMPEÑ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71640" y="58183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EMPEÑO ESTRATEG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58183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OTIVACION DE 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307280" y="192888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930560" y="20001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307280" y="1784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340000" y="142416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40000" y="14241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987640" y="25034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5280" y="54561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722920" y="29365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722920" y="1699920"/>
            <a:ext cx="1440" cy="58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8099280" y="31525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948000" y="31528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8388360" y="2792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56000" y="45190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564000" y="49528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56000" y="49528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291280" y="43034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867280" y="43034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43960" y="333360"/>
            <a:ext cx="57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Ejemplo: Empresa Servicios Voz y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8" idx="1"/>
            <a:endCxn id="269" idx="3"/>
          </p:cNvCxnSpPr>
          <p:nvPr/>
        </p:nvCxnSpPr>
        <p:spPr>
          <a:xfrm flipV="1" rot="16200000">
            <a:off x="3477960" y="1398240"/>
            <a:ext cx="1953000" cy="327096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71" idx="0"/>
            <a:endCxn id="272" idx="3"/>
          </p:cNvCxnSpPr>
          <p:nvPr/>
        </p:nvCxnSpPr>
        <p:spPr>
          <a:xfrm flipH="1" flipV="1" rot="5400000">
            <a:off x="7580520" y="3015000"/>
            <a:ext cx="2059920" cy="153000"/>
          </a:xfrm>
          <a:prstGeom prst="curvedConnector5">
            <a:avLst>
              <a:gd name="adj1" fmla="val 45166"/>
              <a:gd name="adj2" fmla="val 125000"/>
              <a:gd name="adj3" fmla="val 45166"/>
            </a:avLst>
          </a:prstGeom>
          <a:ln w="25560">
            <a:solidFill>
              <a:srgbClr val="ff9900"/>
            </a:solidFill>
            <a:miter/>
            <a:tailEnd len="med" type="stealth" w="med"/>
          </a:ln>
        </p:spPr>
      </p:cxnSp>
      <p:cxnSp>
        <p:nvCxnSpPr>
          <p:cNvPr id="273" name=""/>
          <p:cNvCxnSpPr/>
          <p:nvPr/>
        </p:nvCxnSpPr>
        <p:spPr>
          <a:xfrm flipH="1" flipV="1" rot="5400000">
            <a:off x="17280" y="2934720"/>
            <a:ext cx="1803960" cy="162720"/>
          </a:xfrm>
          <a:prstGeom prst="curvedConnector2">
            <a:avLst/>
          </a:prstGeom>
          <a:ln w="31680">
            <a:solidFill>
              <a:srgbClr val="00ffff"/>
            </a:solidFill>
            <a:miter/>
            <a:tailEnd len="med" type="triangle" w="sm"/>
          </a:ln>
        </p:spPr>
      </p:cxnSp>
      <p:cxnSp>
        <p:nvCxnSpPr>
          <p:cNvPr id="274" name=""/>
          <p:cNvCxnSpPr/>
          <p:nvPr/>
        </p:nvCxnSpPr>
        <p:spPr>
          <a:xfrm flipH="1" flipV="1" rot="5400000">
            <a:off x="2587320" y="2421720"/>
            <a:ext cx="1678680" cy="1367640"/>
          </a:xfrm>
          <a:prstGeom prst="curvedConnector5">
            <a:avLst>
              <a:gd name="adj1" fmla="val 47490"/>
              <a:gd name="adj2" fmla="val 50000"/>
              <a:gd name="adj3" fmla="val 47490"/>
            </a:avLst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5" name=""/>
          <p:cNvCxnSpPr/>
          <p:nvPr/>
        </p:nvCxnSpPr>
        <p:spPr>
          <a:xfrm flipV="1">
            <a:off x="2057040" y="2037600"/>
            <a:ext cx="1816920" cy="2181960"/>
          </a:xfrm>
          <a:prstGeom prst="curvedConnector5">
            <a:avLst>
              <a:gd name="adj1" fmla="val 58997"/>
              <a:gd name="adj2" fmla="val 50000"/>
              <a:gd name="adj3" fmla="val 58997"/>
            </a:avLst>
          </a:prstGeom>
          <a:ln w="31680">
            <a:solidFill>
              <a:srgbClr val="00ffff"/>
            </a:solidFill>
            <a:miter/>
            <a:tailEnd len="med" type="triangle" w="sm"/>
          </a:ln>
        </p:spPr>
      </p:cxnSp>
      <p:sp>
        <p:nvSpPr>
          <p:cNvPr id="276" name=""/>
          <p:cNvSpPr/>
          <p:nvPr/>
        </p:nvSpPr>
        <p:spPr>
          <a:xfrm>
            <a:off x="152280" y="3505320"/>
            <a:ext cx="533520" cy="1666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-136800" y="4111920"/>
            <a:ext cx="106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cesos Inter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596360" y="5229360"/>
            <a:ext cx="0" cy="304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195640" y="5229360"/>
            <a:ext cx="0" cy="304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648320" y="5211360"/>
            <a:ext cx="0" cy="30492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5516640"/>
            <a:ext cx="53352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rot="16200000">
            <a:off x="-324000" y="5916240"/>
            <a:ext cx="141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prendizaje Organiz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9840" y="5657760"/>
            <a:ext cx="167616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5943600"/>
            <a:ext cx="1447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Fomentar cultura de orientación al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467480" y="3561840"/>
            <a:ext cx="0" cy="349560"/>
          </a:xfrm>
          <a:prstGeom prst="line">
            <a:avLst/>
          </a:prstGeom>
          <a:ln w="24120">
            <a:solidFill>
              <a:srgbClr val="99cc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477120" y="3561840"/>
            <a:ext cx="0" cy="295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505240" y="3484440"/>
            <a:ext cx="0" cy="5241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066680" y="3333600"/>
            <a:ext cx="0" cy="457200"/>
          </a:xfrm>
          <a:prstGeom prst="line">
            <a:avLst/>
          </a:prstGeom>
          <a:ln w="31680">
            <a:solidFill>
              <a:srgbClr val="00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181480" y="3451320"/>
            <a:ext cx="0" cy="349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371840" y="3462480"/>
            <a:ext cx="0" cy="436320"/>
          </a:xfrm>
          <a:prstGeom prst="line">
            <a:avLst/>
          </a:prstGeom>
          <a:ln w="2232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990720" y="1771560"/>
            <a:ext cx="1904760" cy="569880"/>
            <a:chOff x="990720" y="1771560"/>
            <a:chExt cx="1904760" cy="569880"/>
          </a:xfrm>
        </p:grpSpPr>
        <p:sp>
          <p:nvSpPr>
            <p:cNvPr id="292" name=""/>
            <p:cNvSpPr/>
            <p:nvPr/>
          </p:nvSpPr>
          <p:spPr>
            <a:xfrm>
              <a:off x="990720" y="1771560"/>
              <a:ext cx="1904760" cy="569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96920" y="1782720"/>
              <a:ext cx="1722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Optimizar la estructura de costos de la mezcla de can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809880" y="1752480"/>
            <a:ext cx="1981080" cy="533520"/>
            <a:chOff x="3809880" y="1752480"/>
            <a:chExt cx="1981080" cy="533520"/>
          </a:xfrm>
        </p:grpSpPr>
        <p:sp>
          <p:nvSpPr>
            <p:cNvPr id="294" name=""/>
            <p:cNvSpPr/>
            <p:nvPr/>
          </p:nvSpPr>
          <p:spPr>
            <a:xfrm>
              <a:off x="3886200" y="1752480"/>
              <a:ext cx="190476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09880" y="1827000"/>
              <a:ext cx="1981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Migrar costos fijos a gastos variab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3560" y="2800440"/>
            <a:ext cx="2419200" cy="672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2895480"/>
            <a:ext cx="23623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crementar la base de clientes de los servicios de voz mediante la combinación de tecnologí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91320" y="502920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TENCION AL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969240" y="3863880"/>
            <a:ext cx="996840" cy="993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934320" y="4119480"/>
            <a:ext cx="1066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Estimular la atención vía Centros de Llamad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3863880"/>
            <a:ext cx="996840" cy="993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31000" y="4092480"/>
            <a:ext cx="1079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ducir los tiempos de atención al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99240" y="4983120"/>
            <a:ext cx="1291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VENTAS DIRECTAS</a:t>
            </a:r>
            <a:r>
              <a:rPr b="1" lang="es-ES_tradnl" sz="9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45000" y="3886200"/>
            <a:ext cx="1085760" cy="784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36960" y="3809880"/>
            <a:ext cx="993960" cy="1054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00600" y="3965400"/>
            <a:ext cx="1066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omercializar nuevos productos y servic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5638680"/>
            <a:ext cx="2787480" cy="765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72200" y="5867280"/>
            <a:ext cx="27432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ctualizar permanentemente  las capacidades de atención, ventas y de negoci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5638680"/>
            <a:ext cx="1981080" cy="689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00200" y="5791320"/>
            <a:ext cx="138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Mejorar la motiv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el per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4933800"/>
            <a:ext cx="243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VENTAS A TRAVÉS DE TERCEROS</a:t>
            </a:r>
            <a:r>
              <a:rPr b="1" lang="es-ES_tradnl" sz="9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3924360"/>
            <a:ext cx="1025640" cy="9334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71680" y="400356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gilizar Procesos Pagos de comis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3040" y="3701880"/>
            <a:ext cx="1314360" cy="1087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6400" y="3857760"/>
            <a:ext cx="11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rocesos rápidos para realizar la ventas a través de AA y CD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2544840"/>
            <a:ext cx="533520" cy="99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-4320" y="2930400"/>
            <a:ext cx="9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li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649520"/>
            <a:ext cx="533520" cy="895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-13680" y="193356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629400" y="1789200"/>
            <a:ext cx="2057040" cy="533160"/>
            <a:chOff x="6629400" y="1789200"/>
            <a:chExt cx="2057040" cy="533160"/>
          </a:xfrm>
        </p:grpSpPr>
        <p:sp>
          <p:nvSpPr>
            <p:cNvPr id="320" name=""/>
            <p:cNvSpPr/>
            <p:nvPr/>
          </p:nvSpPr>
          <p:spPr>
            <a:xfrm>
              <a:off x="6708600" y="1789200"/>
              <a:ext cx="197784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29400" y="1863360"/>
              <a:ext cx="2057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Garantizar e incrementar los ingresos de la un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29000" y="2819520"/>
            <a:ext cx="2419200" cy="707760"/>
            <a:chOff x="3429000" y="2819520"/>
            <a:chExt cx="2419200" cy="707760"/>
          </a:xfrm>
        </p:grpSpPr>
        <p:sp>
          <p:nvSpPr>
            <p:cNvPr id="322" name=""/>
            <p:cNvSpPr/>
            <p:nvPr/>
          </p:nvSpPr>
          <p:spPr>
            <a:xfrm>
              <a:off x="3429000" y="2819520"/>
              <a:ext cx="2419200" cy="672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57440" y="2886120"/>
              <a:ext cx="2362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crementar la penetración de los servicios de datos y de valor agregado, sobre la base de los clientes actu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324480" y="2800440"/>
            <a:ext cx="2419560" cy="672840"/>
            <a:chOff x="6324480" y="2800440"/>
            <a:chExt cx="2419560" cy="672840"/>
          </a:xfrm>
        </p:grpSpPr>
        <p:sp>
          <p:nvSpPr>
            <p:cNvPr id="325" name=""/>
            <p:cNvSpPr/>
            <p:nvPr/>
          </p:nvSpPr>
          <p:spPr>
            <a:xfrm>
              <a:off x="6324480" y="2800440"/>
              <a:ext cx="2419560" cy="672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53280" y="2886120"/>
              <a:ext cx="236196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Aumentar la satisfacción y conocimiento de los clientes y mercados potenci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8035920" y="3930480"/>
            <a:ext cx="996840" cy="993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001000" y="4121280"/>
            <a:ext cx="1066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Obtención sistematizada de opinión del 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04" idx="1"/>
            <a:endCxn id="296" idx="4"/>
          </p:cNvCxnSpPr>
          <p:nvPr/>
        </p:nvCxnSpPr>
        <p:spPr>
          <a:xfrm flipV="1" rot="16200000">
            <a:off x="3232080" y="2212920"/>
            <a:ext cx="491400" cy="3010680"/>
          </a:xfrm>
          <a:prstGeom prst="curvedConnector5">
            <a:avLst>
              <a:gd name="adj1" fmla="val 65689"/>
              <a:gd name="adj2" fmla="val 50000"/>
              <a:gd name="adj3" fmla="val 65689"/>
            </a:avLst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0"/>
            <a:endCxn id="320" idx="3"/>
          </p:cNvCxnSpPr>
          <p:nvPr/>
        </p:nvCxnSpPr>
        <p:spPr>
          <a:xfrm flipH="1" flipV="1" rot="5400000">
            <a:off x="4206960" y="9720"/>
            <a:ext cx="556560" cy="5025240"/>
          </a:xfrm>
          <a:prstGeom prst="curvedConnector5">
            <a:avLst>
              <a:gd name="adj1" fmla="val 42847"/>
              <a:gd name="adj2" fmla="val 50000"/>
              <a:gd name="adj3" fmla="val 4284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22" idx="7"/>
            <a:endCxn id="320" idx="4"/>
          </p:cNvCxnSpPr>
          <p:nvPr/>
        </p:nvCxnSpPr>
        <p:spPr>
          <a:xfrm flipH="1" flipV="1" rot="5400000">
            <a:off x="6297840" y="1517760"/>
            <a:ext cx="596160" cy="2204280"/>
          </a:xfrm>
          <a:prstGeom prst="curvedConnector5">
            <a:avLst>
              <a:gd name="adj1" fmla="val 58126"/>
              <a:gd name="adj2" fmla="val 50000"/>
              <a:gd name="adj3" fmla="val 58126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5" idx="7"/>
            <a:endCxn id="320" idx="5"/>
          </p:cNvCxnSpPr>
          <p:nvPr/>
        </p:nvCxnSpPr>
        <p:spPr>
          <a:xfrm flipV="1">
            <a:off x="8389800" y="2243880"/>
            <a:ext cx="8640" cy="654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3657600" y="4038480"/>
            <a:ext cx="106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Simplificar los procesos de ven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6095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276720" y="6095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362320" y="1523880"/>
            <a:ext cx="3962160" cy="1332720"/>
            <a:chOff x="2362320" y="1523880"/>
            <a:chExt cx="3962160" cy="1332720"/>
          </a:xfrm>
        </p:grpSpPr>
        <p:sp>
          <p:nvSpPr>
            <p:cNvPr id="337" name=""/>
            <p:cNvSpPr/>
            <p:nvPr/>
          </p:nvSpPr>
          <p:spPr>
            <a:xfrm>
              <a:off x="2362320" y="1523880"/>
              <a:ext cx="3962160" cy="12189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62320" y="1599840"/>
              <a:ext cx="3962160" cy="12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. FINANCIE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ción Co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tasa de readmis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Incrementar el valor de las horas trabaj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14600" y="4724280"/>
            <a:ext cx="3733560" cy="1828800"/>
            <a:chOff x="2514600" y="4724280"/>
            <a:chExt cx="3733560" cy="1828800"/>
          </a:xfrm>
        </p:grpSpPr>
        <p:sp>
          <p:nvSpPr>
            <p:cNvPr id="340" name=""/>
            <p:cNvSpPr/>
            <p:nvPr/>
          </p:nvSpPr>
          <p:spPr>
            <a:xfrm>
              <a:off x="2514600" y="4724280"/>
              <a:ext cx="3733560" cy="1828800"/>
            </a:xfrm>
            <a:prstGeom prst="rect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90560" y="4800600"/>
              <a:ext cx="3581640" cy="17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. APRENDIZ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Incrementar equipos de Mejoramiento continuo de la calida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Incrementar habilidades de equip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Encontrar oportunidades para fortalecer procesos clav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nº pasos en procesos cla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867280" y="3048120"/>
            <a:ext cx="3124080" cy="1447560"/>
            <a:chOff x="5867280" y="3048120"/>
            <a:chExt cx="3124080" cy="1447560"/>
          </a:xfrm>
        </p:grpSpPr>
        <p:sp>
          <p:nvSpPr>
            <p:cNvPr id="343" name=""/>
            <p:cNvSpPr/>
            <p:nvPr/>
          </p:nvSpPr>
          <p:spPr>
            <a:xfrm>
              <a:off x="5867280" y="3048120"/>
              <a:ext cx="3047760" cy="1447560"/>
            </a:xfrm>
            <a:prstGeom prst="rect">
              <a:avLst/>
            </a:prstGeom>
            <a:solidFill>
              <a:srgbClr val="ea280e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7280" y="3124080"/>
              <a:ext cx="3124080" cy="12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ROCESOS INTER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ejorar predicción de resultad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eventos advers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tiempo de estadí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ejorar control de síntom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04920" y="2971800"/>
            <a:ext cx="2590560" cy="1531800"/>
            <a:chOff x="304920" y="2971800"/>
            <a:chExt cx="2590560" cy="1531800"/>
          </a:xfrm>
        </p:grpSpPr>
        <p:sp>
          <p:nvSpPr>
            <p:cNvPr id="346" name=""/>
            <p:cNvSpPr/>
            <p:nvPr/>
          </p:nvSpPr>
          <p:spPr>
            <a:xfrm>
              <a:off x="304920" y="2971800"/>
              <a:ext cx="2590560" cy="1523880"/>
            </a:xfrm>
            <a:prstGeom prst="rect">
              <a:avLst/>
            </a:prstGeom>
            <a:solidFill>
              <a:srgbClr val="0033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4920" y="3033720"/>
              <a:ext cx="2514600" cy="1469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. DEL CL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Satisfacción del cli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ntraer metas mutu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umentar compromiso paciente/familia en toma de decisiones y tratamie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657600" y="3124080"/>
            <a:ext cx="1523880" cy="121932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260360" y="692280"/>
            <a:ext cx="6481800" cy="3373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L PLAN PARA OPERAR  EL B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4360" y="2359080"/>
            <a:ext cx="1800000" cy="12708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claración del destino estratégic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ISION, VISION, OBJETIVOS ESTRATE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29080" y="3006720"/>
            <a:ext cx="1800000" cy="946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laboración del MAPA ESTRATEGICO y las RU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3583080"/>
            <a:ext cx="1800360" cy="17989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terminación de OBJETIVOS, INDICADORES METAS E INICIATIVAS  para cada estrategia integrante de cada 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16720" y="4564080"/>
            <a:ext cx="1800360" cy="9464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Generación de INICIATIVAS para alcanzar cada una de las m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49440" y="364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9440" y="429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42108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08360" y="400536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08360" y="57340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365800" y="53748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651640" y="537372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51640" y="5805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738036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380360" y="321264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653080" y="3213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65308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292720" y="2636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708000" y="2637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0836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349800" y="1988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549080" y="198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4944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203640" y="765000"/>
            <a:ext cx="2519280" cy="57636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vantGarde Bk BT"/>
              </a:rPr>
              <a:t>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03640" y="2198520"/>
            <a:ext cx="647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11640" y="2198520"/>
            <a:ext cx="647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48360" y="2198520"/>
            <a:ext cx="647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1840" y="2847960"/>
            <a:ext cx="649440" cy="1727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10200" y="2847960"/>
            <a:ext cx="649080" cy="1727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46560" y="2847960"/>
            <a:ext cx="649440" cy="1727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84360" y="3284640"/>
            <a:ext cx="403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nciones de So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562200" y="1341360"/>
            <a:ext cx="1873080" cy="856800"/>
            <a:chOff x="3562200" y="1341360"/>
            <a:chExt cx="1873080" cy="856800"/>
          </a:xfrm>
        </p:grpSpPr>
        <p:sp>
          <p:nvSpPr>
            <p:cNvPr id="381" name=""/>
            <p:cNvSpPr/>
            <p:nvPr/>
          </p:nvSpPr>
          <p:spPr>
            <a:xfrm>
              <a:off x="3562200" y="1875960"/>
              <a:ext cx="1873080" cy="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98560" y="1341360"/>
              <a:ext cx="0" cy="85680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62200" y="1875960"/>
              <a:ext cx="0" cy="32184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35280" y="1875960"/>
              <a:ext cx="0" cy="32184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227640" y="692280"/>
            <a:ext cx="230364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El BSC CORPORATIVO define las estrategias y los objetivos estratég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724360" y="1052640"/>
            <a:ext cx="43200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9440" y="2133720"/>
            <a:ext cx="2303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ada Unidad Estratégica de Negocio elabora  su BSC en forma consistente con el BSC CORPORA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96000" y="2565360"/>
            <a:ext cx="43164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4508640"/>
            <a:ext cx="230364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ada  Area y Departamento de la empresa elabora su BSC en forma consistente con el BSC de la Unidad de Negocio a la que perten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96000" y="4149720"/>
            <a:ext cx="1655640" cy="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451640" y="4149720"/>
            <a:ext cx="0" cy="3603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4508640"/>
            <a:ext cx="230364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ada  Unidad de Soporte elabora su BSC en forma consistente con el BSC CORPORATIVO y el BSC de las Unidades Estratégicas a las que apo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0" y="4149720"/>
            <a:ext cx="1871640" cy="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32000" y="4149720"/>
            <a:ext cx="0" cy="3603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22040" y="534600"/>
            <a:ext cx="7264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Medición de la estrate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85800" y="2209680"/>
            <a:ext cx="8077320" cy="3340800"/>
            <a:chOff x="685800" y="2209680"/>
            <a:chExt cx="8077320" cy="3340800"/>
          </a:xfrm>
        </p:grpSpPr>
        <p:sp>
          <p:nvSpPr>
            <p:cNvPr id="397" name=""/>
            <p:cNvSpPr/>
            <p:nvPr/>
          </p:nvSpPr>
          <p:spPr>
            <a:xfrm>
              <a:off x="762120" y="2514600"/>
              <a:ext cx="1752480" cy="114300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6880" y="2362320"/>
              <a:ext cx="3124440" cy="144756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38680" y="2209680"/>
              <a:ext cx="3124440" cy="175284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1752840"/>
                <a:gd name="textAreaBottom" fmla="*/ 175320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800" y="2819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Vis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24080" y="26067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bjetivos estraté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95880" y="268272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ffff"/>
                  </a:solidFill>
                  <a:latin typeface="Arial"/>
                </a:rPr>
                <a:t>Indicadores y Medi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5800" y="435924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BSC traduce la Visión y objetivos estratégicos en indicadores/mediciones del desempeño de la organ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762120" y="5791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E LAS IDEAS A LA IMPLE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11280" y="11970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expresiones cualitativas o cuantitativas que sirven para medir el avance o logro de una actividad, en un periodo 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de los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pre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tin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dep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jo 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Indicadores o medidas blan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indicadores que se usan para medir el logro de objetivos que son por naturaleza un tanto intangibles e imprecisos y que es inevitable el uso de juicio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xpresan en una escala de naturaleza cualit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Medidas bla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840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agen corpo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atisfacción del cl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ima organiz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esgo polí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ivación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de competencias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6092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de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ital intelec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der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unicación intra-organiz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romiso ger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4360" y="48690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Se caracterizan por ser indicadores compuestos, no estructurados y es inevitable el Juicio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BSC como sistema de 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BSC pone énfasis que los indicadores financieros y no financieros deben formar parte del sistema de información para los empleados, en todos los nive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larar y traducir la visión y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unicar y vincular los objetivos e indicadores estraté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r, establecer objetivos y alinear las iniciativas estraté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mentar el feedback y formación estratég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Obstáculos para la Implemen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50920" y="1197000"/>
            <a:ext cx="8533800" cy="5105520"/>
            <a:chOff x="250920" y="1197000"/>
            <a:chExt cx="8533800" cy="5105520"/>
          </a:xfrm>
        </p:grpSpPr>
        <p:sp>
          <p:nvSpPr>
            <p:cNvPr id="417" name=""/>
            <p:cNvSpPr/>
            <p:nvPr/>
          </p:nvSpPr>
          <p:spPr>
            <a:xfrm>
              <a:off x="479160" y="1501920"/>
              <a:ext cx="350496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rrores en l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omunic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de la vis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7760" y="279720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erentes no se involucran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en la implemen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36360" y="409248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planes estratégicos no incorporan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resupuestos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para la implemen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36360" y="538812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incentivos al personal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no están diseñados para apoyar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9760" y="146988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Gran parte de los empleados no conoce, o no comprende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03800" y="2733840"/>
              <a:ext cx="350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directivos le dedican menos de una hora mensual a discutir estrateg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79760" y="398448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arte importante de las empresas no vincula los presupuestos a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3800" y="5416560"/>
              <a:ext cx="350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as empresas habitualmente no tienen incentivos relacionados a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0920" y="1197000"/>
              <a:ext cx="4419360" cy="121932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0920" y="2492280"/>
              <a:ext cx="4419360" cy="121932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0920" y="5083200"/>
              <a:ext cx="4419360" cy="121932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0920" y="3787920"/>
              <a:ext cx="4419360" cy="121896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560 h 1218960"/>
                <a:gd name="textAreaBottom" fmla="*/ 9144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27480" y="1425600"/>
              <a:ext cx="3657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27480" y="3940200"/>
              <a:ext cx="3657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27480" y="2720880"/>
              <a:ext cx="3657240" cy="83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27480" y="5311800"/>
              <a:ext cx="3657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54560" y="455760"/>
            <a:ext cx="73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8000"/>
                </a:solidFill>
                <a:latin typeface="Arial"/>
              </a:rPr>
              <a:t>Recomendaciones para la Impla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280" y="141300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ar con el compromiso de la Alta G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iderar el tiempo para el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ficiente claridad conceptual del equipo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onocer que es un sistema de aprendizaje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tender que el Control no es el fin del CMI y que tampoco es una simple tabla de indica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4460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¿Cómo se expresa un Balanced Scorec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9059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Mapa de relaciones caus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conectan las 4 persp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Tablero balance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objetivos, mediciones/indicadores, metas, inicia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0160" y="498600"/>
            <a:ext cx="58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8000"/>
                </a:solidFill>
                <a:latin typeface="Arial"/>
              </a:rPr>
              <a:t>Base Conceptual de la Metod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bjetivo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54100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54100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449568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3733920"/>
            <a:ext cx="457200" cy="45720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2971800"/>
            <a:ext cx="457200" cy="45720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2971800"/>
            <a:ext cx="457200" cy="45720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3733920"/>
            <a:ext cx="457200" cy="45720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638680" y="4952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019920" y="4952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095880" y="4114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508360" y="4149360"/>
            <a:ext cx="28260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4100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47712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94360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41008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979640" y="2895480"/>
            <a:ext cx="2087640" cy="3048120"/>
            <a:chOff x="1979640" y="2895480"/>
            <a:chExt cx="2087640" cy="3048120"/>
          </a:xfrm>
        </p:grpSpPr>
        <p:sp>
          <p:nvSpPr>
            <p:cNvPr id="64" name=""/>
            <p:cNvSpPr/>
            <p:nvPr/>
          </p:nvSpPr>
          <p:spPr>
            <a:xfrm>
              <a:off x="1981080" y="2895480"/>
              <a:ext cx="2086200" cy="304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00680" y="293544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ccionis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43960" y="380844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lie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27040" y="45705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56320" y="5256360"/>
              <a:ext cx="195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pac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79640" y="4365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79640" y="357336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79640" y="5157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rot="16200000">
            <a:off x="7079400" y="41011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ausa - 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16720" y="450864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450864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507672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516720" y="4941720"/>
            <a:ext cx="2142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076720" y="4149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588000" y="414936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1120"/>
            <a:ext cx="82296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99"/>
                </a:solidFill>
                <a:latin typeface="Arial"/>
              </a:rPr>
              <a:t>Mapa de relaciones caus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1676520"/>
            <a:ext cx="5040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generar mayor rentabi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guiendo que los clientes repitan y expandan sus compras, es decir, generar clientes le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generar clientes le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ándole lo que mas valora, ejemplo entrega oportu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lograr entrega oportu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jorando el ciclo del proceso y su calidad para evitar reproce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mejorar los procesos intern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nando a los empl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22680" y="1219320"/>
            <a:ext cx="4419360" cy="4919400"/>
            <a:chOff x="4522680" y="1219320"/>
            <a:chExt cx="4419360" cy="4919400"/>
          </a:xfrm>
        </p:grpSpPr>
        <p:sp>
          <p:nvSpPr>
            <p:cNvPr id="82" name=""/>
            <p:cNvSpPr/>
            <p:nvPr/>
          </p:nvSpPr>
          <p:spPr>
            <a:xfrm>
              <a:off x="5791320" y="1785960"/>
              <a:ext cx="1447560" cy="53352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67280" y="18288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R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1480" y="28638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</a:rPr>
                <a:t>Lealtad del cl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62720" y="2743200"/>
              <a:ext cx="1981080" cy="53352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553080" y="2319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38400" y="3778200"/>
              <a:ext cx="172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</a:rPr>
                <a:t>Entrega a tiemp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2720" y="3657600"/>
              <a:ext cx="1981080" cy="53352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553080" y="3309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4720" y="5607000"/>
              <a:ext cx="257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9999"/>
                  </a:solidFill>
                  <a:latin typeface="Arial"/>
                </a:rPr>
                <a:t>Habilidades de emple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7800" y="5410080"/>
              <a:ext cx="2666880" cy="72864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22680" y="4648320"/>
              <a:ext cx="197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lidad del proce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15200" y="4648320"/>
              <a:ext cx="162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iclo y dur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040" y="506268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410080" y="430020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7086600" y="430056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315200" y="498636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48320" y="1633680"/>
              <a:ext cx="3733560" cy="1828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7240" y="1219320"/>
              <a:ext cx="225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didas de result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80880" y="380880"/>
            <a:ext cx="8534520" cy="5867640"/>
            <a:chOff x="380880" y="380880"/>
            <a:chExt cx="8534520" cy="5867640"/>
          </a:xfrm>
        </p:grpSpPr>
        <p:sp>
          <p:nvSpPr>
            <p:cNvPr id="101" name=""/>
            <p:cNvSpPr/>
            <p:nvPr/>
          </p:nvSpPr>
          <p:spPr>
            <a:xfrm>
              <a:off x="6781680" y="3429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1680" y="52578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prendiza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81680" y="20574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1680" y="5335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inanci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66680" y="54388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jorar Compet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5257800"/>
              <a:ext cx="1752480" cy="9144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3733920" y="5257800"/>
              <a:ext cx="1981080" cy="990720"/>
              <a:chOff x="3733920" y="5257800"/>
              <a:chExt cx="1981080" cy="990720"/>
            </a:xfrm>
          </p:grpSpPr>
          <p:sp>
            <p:nvSpPr>
              <p:cNvPr id="108" name=""/>
              <p:cNvSpPr/>
              <p:nvPr/>
            </p:nvSpPr>
            <p:spPr>
              <a:xfrm>
                <a:off x="3962520" y="5302080"/>
                <a:ext cx="1600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ejorar Ambiente de Trabaj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3920" y="5257800"/>
                <a:ext cx="1981080" cy="990720"/>
              </a:xfrm>
              <a:prstGeom prst="ellipse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514600" y="45720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ductiv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0" y="4419720"/>
              <a:ext cx="2057400" cy="60948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419720" y="3352680"/>
              <a:ext cx="1828800" cy="686880"/>
              <a:chOff x="4419720" y="3352680"/>
              <a:chExt cx="1828800" cy="686880"/>
            </a:xfrm>
          </p:grpSpPr>
          <p:sp>
            <p:nvSpPr>
              <p:cNvPr id="113" name=""/>
              <p:cNvSpPr/>
              <p:nvPr/>
            </p:nvSpPr>
            <p:spPr>
              <a:xfrm>
                <a:off x="4572360" y="339696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66ffff"/>
                    </a:solidFill>
                    <a:latin typeface="Arial"/>
                  </a:rPr>
                  <a:t>Servicio al Clie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19720" y="3352680"/>
                <a:ext cx="1828800" cy="685800"/>
              </a:xfrm>
              <a:prstGeom prst="ellipse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80880" y="3276720"/>
              <a:ext cx="1904760" cy="761760"/>
              <a:chOff x="380880" y="3276720"/>
              <a:chExt cx="1904760" cy="761760"/>
            </a:xfrm>
          </p:grpSpPr>
          <p:sp>
            <p:nvSpPr>
              <p:cNvPr id="116" name=""/>
              <p:cNvSpPr/>
              <p:nvPr/>
            </p:nvSpPr>
            <p:spPr>
              <a:xfrm>
                <a:off x="533160" y="33526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66ffff"/>
                    </a:solidFill>
                    <a:latin typeface="Arial"/>
                  </a:rPr>
                  <a:t>Necesidades del Clie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0880" y="3276720"/>
                <a:ext cx="1904760" cy="761760"/>
              </a:xfrm>
              <a:prstGeom prst="ellipse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362320" y="3276720"/>
              <a:ext cx="1981080" cy="761760"/>
              <a:chOff x="2362320" y="3276720"/>
              <a:chExt cx="1981080" cy="761760"/>
            </a:xfrm>
          </p:grpSpPr>
          <p:sp>
            <p:nvSpPr>
              <p:cNvPr id="119" name=""/>
              <p:cNvSpPr/>
              <p:nvPr/>
            </p:nvSpPr>
            <p:spPr>
              <a:xfrm>
                <a:off x="2590920" y="33526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66ffff"/>
                    </a:solidFill>
                    <a:latin typeface="Arial"/>
                  </a:rPr>
                  <a:t>Diseño de Solucion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362320" y="3276720"/>
                <a:ext cx="1981080" cy="761760"/>
              </a:xfrm>
              <a:prstGeom prst="ellipse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514600" y="1905120"/>
              <a:ext cx="1752480" cy="761760"/>
              <a:chOff x="2514600" y="1905120"/>
              <a:chExt cx="1752480" cy="761760"/>
            </a:xfrm>
          </p:grpSpPr>
          <p:sp>
            <p:nvSpPr>
              <p:cNvPr id="122" name=""/>
              <p:cNvSpPr/>
              <p:nvPr/>
            </p:nvSpPr>
            <p:spPr>
              <a:xfrm>
                <a:off x="2590920" y="19810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99"/>
                    </a:solidFill>
                    <a:latin typeface="Arial"/>
                  </a:rPr>
                  <a:t>Generar Confian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14600" y="1905120"/>
                <a:ext cx="1752480" cy="761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438280" y="380880"/>
              <a:ext cx="1981080" cy="761760"/>
              <a:chOff x="2438280" y="380880"/>
              <a:chExt cx="1981080" cy="761760"/>
            </a:xfrm>
          </p:grpSpPr>
          <p:sp>
            <p:nvSpPr>
              <p:cNvPr id="125" name=""/>
              <p:cNvSpPr/>
              <p:nvPr/>
            </p:nvSpPr>
            <p:spPr>
              <a:xfrm>
                <a:off x="2666880" y="456840"/>
                <a:ext cx="1600200" cy="642600"/>
              </a:xfrm>
              <a:prstGeom prst="rect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ff"/>
                    </a:solidFill>
                    <a:latin typeface="Arial"/>
                  </a:rPr>
                  <a:t>Maximizar Val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38280" y="380880"/>
                <a:ext cx="1981080" cy="761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 flipV="1">
              <a:off x="3352680" y="403812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352680" y="114264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352680" y="26668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4343040" y="4800600"/>
              <a:ext cx="30492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828800" y="4876920"/>
              <a:ext cx="53352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962520" y="403848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1676160" y="403848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371600" y="2514240"/>
              <a:ext cx="1295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4114440" y="2590920"/>
              <a:ext cx="121932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95800" y="2286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708360" y="54936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ximizar valor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accion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2058840"/>
            <a:ext cx="216072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rementar particip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77812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ner alianz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fec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10160" y="2562120"/>
            <a:ext cx="2085840" cy="435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grar altos niv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satisfacción de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385920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ducir 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385776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omper si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n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3857760"/>
            <a:ext cx="2232360" cy="50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sarrollar mercadotec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f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7800" y="5083200"/>
            <a:ext cx="187020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rear un ambiente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bajo posi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5083200"/>
            <a:ext cx="18716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mplear sistema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anguar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4720" y="5083200"/>
            <a:ext cx="18716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traer y re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lento hu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5" idx="0"/>
            <a:endCxn id="142" idx="2"/>
          </p:cNvCxnSpPr>
          <p:nvPr/>
        </p:nvCxnSpPr>
        <p:spPr>
          <a:xfrm flipH="1" flipV="1">
            <a:off x="4571280" y="4362120"/>
            <a:ext cx="73800" cy="721440"/>
          </a:xfrm>
          <a:prstGeom prst="straightConnector1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5" idx="0"/>
            <a:endCxn id="141" idx="2"/>
          </p:cNvCxnSpPr>
          <p:nvPr/>
        </p:nvCxnSpPr>
        <p:spPr>
          <a:xfrm flipH="1" flipV="1" rot="5400000">
            <a:off x="5436720" y="3571560"/>
            <a:ext cx="720000" cy="2304000"/>
          </a:xfrm>
          <a:prstGeom prst="curvedConnector5">
            <a:avLst>
              <a:gd name="adj1" fmla="val 49874"/>
              <a:gd name="adj2" fmla="val 49992"/>
              <a:gd name="adj3" fmla="val 49874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4" idx="2"/>
            <a:endCxn id="146" idx="2"/>
          </p:cNvCxnSpPr>
          <p:nvPr/>
        </p:nvCxnSpPr>
        <p:spPr>
          <a:xfrm flipV="1" rot="16200000">
            <a:off x="4535640" y="3031920"/>
            <a:ext cx="2520" cy="5112720"/>
          </a:xfrm>
          <a:prstGeom prst="curvedConnector5">
            <a:avLst>
              <a:gd name="adj1" fmla="val -14300000"/>
              <a:gd name="adj2" fmla="val 49996"/>
              <a:gd name="adj3" fmla="val -14300000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5" idx="1"/>
            <a:endCxn id="140" idx="1"/>
          </p:cNvCxnSpPr>
          <p:nvPr/>
        </p:nvCxnSpPr>
        <p:spPr>
          <a:xfrm flipH="1" rot="10800000">
            <a:off x="3707280" y="2778840"/>
            <a:ext cx="2520" cy="255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3" idx="1"/>
          </p:cNvCxnSpPr>
          <p:nvPr/>
        </p:nvCxnSpPr>
        <p:spPr>
          <a:xfrm rot="10800000">
            <a:off x="538920" y="3353760"/>
            <a:ext cx="288000" cy="75636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endCxn id="138" idx="2"/>
          </p:cNvCxnSpPr>
          <p:nvPr/>
        </p:nvCxnSpPr>
        <p:spPr>
          <a:xfrm flipH="1" flipV="1" rot="5400000">
            <a:off x="1692720" y="2994120"/>
            <a:ext cx="1221480" cy="362520"/>
          </a:xfrm>
          <a:prstGeom prst="curvedConnector5">
            <a:avLst>
              <a:gd name="adj1" fmla="val 14033"/>
              <a:gd name="adj2" fmla="val 50000"/>
              <a:gd name="adj3" fmla="val 14033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endCxn id="138" idx="3"/>
          </p:cNvCxnSpPr>
          <p:nvPr/>
        </p:nvCxnSpPr>
        <p:spPr>
          <a:xfrm flipV="1" rot="16200000">
            <a:off x="3366360" y="2509200"/>
            <a:ext cx="538920" cy="14472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8" idx="0"/>
          </p:cNvCxnSpPr>
          <p:nvPr/>
        </p:nvCxnSpPr>
        <p:spPr>
          <a:xfrm flipH="1" flipV="1" rot="5400000">
            <a:off x="3852000" y="258840"/>
            <a:ext cx="432360" cy="316800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0"/>
            <a:endCxn id="137" idx="1"/>
          </p:cNvCxnSpPr>
          <p:nvPr/>
        </p:nvCxnSpPr>
        <p:spPr>
          <a:xfrm flipH="1" flipV="1" rot="5400000">
            <a:off x="2467440" y="817920"/>
            <a:ext cx="1257840" cy="122472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1" idx="0"/>
            <a:endCxn id="157" idx="2"/>
          </p:cNvCxnSpPr>
          <p:nvPr/>
        </p:nvCxnSpPr>
        <p:spPr>
          <a:xfrm flipH="1" flipV="1" rot="5400000">
            <a:off x="6679080" y="3265920"/>
            <a:ext cx="862560" cy="324720"/>
          </a:xfrm>
          <a:prstGeom prst="curvedConnector5">
            <a:avLst>
              <a:gd name="adj1" fmla="val 49895"/>
              <a:gd name="adj2" fmla="val 49944"/>
              <a:gd name="adj3" fmla="val 49895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5867280" y="119700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remen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2492280"/>
            <a:ext cx="194328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mover alto valor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lación con el 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0" idx="0"/>
            <a:endCxn id="158" idx="1"/>
          </p:cNvCxnSpPr>
          <p:nvPr/>
        </p:nvCxnSpPr>
        <p:spPr>
          <a:xfrm flipH="1" flipV="1" rot="5400000">
            <a:off x="4753440" y="1447920"/>
            <a:ext cx="1113120" cy="111492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1"/>
            <a:endCxn id="140" idx="3"/>
          </p:cNvCxnSpPr>
          <p:nvPr/>
        </p:nvCxnSpPr>
        <p:spPr>
          <a:xfrm flipV="1" rot="10800000">
            <a:off x="5795280" y="2743560"/>
            <a:ext cx="505440" cy="3564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39" idx="0"/>
            <a:endCxn id="138" idx="1"/>
          </p:cNvCxnSpPr>
          <p:nvPr/>
        </p:nvCxnSpPr>
        <p:spPr>
          <a:xfrm flipH="1" flipV="1" rot="5400000">
            <a:off x="1134720" y="2509560"/>
            <a:ext cx="465840" cy="7200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 flipV="1">
            <a:off x="7740720" y="2997360"/>
            <a:ext cx="7128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7380360" y="1700280"/>
            <a:ext cx="7128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908000" y="4365360"/>
            <a:ext cx="0" cy="6476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643280" y="2997360"/>
            <a:ext cx="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5800" y="2286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9080" y="620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58160" y="20606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33680" y="3860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66200" y="573408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333360"/>
          <a:ext cx="9143640" cy="6469200"/>
        </p:xfrm>
        <a:graphic>
          <a:graphicData uri="http://schemas.openxmlformats.org/drawingml/2006/table">
            <a:tbl>
              <a:tblPr/>
              <a:tblGrid>
                <a:gridCol w="1472400"/>
                <a:gridCol w="1657800"/>
                <a:gridCol w="1502280"/>
                <a:gridCol w="1800720"/>
                <a:gridCol w="1469520"/>
                <a:gridCol w="1240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tivos estratég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33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izar el valor de las ac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mentar participación de mer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mentar ingres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e participación de mer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en de o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tro del top 50 del S&amp;P 500 cada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 más cada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 en tres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Finanz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arke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r E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83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anzar altos niveles de satisfacción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ones efectivas con distribui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alto valor de relación con el pre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ención de canales de distribu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ción de mer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uno en calificación de 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r reclamos de los clientes un 25% cada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uno en calificación de 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arke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ente de Desarrollo de Negoc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arke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finir estrategias de ca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5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va Excele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ar mercadotecnia efec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ear sistemas de vanguar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r costo de oper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imiento de campañas publicita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áreas soportadas por siste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opera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mejor en 5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do en 50% en 3 añ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do en 60% en un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ercadotec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O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r un ER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iseñar o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33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ecimiento y Aprendiz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er y retener personal califi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per silos func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recer un ambiente de trabajo atrac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a de reten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. de equipos multifunc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ndice de satisfacción de emple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 de todos los equip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en dos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R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R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ar nuevas estrategias de R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468360" y="836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210492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4076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661000"/>
            <a:ext cx="122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DESARROL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376200"/>
            <a:ext cx="9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3762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404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73800" y="404640"/>
            <a:ext cx="12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56720" y="404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CIATI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ABLERO D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68360" y="903240"/>
          <a:ext cx="2951280" cy="4969080"/>
        </p:xfrm>
        <a:graphic>
          <a:graphicData uri="http://schemas.openxmlformats.org/drawingml/2006/table">
            <a:tbl>
              <a:tblPr/>
              <a:tblGrid>
                <a:gridCol w="2951280"/>
              </a:tblGrid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NDIZAJE Y DESARROL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635280" y="903240"/>
          <a:ext cx="5040360" cy="4946760"/>
        </p:xfrm>
        <a:graphic>
          <a:graphicData uri="http://schemas.openxmlformats.org/drawingml/2006/table">
            <a:tbl>
              <a:tblPr/>
              <a:tblGrid>
                <a:gridCol w="1260720"/>
                <a:gridCol w="1260360"/>
                <a:gridCol w="1258920"/>
                <a:gridCol w="1260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iento de 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contrib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iento de v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iento de mar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% crecimiento de ma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5 pu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cución de plan de crecimiento de v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3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agreg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elización del cl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del cl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cuencia y permanencia de comp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 de satisfacción 8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a mensual  contin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iseño de produ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de administración de cl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 e innov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oport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s de 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ísticas de entr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de desperdic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12 horas máx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evo sistema de 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iseño de proce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o de h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tud de serv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ciación del desempe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del cl9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ínimo 8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 de satisfacción 8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desarrollo de h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sta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187280" y="1273320"/>
            <a:ext cx="1440000" cy="27648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1949400"/>
            <a:ext cx="129672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cimiento de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1949400"/>
            <a:ext cx="129708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o Mg. con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476360" y="16239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340000" y="16239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2992320"/>
            <a:ext cx="115236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Valor agreg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2992320"/>
            <a:ext cx="129708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idelización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3640" y="32083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476360" y="24163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268360" y="24163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4000680"/>
            <a:ext cx="115236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lidad 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24000" y="4000680"/>
            <a:ext cx="115272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trega oport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63640" y="42163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08000" y="32083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5229360"/>
            <a:ext cx="1152360" cy="4590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sarrollo de habil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24000" y="5229360"/>
            <a:ext cx="1152720" cy="4590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ctitud de serv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5119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908000" y="421596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47628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16360" y="404640"/>
            <a:ext cx="28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ABLERO D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1:57:48Z</dcterms:created>
  <dc:creator>Ivan Alvarez</dc:creator>
  <dc:description/>
  <dc:language>en-US</dc:language>
  <cp:lastModifiedBy>IALVAREZ</cp:lastModifiedBy>
  <dcterms:modified xsi:type="dcterms:W3CDTF">2007-11-16T14:06:37Z</dcterms:modified>
  <cp:revision>21</cp:revision>
  <dc:subject/>
  <dc:title>Diapositiva 1</dc:title>
</cp:coreProperties>
</file>