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D354-82B7-46D6-851E-D668E69A5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02FA-0BDF-4A55-B52A-29778F213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FB8D-B2F9-4CF2-8B8C-4F7A5E375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C0E4-D2DD-4666-859F-C7F996787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F0F9-05CE-4213-A28C-1816C31DB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10E4-2473-4298-BF56-C4F6CADC6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464A-D91B-465C-A9AC-E476CF13A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9805-B324-4261-8A3A-72B053E32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58B4-DC47-4BC7-89A9-1312AA348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D3A2-D01C-4063-9CB9-905F2875E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FB96-5E26-4733-A788-2F896EBFF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73AB-382E-4D41-AC71-E70F4323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5B7F3-B6F3-455D-997D-592E4B7099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16000" y="2420640"/>
            <a:ext cx="6781680" cy="155268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EL BALANCED SCORECARD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322200" y="692280"/>
          <a:ext cx="8496360" cy="5335560"/>
        </p:xfrm>
        <a:graphic>
          <a:graphicData uri="http://schemas.openxmlformats.org/drawingml/2006/table">
            <a:tbl>
              <a:tblPr/>
              <a:tblGrid>
                <a:gridCol w="1368360"/>
                <a:gridCol w="7128000"/>
              </a:tblGrid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PECTIV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RATEGI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PECTIVA FINANCIERA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PECTIVA DEL CLIENTE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PECTIVA INTERNA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PECTIVA DE APRENDIZAJE Y CRECIMIENTO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"/>
          <p:cNvSpPr/>
          <p:nvPr/>
        </p:nvSpPr>
        <p:spPr>
          <a:xfrm>
            <a:off x="1763640" y="92088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ROCE: Return on capital employ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1365120"/>
            <a:ext cx="1297080" cy="63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RECIMIENTO RENT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RO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299280" y="1352520"/>
            <a:ext cx="129708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CREMENTO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RODUCTIVID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906560" y="2306520"/>
            <a:ext cx="100800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REAR IMAGEN DE MAR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201840" y="2289240"/>
            <a:ext cx="108108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DISEÑO DE MO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364000" y="2289240"/>
            <a:ext cx="100836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ALIDAD AJUSTE CONSTAN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43640" y="2289240"/>
            <a:ext cx="10080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REDUCCION DE COS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2200" y="316080"/>
            <a:ext cx="8496360" cy="337320"/>
          </a:xfrm>
          <a:prstGeom prst="rect">
            <a:avLst/>
          </a:prstGeom>
          <a:gradFill rotWithShape="0">
            <a:gsLst>
              <a:gs pos="0">
                <a:srgbClr val="473424"/>
              </a:gs>
              <a:gs pos="50000">
                <a:srgbClr val="9c7150">
                  <a:alpha val="0"/>
                </a:srgbClr>
              </a:gs>
              <a:gs pos="100000">
                <a:srgbClr val="473424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EJEMPLO: MAPA DE BSC DE UN FABRICANTE DE RO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667640" y="2289240"/>
            <a:ext cx="107964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ST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DECU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835280" y="2908440"/>
            <a:ext cx="100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MAG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211640" y="2862360"/>
            <a:ext cx="165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RODUCTO  ACERT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596360" y="2908440"/>
            <a:ext cx="122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DISPONIBILID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5148360" y="1700280"/>
            <a:ext cx="0" cy="58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4858920" y="1700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354560" y="2289240"/>
            <a:ext cx="936720" cy="47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RECIO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BENEFIC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698920" y="178452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698920" y="17845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7883640" y="1700280"/>
            <a:ext cx="1440" cy="58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7667640" y="1700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3640" y="3602160"/>
            <a:ext cx="107964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AMPAÑA PUBLICITAR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MAG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914560" y="3602160"/>
            <a:ext cx="93672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MEJORAR PROCESO DE DISEÑ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227640" y="3586320"/>
            <a:ext cx="115272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RAS DE ESC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523280" y="3586320"/>
            <a:ext cx="122400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DESARROLLO DE PROVEEDO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003640" y="3586320"/>
            <a:ext cx="115092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MEJORAR SISTEMA DE CALID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6083280" y="29368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6948360" y="29368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22560" y="3602160"/>
            <a:ext cx="100836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MEJORAR SISTEMA DE COS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427640" y="28656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2698920" y="28656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3635280" y="28656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635280" y="34416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780000" y="5168880"/>
            <a:ext cx="1223640" cy="39852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DESARROLLO COMPETENCIA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266920" y="4305240"/>
            <a:ext cx="32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XCELENCIA EN PRODUC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227640" y="4276800"/>
            <a:ext cx="251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XCELENCIA EN COMPR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724360" y="170028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4356000" y="49528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3564000" y="45208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195640" y="5168880"/>
            <a:ext cx="1224000" cy="39852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LINEACIÓN DE OBJETIV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291280" y="5186520"/>
            <a:ext cx="1224000" cy="55080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SISTEMA DE EVALUACION DE PERSON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804000" y="5178600"/>
            <a:ext cx="1655640" cy="55080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SISTEMA DE REMUNERACION POR DESEMPEÑ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771640" y="5818320"/>
            <a:ext cx="187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DESEMPEÑO ESTRATEG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867280" y="5818320"/>
            <a:ext cx="187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MOTIVACION DE PERS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7307280" y="1928880"/>
            <a:ext cx="0" cy="32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4930560" y="200016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7307280" y="17841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2340000" y="142416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40000" y="142416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987640" y="25034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515280" y="54561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5722920" y="29365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5722920" y="1699920"/>
            <a:ext cx="1440" cy="58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8099280" y="31525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6948000" y="31528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8388360" y="27925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4356000" y="45190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3564000" y="495288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356000" y="495288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5291280" y="430344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5867280" y="430344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543960" y="333360"/>
            <a:ext cx="57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"/>
              </a:rPr>
              <a:t>Ejemplo: Empresa Servicios Voz y D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7" name=""/>
          <p:cNvCxnSpPr>
            <a:stCxn id="268" idx="1"/>
            <a:endCxn id="269" idx="3"/>
          </p:cNvCxnSpPr>
          <p:nvPr/>
        </p:nvCxnSpPr>
        <p:spPr>
          <a:xfrm flipV="1" rot="16200000">
            <a:off x="3477960" y="1398240"/>
            <a:ext cx="1953000" cy="3270960"/>
          </a:xfrm>
          <a:prstGeom prst="curvedConnector2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70" name=""/>
          <p:cNvCxnSpPr>
            <a:stCxn id="271" idx="0"/>
            <a:endCxn id="272" idx="3"/>
          </p:cNvCxnSpPr>
          <p:nvPr/>
        </p:nvCxnSpPr>
        <p:spPr>
          <a:xfrm flipH="1" flipV="1" rot="5400000">
            <a:off x="7580520" y="3015000"/>
            <a:ext cx="2059920" cy="153000"/>
          </a:xfrm>
          <a:prstGeom prst="curvedConnector5">
            <a:avLst>
              <a:gd name="adj1" fmla="val 45166"/>
              <a:gd name="adj2" fmla="val 125000"/>
              <a:gd name="adj3" fmla="val 45166"/>
            </a:avLst>
          </a:prstGeom>
          <a:ln w="25560">
            <a:solidFill>
              <a:srgbClr val="ff9900"/>
            </a:solidFill>
            <a:miter/>
            <a:tailEnd len="med" type="stealth" w="med"/>
          </a:ln>
        </p:spPr>
      </p:cxnSp>
      <p:cxnSp>
        <p:nvCxnSpPr>
          <p:cNvPr id="273" name=""/>
          <p:cNvCxnSpPr/>
          <p:nvPr/>
        </p:nvCxnSpPr>
        <p:spPr>
          <a:xfrm flipH="1" flipV="1" rot="5400000">
            <a:off x="17280" y="2934720"/>
            <a:ext cx="1803960" cy="162720"/>
          </a:xfrm>
          <a:prstGeom prst="curvedConnector2">
            <a:avLst/>
          </a:prstGeom>
          <a:ln w="31680">
            <a:solidFill>
              <a:srgbClr val="00ffff"/>
            </a:solidFill>
            <a:miter/>
            <a:tailEnd len="med" type="triangle" w="sm"/>
          </a:ln>
        </p:spPr>
      </p:cxnSp>
      <p:cxnSp>
        <p:nvCxnSpPr>
          <p:cNvPr id="274" name=""/>
          <p:cNvCxnSpPr/>
          <p:nvPr/>
        </p:nvCxnSpPr>
        <p:spPr>
          <a:xfrm flipH="1" flipV="1" rot="5400000">
            <a:off x="2587320" y="2421720"/>
            <a:ext cx="1678680" cy="1367640"/>
          </a:xfrm>
          <a:prstGeom prst="curvedConnector5">
            <a:avLst>
              <a:gd name="adj1" fmla="val 47490"/>
              <a:gd name="adj2" fmla="val 50000"/>
              <a:gd name="adj3" fmla="val 47490"/>
            </a:avLst>
          </a:prstGeom>
          <a:ln w="3816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275" name=""/>
          <p:cNvCxnSpPr/>
          <p:nvPr/>
        </p:nvCxnSpPr>
        <p:spPr>
          <a:xfrm flipV="1">
            <a:off x="2057040" y="2037600"/>
            <a:ext cx="1816920" cy="2181960"/>
          </a:xfrm>
          <a:prstGeom prst="curvedConnector5">
            <a:avLst>
              <a:gd name="adj1" fmla="val 58997"/>
              <a:gd name="adj2" fmla="val 50000"/>
              <a:gd name="adj3" fmla="val 58997"/>
            </a:avLst>
          </a:prstGeom>
          <a:ln w="31680">
            <a:solidFill>
              <a:srgbClr val="00ffff"/>
            </a:solidFill>
            <a:miter/>
            <a:tailEnd len="med" type="triangle" w="sm"/>
          </a:ln>
        </p:spPr>
      </p:cxnSp>
      <p:sp>
        <p:nvSpPr>
          <p:cNvPr id="276" name=""/>
          <p:cNvSpPr/>
          <p:nvPr/>
        </p:nvSpPr>
        <p:spPr>
          <a:xfrm>
            <a:off x="152280" y="3505320"/>
            <a:ext cx="533520" cy="166680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16200000">
            <a:off x="-136800" y="4111920"/>
            <a:ext cx="1063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rocesos Intern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7596360" y="5229360"/>
            <a:ext cx="0" cy="304560"/>
          </a:xfrm>
          <a:prstGeom prst="line">
            <a:avLst/>
          </a:prstGeom>
          <a:ln w="22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2195640" y="5229360"/>
            <a:ext cx="0" cy="304560"/>
          </a:xfrm>
          <a:prstGeom prst="line">
            <a:avLst/>
          </a:prstGeom>
          <a:ln w="22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4648320" y="5211360"/>
            <a:ext cx="0" cy="304920"/>
          </a:xfrm>
          <a:prstGeom prst="line">
            <a:avLst/>
          </a:prstGeom>
          <a:ln w="22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52280" y="5516640"/>
            <a:ext cx="533520" cy="1295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 rot="16200000">
            <a:off x="-324000" y="5916240"/>
            <a:ext cx="1411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Aprendizaje Organizac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9840" y="5657760"/>
            <a:ext cx="1676160" cy="9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5943600"/>
            <a:ext cx="1447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Fomentar cultura de orientación al clien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7467480" y="3561840"/>
            <a:ext cx="0" cy="349560"/>
          </a:xfrm>
          <a:prstGeom prst="line">
            <a:avLst/>
          </a:prstGeom>
          <a:ln w="24120">
            <a:solidFill>
              <a:srgbClr val="99cc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6477120" y="3561840"/>
            <a:ext cx="0" cy="295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2505240" y="3484440"/>
            <a:ext cx="0" cy="52416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1066680" y="3333600"/>
            <a:ext cx="0" cy="457200"/>
          </a:xfrm>
          <a:prstGeom prst="line">
            <a:avLst/>
          </a:prstGeom>
          <a:ln w="31680">
            <a:solidFill>
              <a:srgbClr val="00ffff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181480" y="3451320"/>
            <a:ext cx="0" cy="34920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4371840" y="3462480"/>
            <a:ext cx="0" cy="436320"/>
          </a:xfrm>
          <a:prstGeom prst="line">
            <a:avLst/>
          </a:prstGeom>
          <a:ln w="22320">
            <a:solidFill>
              <a:srgbClr val="ff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990720" y="1771560"/>
            <a:ext cx="1904760" cy="569880"/>
            <a:chOff x="990720" y="1771560"/>
            <a:chExt cx="1904760" cy="569880"/>
          </a:xfrm>
        </p:grpSpPr>
        <p:sp>
          <p:nvSpPr>
            <p:cNvPr id="292" name=""/>
            <p:cNvSpPr/>
            <p:nvPr/>
          </p:nvSpPr>
          <p:spPr>
            <a:xfrm>
              <a:off x="990720" y="1771560"/>
              <a:ext cx="1904760" cy="569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096920" y="1782720"/>
              <a:ext cx="1722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Optimizar la estructura de costos de la mezcla de canal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3809880" y="1752480"/>
            <a:ext cx="1981080" cy="533520"/>
            <a:chOff x="3809880" y="1752480"/>
            <a:chExt cx="1981080" cy="533520"/>
          </a:xfrm>
        </p:grpSpPr>
        <p:sp>
          <p:nvSpPr>
            <p:cNvPr id="294" name=""/>
            <p:cNvSpPr/>
            <p:nvPr/>
          </p:nvSpPr>
          <p:spPr>
            <a:xfrm>
              <a:off x="3886200" y="1752480"/>
              <a:ext cx="190476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809880" y="1827000"/>
              <a:ext cx="1981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Migrar costos fijos a gastos variabl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763560" y="2800440"/>
            <a:ext cx="2419200" cy="6728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38080" y="2895480"/>
            <a:ext cx="236232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crementar la base de clientes de los servicios de voz mediante la combinación de tecnologí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791320" y="5029200"/>
            <a:ext cx="33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ATENCION AL CLIEN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969240" y="3863880"/>
            <a:ext cx="996840" cy="9939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934320" y="4119480"/>
            <a:ext cx="10666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Estimular la atención vía Centros de Llamad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943600" y="3863880"/>
            <a:ext cx="996840" cy="9939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931000" y="4092480"/>
            <a:ext cx="10792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Reducir los tiempos de atención al clien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999240" y="4983120"/>
            <a:ext cx="1291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VENTAS DIRECTAS</a:t>
            </a:r>
            <a:r>
              <a:rPr b="1" lang="es-ES_tradnl" sz="9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645000" y="3886200"/>
            <a:ext cx="1085760" cy="7840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836960" y="3809880"/>
            <a:ext cx="993960" cy="10540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800600" y="3965400"/>
            <a:ext cx="10666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Comercializar nuevos productos y servici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172200" y="5638680"/>
            <a:ext cx="2787480" cy="765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172200" y="5867280"/>
            <a:ext cx="274320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Actualizar permanentemente  las capacidades de atención, ventas y de negoci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219320" y="5638680"/>
            <a:ext cx="1981080" cy="689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600200" y="5791320"/>
            <a:ext cx="13874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Mejorar la motiv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del person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4933800"/>
            <a:ext cx="2438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VENTAS A TRAVÉS DE TERCEROS</a:t>
            </a:r>
            <a:r>
              <a:rPr b="1" lang="es-ES_tradnl" sz="9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286000" y="3924360"/>
            <a:ext cx="1025640" cy="9334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371680" y="4003560"/>
            <a:ext cx="85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Agilizar Procesos Pagos de comisio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43040" y="3701880"/>
            <a:ext cx="1314360" cy="10875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06400" y="3857760"/>
            <a:ext cx="11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Procesos rápidos para realizar la ventas a través de AA y CD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52280" y="2544840"/>
            <a:ext cx="533520" cy="9903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rot="16200000">
            <a:off x="-4320" y="2930400"/>
            <a:ext cx="91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lien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52280" y="1649520"/>
            <a:ext cx="533520" cy="8953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-13680" y="193356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Financi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6629400" y="1789200"/>
            <a:ext cx="2057040" cy="533160"/>
            <a:chOff x="6629400" y="1789200"/>
            <a:chExt cx="2057040" cy="533160"/>
          </a:xfrm>
        </p:grpSpPr>
        <p:sp>
          <p:nvSpPr>
            <p:cNvPr id="320" name=""/>
            <p:cNvSpPr/>
            <p:nvPr/>
          </p:nvSpPr>
          <p:spPr>
            <a:xfrm>
              <a:off x="6708600" y="1789200"/>
              <a:ext cx="1977840" cy="533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629400" y="1863360"/>
              <a:ext cx="20570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Garantizar e incrementar los ingresos de la unida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29000" y="2819520"/>
            <a:ext cx="2419200" cy="707760"/>
            <a:chOff x="3429000" y="2819520"/>
            <a:chExt cx="2419200" cy="707760"/>
          </a:xfrm>
        </p:grpSpPr>
        <p:sp>
          <p:nvSpPr>
            <p:cNvPr id="322" name=""/>
            <p:cNvSpPr/>
            <p:nvPr/>
          </p:nvSpPr>
          <p:spPr>
            <a:xfrm>
              <a:off x="3429000" y="2819520"/>
              <a:ext cx="2419200" cy="672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57440" y="2886120"/>
              <a:ext cx="23623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crementar la penetración de los servicios de datos y de valor agregado, sobre la base de los clientes actual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6324480" y="2800440"/>
            <a:ext cx="2419560" cy="672840"/>
            <a:chOff x="6324480" y="2800440"/>
            <a:chExt cx="2419560" cy="672840"/>
          </a:xfrm>
        </p:grpSpPr>
        <p:sp>
          <p:nvSpPr>
            <p:cNvPr id="325" name=""/>
            <p:cNvSpPr/>
            <p:nvPr/>
          </p:nvSpPr>
          <p:spPr>
            <a:xfrm>
              <a:off x="6324480" y="2800440"/>
              <a:ext cx="2419560" cy="672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353280" y="2886120"/>
              <a:ext cx="2361960" cy="50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Aumentar la satisfacción y conocimiento de los clientes y mercados potencial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8035920" y="3930480"/>
            <a:ext cx="996840" cy="9939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001000" y="4121280"/>
            <a:ext cx="10666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Obtención sistematizada de opinión del  clien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8" name=""/>
          <p:cNvCxnSpPr>
            <a:stCxn id="304" idx="1"/>
            <a:endCxn id="296" idx="4"/>
          </p:cNvCxnSpPr>
          <p:nvPr/>
        </p:nvCxnSpPr>
        <p:spPr>
          <a:xfrm flipV="1" rot="16200000">
            <a:off x="3232080" y="2212920"/>
            <a:ext cx="491400" cy="3010680"/>
          </a:xfrm>
          <a:prstGeom prst="curvedConnector5">
            <a:avLst>
              <a:gd name="adj1" fmla="val 65689"/>
              <a:gd name="adj2" fmla="val 50000"/>
              <a:gd name="adj3" fmla="val 65689"/>
            </a:avLst>
          </a:prstGeom>
          <a:ln w="255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329" name=""/>
          <p:cNvCxnSpPr>
            <a:stCxn id="296" idx="0"/>
            <a:endCxn id="320" idx="3"/>
          </p:cNvCxnSpPr>
          <p:nvPr/>
        </p:nvCxnSpPr>
        <p:spPr>
          <a:xfrm flipH="1" flipV="1" rot="5400000">
            <a:off x="4206960" y="9720"/>
            <a:ext cx="556560" cy="5025240"/>
          </a:xfrm>
          <a:prstGeom prst="curvedConnector5">
            <a:avLst>
              <a:gd name="adj1" fmla="val 42847"/>
              <a:gd name="adj2" fmla="val 50000"/>
              <a:gd name="adj3" fmla="val 4284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0" name=""/>
          <p:cNvCxnSpPr>
            <a:stCxn id="322" idx="7"/>
            <a:endCxn id="320" idx="4"/>
          </p:cNvCxnSpPr>
          <p:nvPr/>
        </p:nvCxnSpPr>
        <p:spPr>
          <a:xfrm flipH="1" flipV="1" rot="5400000">
            <a:off x="6297840" y="1517760"/>
            <a:ext cx="596160" cy="2204280"/>
          </a:xfrm>
          <a:prstGeom prst="curvedConnector5">
            <a:avLst>
              <a:gd name="adj1" fmla="val 58126"/>
              <a:gd name="adj2" fmla="val 50000"/>
              <a:gd name="adj3" fmla="val 58126"/>
            </a:avLst>
          </a:prstGeom>
          <a:ln w="255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331" name=""/>
          <p:cNvCxnSpPr>
            <a:stCxn id="325" idx="7"/>
            <a:endCxn id="320" idx="5"/>
          </p:cNvCxnSpPr>
          <p:nvPr/>
        </p:nvCxnSpPr>
        <p:spPr>
          <a:xfrm flipV="1">
            <a:off x="8389800" y="2243880"/>
            <a:ext cx="8640" cy="6548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32" name=""/>
          <p:cNvSpPr/>
          <p:nvPr/>
        </p:nvSpPr>
        <p:spPr>
          <a:xfrm>
            <a:off x="3657600" y="4038480"/>
            <a:ext cx="106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Simplificar los procesos de ven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715000" y="6095880"/>
            <a:ext cx="3808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3276720" y="6095880"/>
            <a:ext cx="4572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jemplo: Hos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2362320" y="1523880"/>
            <a:ext cx="3962160" cy="1332720"/>
            <a:chOff x="2362320" y="1523880"/>
            <a:chExt cx="3962160" cy="1332720"/>
          </a:xfrm>
        </p:grpSpPr>
        <p:sp>
          <p:nvSpPr>
            <p:cNvPr id="337" name=""/>
            <p:cNvSpPr/>
            <p:nvPr/>
          </p:nvSpPr>
          <p:spPr>
            <a:xfrm>
              <a:off x="2362320" y="1523880"/>
              <a:ext cx="3962160" cy="1218960"/>
            </a:xfrm>
            <a:prstGeom prst="rect">
              <a:avLst/>
            </a:prstGeom>
            <a:solidFill>
              <a:srgbClr val="ff99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362320" y="1599840"/>
              <a:ext cx="3962160" cy="125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P. FINANCIER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6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Reducción Cost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6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Reducir tasa de readmisio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6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Incrementar el valor de las horas trabajad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2514600" y="4724280"/>
            <a:ext cx="3733560" cy="1828800"/>
            <a:chOff x="2514600" y="4724280"/>
            <a:chExt cx="3733560" cy="1828800"/>
          </a:xfrm>
        </p:grpSpPr>
        <p:sp>
          <p:nvSpPr>
            <p:cNvPr id="340" name=""/>
            <p:cNvSpPr/>
            <p:nvPr/>
          </p:nvSpPr>
          <p:spPr>
            <a:xfrm>
              <a:off x="2514600" y="4724280"/>
              <a:ext cx="3733560" cy="1828800"/>
            </a:xfrm>
            <a:prstGeom prst="rect">
              <a:avLst/>
            </a:prstGeom>
            <a:solidFill>
              <a:srgbClr val="3333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590560" y="4800600"/>
              <a:ext cx="3581640" cy="170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P. APRENDIZAJ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6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Incrementar equipos de Mejoramiento continuo de la calidad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6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Incrementar habilidades de equipo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6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Encontrar oportunidades para fortalecer procesos clav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6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Reducir nº pasos en procesos cla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5867280" y="3048120"/>
            <a:ext cx="3124080" cy="1447560"/>
            <a:chOff x="5867280" y="3048120"/>
            <a:chExt cx="3124080" cy="1447560"/>
          </a:xfrm>
        </p:grpSpPr>
        <p:sp>
          <p:nvSpPr>
            <p:cNvPr id="343" name=""/>
            <p:cNvSpPr/>
            <p:nvPr/>
          </p:nvSpPr>
          <p:spPr>
            <a:xfrm>
              <a:off x="5867280" y="3048120"/>
              <a:ext cx="3047760" cy="1447560"/>
            </a:xfrm>
            <a:prstGeom prst="rect">
              <a:avLst/>
            </a:prstGeom>
            <a:solidFill>
              <a:srgbClr val="ea280e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867280" y="3124080"/>
              <a:ext cx="3124080" cy="127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PROCESOS INTERN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6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Mejorar predicción de resultado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6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Reducir eventos adverso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6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Reducir tiempo de estadía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6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Mejorar control de síntoma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304920" y="2971800"/>
            <a:ext cx="2590560" cy="1531800"/>
            <a:chOff x="304920" y="2971800"/>
            <a:chExt cx="2590560" cy="1531800"/>
          </a:xfrm>
        </p:grpSpPr>
        <p:sp>
          <p:nvSpPr>
            <p:cNvPr id="346" name=""/>
            <p:cNvSpPr/>
            <p:nvPr/>
          </p:nvSpPr>
          <p:spPr>
            <a:xfrm>
              <a:off x="304920" y="2971800"/>
              <a:ext cx="2590560" cy="1523880"/>
            </a:xfrm>
            <a:prstGeom prst="rect">
              <a:avLst/>
            </a:prstGeom>
            <a:solidFill>
              <a:srgbClr val="0033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04920" y="3033720"/>
              <a:ext cx="2514600" cy="14698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P. DEL CLIEN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6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Satisfacción del client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6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Contraer metas mutua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6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Aumentar compromiso paciente/familia en toma de decisiones y tratamient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3657600" y="3124080"/>
            <a:ext cx="1523880" cy="121932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1260360" y="692280"/>
            <a:ext cx="6481800" cy="33732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EL PLAN PARA OPERAR  EL B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84360" y="2359080"/>
            <a:ext cx="1800000" cy="127080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Declaración del destino estratégic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MISION, VISION, OBJETIVOS ESTRATEGIC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629080" y="3006720"/>
            <a:ext cx="1800000" cy="94644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Elaboración del MAPA ESTRATEGICO y las RU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572000" y="3583080"/>
            <a:ext cx="1800360" cy="17989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Determinación de OBJETIVOS, INDICADORES METAS E INICIATIVAS  para cada estrategia integrante de cada perspecti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516720" y="4564080"/>
            <a:ext cx="1800360" cy="94644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Generación de INICIATIVAS para alcanzar cada una de las me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549440" y="3645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549440" y="429264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3421080" y="4005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708360" y="400536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708360" y="573408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5365800" y="537480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651640" y="5373720"/>
            <a:ext cx="144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651640" y="580536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7380360" y="5516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7380360" y="321264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5653080" y="3213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653080" y="321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5292720" y="2636640"/>
            <a:ext cx="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3708000" y="263700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708360" y="26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3349800" y="198864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1549080" y="198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549440" y="198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3203640" y="765000"/>
            <a:ext cx="2519280" cy="576360"/>
          </a:xfrm>
          <a:prstGeom prst="rect">
            <a:avLst/>
          </a:prstGeom>
          <a:solidFill>
            <a:srgbClr val="c7b1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vantGarde Bk BT"/>
              </a:rPr>
              <a:t>Corpor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203640" y="2198520"/>
            <a:ext cx="64764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U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211640" y="2198520"/>
            <a:ext cx="64764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U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148360" y="2198520"/>
            <a:ext cx="64764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U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201840" y="2847960"/>
            <a:ext cx="649440" cy="1727280"/>
          </a:xfrm>
          <a:prstGeom prst="rect">
            <a:avLst/>
          </a:prstGeom>
          <a:solidFill>
            <a:srgbClr val="c7b1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210200" y="2847960"/>
            <a:ext cx="649080" cy="1727280"/>
          </a:xfrm>
          <a:prstGeom prst="rect">
            <a:avLst/>
          </a:prstGeom>
          <a:solidFill>
            <a:srgbClr val="c7b1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146560" y="2847960"/>
            <a:ext cx="649440" cy="1727280"/>
          </a:xfrm>
          <a:prstGeom prst="rect">
            <a:avLst/>
          </a:prstGeom>
          <a:solidFill>
            <a:srgbClr val="c7b1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484360" y="3284640"/>
            <a:ext cx="4032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Funciones de Sopo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3562200" y="1341360"/>
            <a:ext cx="1873080" cy="856800"/>
            <a:chOff x="3562200" y="1341360"/>
            <a:chExt cx="1873080" cy="856800"/>
          </a:xfrm>
        </p:grpSpPr>
        <p:sp>
          <p:nvSpPr>
            <p:cNvPr id="381" name=""/>
            <p:cNvSpPr/>
            <p:nvPr/>
          </p:nvSpPr>
          <p:spPr>
            <a:xfrm>
              <a:off x="3562200" y="1875960"/>
              <a:ext cx="1873080" cy="0"/>
            </a:xfrm>
            <a:prstGeom prst="line">
              <a:avLst/>
            </a:prstGeom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498560" y="1341360"/>
              <a:ext cx="0" cy="856800"/>
            </a:xfrm>
            <a:prstGeom prst="line">
              <a:avLst/>
            </a:prstGeom>
            <a:ln w="93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562200" y="1875960"/>
              <a:ext cx="0" cy="321840"/>
            </a:xfrm>
            <a:prstGeom prst="line">
              <a:avLst/>
            </a:prstGeom>
            <a:ln w="93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435280" y="1875960"/>
              <a:ext cx="0" cy="321840"/>
            </a:xfrm>
            <a:prstGeom prst="line">
              <a:avLst/>
            </a:prstGeom>
            <a:ln w="93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6227640" y="692280"/>
            <a:ext cx="230364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El BSC CORPORATIVO define las estrategias y los objetivos estratégic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724360" y="1052640"/>
            <a:ext cx="432000" cy="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9440" y="2133720"/>
            <a:ext cx="230328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Cada Unidad Estratégica de Negocio elabora  su BSC en forma consistente con el BSC CORPORATIV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796000" y="2565360"/>
            <a:ext cx="431640" cy="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4508640"/>
            <a:ext cx="2303640" cy="100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Cada  Area y Departamento de la empresa elabora su BSC en forma consistente con el BSC de la Unidad de Negocio a la que pertene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796000" y="4149720"/>
            <a:ext cx="1655640" cy="0"/>
          </a:xfrm>
          <a:prstGeom prst="line">
            <a:avLst/>
          </a:prstGeom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451640" y="4149720"/>
            <a:ext cx="0" cy="36036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39640" y="4508640"/>
            <a:ext cx="2303640" cy="11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Cada  Unidad de Soporte elabora su BSC en forma consistente con el BSC CORPORATIVO y el BSC de las Unidades Estratégicas a las que apoy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332000" y="4149720"/>
            <a:ext cx="1871640" cy="0"/>
          </a:xfrm>
          <a:prstGeom prst="line">
            <a:avLst/>
          </a:prstGeom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332000" y="4149720"/>
            <a:ext cx="0" cy="36036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22040" y="534600"/>
            <a:ext cx="726444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99"/>
                </a:solidFill>
                <a:latin typeface="Arial"/>
              </a:rPr>
              <a:t>Medición de la estrate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685800" y="2209680"/>
            <a:ext cx="8077320" cy="3340800"/>
            <a:chOff x="685800" y="2209680"/>
            <a:chExt cx="8077320" cy="3340800"/>
          </a:xfrm>
        </p:grpSpPr>
        <p:sp>
          <p:nvSpPr>
            <p:cNvPr id="397" name=""/>
            <p:cNvSpPr/>
            <p:nvPr/>
          </p:nvSpPr>
          <p:spPr>
            <a:xfrm>
              <a:off x="762120" y="2514600"/>
              <a:ext cx="1752480" cy="1143000"/>
            </a:xfrm>
            <a:custGeom>
              <a:avLst/>
              <a:gdLst>
                <a:gd name="textAreaLeft" fmla="*/ 0 w 1752480"/>
                <a:gd name="textAreaRight" fmla="*/ 1752840 w 1752480"/>
                <a:gd name="textAreaTop" fmla="*/ 0 h 1143000"/>
                <a:gd name="textAreaBottom" fmla="*/ 114336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666880" y="2362320"/>
              <a:ext cx="3124440" cy="1447560"/>
            </a:xfrm>
            <a:custGeom>
              <a:avLst/>
              <a:gdLst>
                <a:gd name="textAreaLeft" fmla="*/ 0 w 3124440"/>
                <a:gd name="textAreaRight" fmla="*/ 3124800 w 3124440"/>
                <a:gd name="textAreaTop" fmla="*/ 0 h 1447560"/>
                <a:gd name="textAreaBottom" fmla="*/ 1447920 h 144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638680" y="2209680"/>
              <a:ext cx="3124440" cy="1752840"/>
            </a:xfrm>
            <a:custGeom>
              <a:avLst/>
              <a:gdLst>
                <a:gd name="textAreaLeft" fmla="*/ 0 w 3124440"/>
                <a:gd name="textAreaRight" fmla="*/ 3124800 w 3124440"/>
                <a:gd name="textAreaTop" fmla="*/ 0 h 1752840"/>
                <a:gd name="textAreaBottom" fmla="*/ 1753200 h 175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85800" y="281952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333399"/>
                  </a:solidFill>
                  <a:latin typeface="Arial"/>
                </a:rPr>
                <a:t>Vis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124080" y="2606760"/>
              <a:ext cx="2590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Objetivos estratégic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95880" y="2682720"/>
              <a:ext cx="2590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ffff"/>
                  </a:solidFill>
                  <a:latin typeface="Arial"/>
                </a:rPr>
                <a:t>Indicadores y Medicion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85800" y="4359240"/>
              <a:ext cx="8001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333399"/>
                  </a:solidFill>
                  <a:latin typeface="Arial"/>
                </a:rPr>
                <a:t>BSC traduce la Visión y objetivos estratégicos en indicadores/mediciones del desempeño de la organiz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"/>
          <p:cNvSpPr/>
          <p:nvPr/>
        </p:nvSpPr>
        <p:spPr>
          <a:xfrm>
            <a:off x="762120" y="57913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DE LAS IDEAS A LA IMPLEMENT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8000"/>
                </a:solidFill>
                <a:latin typeface="Arial"/>
              </a:rPr>
              <a:t>Indica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11280" y="119700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on expresiones cualitativas o cuantitativas que sirven para medir el avance o logro de una actividad, en un periodo determin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racterísticas de los indica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f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terpre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fic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rtin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depend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ajo co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Arial"/>
              </a:rPr>
              <a:t>Indicadores o medidas blan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on indicadores que se usan para medir el logro de objetivos que son por naturaleza un tanto intangibles e imprecisos y que es inevitable el uso de juicio de val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expresan en una escala de naturaleza cualitati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441360"/>
            <a:ext cx="82296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Arial"/>
              </a:rPr>
              <a:t>Medidas blan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9840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magen corporati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atisfacción del cli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lima organizaci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iesgo polít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tivación pers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ivel de competencias.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66092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lidad de servic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pital intelect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ideraz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lidad ambien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unicación intra-organizaci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promiso geren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84360" y="4869000"/>
            <a:ext cx="769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9999"/>
                </a:solidFill>
                <a:latin typeface="Arial"/>
              </a:rPr>
              <a:t>Se caracterizan por ser indicadores compuestos, no estructurados y es inevitable el Juicio de Val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298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l BSC como sistema de gest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BSC pone énfasis que los indicadores financieros y no financieros deben formar parte del sistema de información para los empleados, en todos los nive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clarar y traducir la visión y la estrateg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unicar y vincular los objetivos e indicadores estratég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lanificar, establecer objetivos y alinear las iniciativas estratég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umentar el feedback y formación estratég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26960"/>
            <a:ext cx="822960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99"/>
                </a:solidFill>
                <a:latin typeface="Arial"/>
              </a:rPr>
              <a:t>Obstáculos para la Implement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250920" y="1197000"/>
            <a:ext cx="8533800" cy="5105520"/>
            <a:chOff x="250920" y="1197000"/>
            <a:chExt cx="8533800" cy="5105520"/>
          </a:xfrm>
        </p:grpSpPr>
        <p:sp>
          <p:nvSpPr>
            <p:cNvPr id="417" name=""/>
            <p:cNvSpPr/>
            <p:nvPr/>
          </p:nvSpPr>
          <p:spPr>
            <a:xfrm>
              <a:off x="479160" y="1501920"/>
              <a:ext cx="3504960" cy="5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Errores en la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comunic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de la vis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07760" y="2797200"/>
              <a:ext cx="3504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Los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gerentes no se involucran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 en la implement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936360" y="4092480"/>
              <a:ext cx="3504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Los planes estratégicos no incorporan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presupuestos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 para la implement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936360" y="5388120"/>
              <a:ext cx="3504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Los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incentivos al personal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 no están diseñados para apoyar la estrateg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279760" y="1469880"/>
              <a:ext cx="3504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Gran parte de los empleados no conoce, o no comprende la estrateg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203800" y="2733840"/>
              <a:ext cx="3504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Los directivos le dedican menos de una hora mensual a discutir estrategi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279760" y="3984480"/>
              <a:ext cx="3504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Parte importante de las empresas no vincula los presupuestos a la estrateg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203800" y="5416560"/>
              <a:ext cx="3504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Las empresas habitualmente no tienen incentivos relacionados a la estrateg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50920" y="1197000"/>
              <a:ext cx="4419360" cy="1219320"/>
            </a:xfrm>
            <a:custGeom>
              <a:avLst/>
              <a:gdLst>
                <a:gd name="textAreaLeft" fmla="*/ 690480 w 4419360"/>
                <a:gd name="textAreaRight" fmla="*/ 3867120 w 4419360"/>
                <a:gd name="textAreaTop" fmla="*/ 304920 h 1219320"/>
                <a:gd name="textAreaBottom" fmla="*/ 91476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50920" y="2492280"/>
              <a:ext cx="4419360" cy="1219320"/>
            </a:xfrm>
            <a:custGeom>
              <a:avLst/>
              <a:gdLst>
                <a:gd name="textAreaLeft" fmla="*/ 690480 w 4419360"/>
                <a:gd name="textAreaRight" fmla="*/ 3867120 w 4419360"/>
                <a:gd name="textAreaTop" fmla="*/ 304920 h 1219320"/>
                <a:gd name="textAreaBottom" fmla="*/ 91476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50920" y="5083200"/>
              <a:ext cx="4419360" cy="1219320"/>
            </a:xfrm>
            <a:custGeom>
              <a:avLst/>
              <a:gdLst>
                <a:gd name="textAreaLeft" fmla="*/ 690480 w 4419360"/>
                <a:gd name="textAreaRight" fmla="*/ 3867120 w 4419360"/>
                <a:gd name="textAreaTop" fmla="*/ 304920 h 1219320"/>
                <a:gd name="textAreaBottom" fmla="*/ 91476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50920" y="3787920"/>
              <a:ext cx="4419360" cy="1218960"/>
            </a:xfrm>
            <a:custGeom>
              <a:avLst/>
              <a:gdLst>
                <a:gd name="textAreaLeft" fmla="*/ 690480 w 4419360"/>
                <a:gd name="textAreaRight" fmla="*/ 3867120 w 4419360"/>
                <a:gd name="textAreaTop" fmla="*/ 304560 h 1218960"/>
                <a:gd name="textAreaBottom" fmla="*/ 91440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127480" y="1425600"/>
              <a:ext cx="3657240" cy="83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127480" y="3940200"/>
              <a:ext cx="3657240" cy="83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127480" y="2720880"/>
              <a:ext cx="3657240" cy="838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127480" y="5311800"/>
              <a:ext cx="3657240" cy="83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754560" y="455760"/>
            <a:ext cx="731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8000"/>
                </a:solidFill>
                <a:latin typeface="Arial"/>
              </a:rPr>
              <a:t>Recomendaciones para la Implan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11280" y="1413000"/>
            <a:ext cx="784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ntar con el compromiso de la Alta Ger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nsiderar el tiempo para el aprendiz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uficiente claridad conceptual del equipo de tra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conocer que es un sistema de aprendizaje diná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ntender que el Control no es el fin del CMI y que tampoco es una simple tabla de indicador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4460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9999"/>
                </a:solidFill>
                <a:latin typeface="Arial"/>
              </a:rPr>
              <a:t>¿Cómo se expresa un Balanced Scorecar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79059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ff"/>
                </a:solidFill>
                <a:latin typeface="Arial"/>
              </a:rPr>
              <a:t>Mapa de relaciones causale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que conectan las 4 perspectiv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ff"/>
                </a:solidFill>
                <a:latin typeface="Arial"/>
              </a:rPr>
              <a:t>Tablero balancead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e objetivos, mediciones/indicadores, metas, iniciativ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0160" y="498600"/>
            <a:ext cx="582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8000"/>
                </a:solidFill>
                <a:latin typeface="Arial"/>
              </a:rPr>
              <a:t>Base Conceptual de la Metodolog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0" y="20574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Objetivo Estraté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34120" y="5410080"/>
            <a:ext cx="457200" cy="45720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72200" y="5410080"/>
            <a:ext cx="457200" cy="45720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715000" y="449568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7800" y="3733920"/>
            <a:ext cx="457200" cy="457200"/>
          </a:xfrm>
          <a:prstGeom prst="flowChartConnector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248520" y="2971800"/>
            <a:ext cx="457200" cy="45720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181480" y="2971800"/>
            <a:ext cx="457200" cy="45720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248520" y="3733920"/>
            <a:ext cx="457200" cy="457200"/>
          </a:xfrm>
          <a:prstGeom prst="flowChartConnector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5638680" y="49528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6019920" y="495288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6095880" y="411480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5508360" y="4149360"/>
            <a:ext cx="282600" cy="42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410080" y="3428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6477120" y="3428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5943600" y="25146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5410080" y="25146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1979640" y="2895480"/>
            <a:ext cx="2087640" cy="3048120"/>
            <a:chOff x="1979640" y="2895480"/>
            <a:chExt cx="2087640" cy="3048120"/>
          </a:xfrm>
        </p:grpSpPr>
        <p:sp>
          <p:nvSpPr>
            <p:cNvPr id="64" name=""/>
            <p:cNvSpPr/>
            <p:nvPr/>
          </p:nvSpPr>
          <p:spPr>
            <a:xfrm>
              <a:off x="1981080" y="2895480"/>
              <a:ext cx="2086200" cy="3048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200680" y="293544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Accionist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343960" y="3808440"/>
              <a:ext cx="127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lien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327040" y="4570560"/>
              <a:ext cx="145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Proces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56320" y="5256360"/>
              <a:ext cx="195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apacidad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979640" y="4365720"/>
              <a:ext cx="208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79640" y="3573360"/>
              <a:ext cx="208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979640" y="5157720"/>
              <a:ext cx="208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 rot="16200000">
            <a:off x="7079400" y="4101120"/>
            <a:ext cx="16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Causa - Ef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516720" y="450864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88000" y="450864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5076720" y="4941720"/>
            <a:ext cx="287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6516720" y="4941720"/>
            <a:ext cx="2142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5076720" y="4149360"/>
            <a:ext cx="21600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6588000" y="4149360"/>
            <a:ext cx="144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11120"/>
            <a:ext cx="822960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9999"/>
                </a:solidFill>
                <a:latin typeface="Arial"/>
              </a:rPr>
              <a:t>Mapa de relaciones caus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8920" y="1676520"/>
            <a:ext cx="5040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ff"/>
                </a:solidFill>
                <a:latin typeface="Arial"/>
              </a:rPr>
              <a:t>¿Cómo generar mayor rentabilida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siguiendo que los clientes repitan y expandan sus compras, es decir, generar clientes le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ff"/>
                </a:solidFill>
                <a:latin typeface="Arial"/>
              </a:rPr>
              <a:t>¿Cómo generar clientes leal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ándole lo que mas valora, ejemplo entrega oportu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ff"/>
                </a:solidFill>
                <a:latin typeface="Arial"/>
              </a:rPr>
              <a:t>¿Cómo lograr entrega oportun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ejorando el ciclo del proceso y su calidad para evitar reproces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ff"/>
                </a:solidFill>
                <a:latin typeface="Arial"/>
              </a:rPr>
              <a:t>¿Cómo mejorar los procesos intern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trenando a los emple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4522680" y="1219320"/>
            <a:ext cx="4419360" cy="4919400"/>
            <a:chOff x="4522680" y="1219320"/>
            <a:chExt cx="4419360" cy="4919400"/>
          </a:xfrm>
        </p:grpSpPr>
        <p:sp>
          <p:nvSpPr>
            <p:cNvPr id="82" name=""/>
            <p:cNvSpPr/>
            <p:nvPr/>
          </p:nvSpPr>
          <p:spPr>
            <a:xfrm>
              <a:off x="5791320" y="1785960"/>
              <a:ext cx="1447560" cy="533520"/>
            </a:xfrm>
            <a:prstGeom prst="ellipse">
              <a:avLst/>
            </a:prstGeom>
            <a:noFill/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867280" y="182880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333399"/>
                  </a:solidFill>
                  <a:latin typeface="Arial"/>
                </a:rPr>
                <a:t>RO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181480" y="2863800"/>
              <a:ext cx="281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333399"/>
                  </a:solidFill>
                  <a:latin typeface="Arial"/>
                </a:rPr>
                <a:t>Lealtad del clien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62720" y="2743200"/>
              <a:ext cx="1981080" cy="533520"/>
            </a:xfrm>
            <a:prstGeom prst="ellipse">
              <a:avLst/>
            </a:prstGeom>
            <a:noFill/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6553080" y="23194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38400" y="3778200"/>
              <a:ext cx="172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333399"/>
                  </a:solidFill>
                  <a:latin typeface="Arial"/>
                </a:rPr>
                <a:t>Entrega a tiemp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62720" y="3657600"/>
              <a:ext cx="1981080" cy="533520"/>
            </a:xfrm>
            <a:prstGeom prst="ellipse">
              <a:avLst/>
            </a:prstGeom>
            <a:noFill/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6553080" y="33094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274720" y="5607000"/>
              <a:ext cx="257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9999"/>
                  </a:solidFill>
                  <a:latin typeface="Arial"/>
                </a:rPr>
                <a:t>Habilidades de emplead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7800" y="5410080"/>
              <a:ext cx="2666880" cy="728640"/>
            </a:xfrm>
            <a:prstGeom prst="ellipse">
              <a:avLst/>
            </a:prstGeom>
            <a:noFill/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522680" y="4648320"/>
              <a:ext cx="1976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Calidad del proces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315200" y="4648320"/>
              <a:ext cx="162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Ciclo y dur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5486040" y="5062680"/>
              <a:ext cx="6094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5410080" y="4300200"/>
              <a:ext cx="762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flipV="1">
              <a:off x="7086600" y="4300560"/>
              <a:ext cx="9144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7315200" y="4986360"/>
              <a:ext cx="7621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48320" y="1633680"/>
              <a:ext cx="3733560" cy="1828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177240" y="1219320"/>
              <a:ext cx="225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Medidas de resultad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380880" y="380880"/>
            <a:ext cx="8534520" cy="5867640"/>
            <a:chOff x="380880" y="380880"/>
            <a:chExt cx="8534520" cy="5867640"/>
          </a:xfrm>
        </p:grpSpPr>
        <p:sp>
          <p:nvSpPr>
            <p:cNvPr id="101" name=""/>
            <p:cNvSpPr/>
            <p:nvPr/>
          </p:nvSpPr>
          <p:spPr>
            <a:xfrm>
              <a:off x="6781680" y="34290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Proces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781680" y="525780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Aprendizaj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781680" y="20574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Clien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781680" y="53352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Financie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066680" y="5438880"/>
              <a:ext cx="1600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Mejorar Competenci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90720" y="5257800"/>
              <a:ext cx="1752480" cy="9144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3733920" y="5257800"/>
              <a:ext cx="1981080" cy="990720"/>
              <a:chOff x="3733920" y="5257800"/>
              <a:chExt cx="1981080" cy="990720"/>
            </a:xfrm>
          </p:grpSpPr>
          <p:sp>
            <p:nvSpPr>
              <p:cNvPr id="108" name=""/>
              <p:cNvSpPr/>
              <p:nvPr/>
            </p:nvSpPr>
            <p:spPr>
              <a:xfrm>
                <a:off x="3962520" y="5302080"/>
                <a:ext cx="16002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Mejorar Ambiente de Trabaj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733920" y="5257800"/>
                <a:ext cx="1981080" cy="990720"/>
              </a:xfrm>
              <a:prstGeom prst="ellipse">
                <a:avLst/>
              </a:prstGeom>
              <a:noFill/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2514600" y="457200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Productivida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286000" y="4419720"/>
              <a:ext cx="2057400" cy="60948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4419720" y="3352680"/>
              <a:ext cx="1828800" cy="686880"/>
              <a:chOff x="4419720" y="3352680"/>
              <a:chExt cx="1828800" cy="686880"/>
            </a:xfrm>
          </p:grpSpPr>
          <p:sp>
            <p:nvSpPr>
              <p:cNvPr id="113" name=""/>
              <p:cNvSpPr/>
              <p:nvPr/>
            </p:nvSpPr>
            <p:spPr>
              <a:xfrm>
                <a:off x="4572360" y="3396960"/>
                <a:ext cx="1600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66ffff"/>
                    </a:solidFill>
                    <a:latin typeface="Arial"/>
                  </a:rPr>
                  <a:t>Servicio al Client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419720" y="3352680"/>
                <a:ext cx="1828800" cy="685800"/>
              </a:xfrm>
              <a:prstGeom prst="ellipse">
                <a:avLst/>
              </a:prstGeom>
              <a:noFill/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380880" y="3276720"/>
              <a:ext cx="1904760" cy="761760"/>
              <a:chOff x="380880" y="3276720"/>
              <a:chExt cx="1904760" cy="761760"/>
            </a:xfrm>
          </p:grpSpPr>
          <p:sp>
            <p:nvSpPr>
              <p:cNvPr id="116" name=""/>
              <p:cNvSpPr/>
              <p:nvPr/>
            </p:nvSpPr>
            <p:spPr>
              <a:xfrm>
                <a:off x="533160" y="3352680"/>
                <a:ext cx="1600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66ffff"/>
                    </a:solidFill>
                    <a:latin typeface="Arial"/>
                  </a:rPr>
                  <a:t>Necesidades del Client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80880" y="3276720"/>
                <a:ext cx="1904760" cy="761760"/>
              </a:xfrm>
              <a:prstGeom prst="ellipse">
                <a:avLst/>
              </a:prstGeom>
              <a:noFill/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2362320" y="3276720"/>
              <a:ext cx="1981080" cy="761760"/>
              <a:chOff x="2362320" y="3276720"/>
              <a:chExt cx="1981080" cy="761760"/>
            </a:xfrm>
          </p:grpSpPr>
          <p:sp>
            <p:nvSpPr>
              <p:cNvPr id="119" name=""/>
              <p:cNvSpPr/>
              <p:nvPr/>
            </p:nvSpPr>
            <p:spPr>
              <a:xfrm>
                <a:off x="2590920" y="3352680"/>
                <a:ext cx="1600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66ffff"/>
                    </a:solidFill>
                    <a:latin typeface="Arial"/>
                  </a:rPr>
                  <a:t>Diseño de Solucion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362320" y="3276720"/>
                <a:ext cx="1981080" cy="761760"/>
              </a:xfrm>
              <a:prstGeom prst="ellipse">
                <a:avLst/>
              </a:prstGeom>
              <a:noFill/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2514600" y="1905120"/>
              <a:ext cx="1752480" cy="761760"/>
              <a:chOff x="2514600" y="1905120"/>
              <a:chExt cx="1752480" cy="761760"/>
            </a:xfrm>
          </p:grpSpPr>
          <p:sp>
            <p:nvSpPr>
              <p:cNvPr id="122" name=""/>
              <p:cNvSpPr/>
              <p:nvPr/>
            </p:nvSpPr>
            <p:spPr>
              <a:xfrm>
                <a:off x="2590920" y="1981080"/>
                <a:ext cx="1600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333399"/>
                    </a:solidFill>
                    <a:latin typeface="Arial"/>
                  </a:rPr>
                  <a:t>Generar Confianz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14600" y="1905120"/>
                <a:ext cx="1752480" cy="76176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2438280" y="380880"/>
              <a:ext cx="1981080" cy="761760"/>
              <a:chOff x="2438280" y="380880"/>
              <a:chExt cx="1981080" cy="761760"/>
            </a:xfrm>
          </p:grpSpPr>
          <p:sp>
            <p:nvSpPr>
              <p:cNvPr id="125" name=""/>
              <p:cNvSpPr/>
              <p:nvPr/>
            </p:nvSpPr>
            <p:spPr>
              <a:xfrm>
                <a:off x="2666880" y="456840"/>
                <a:ext cx="1600200" cy="642600"/>
              </a:xfrm>
              <a:prstGeom prst="rect">
                <a:avLst/>
              </a:prstGeom>
              <a:noFill/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3333ff"/>
                    </a:solidFill>
                    <a:latin typeface="Arial"/>
                  </a:rPr>
                  <a:t>Maximizar Valo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438280" y="380880"/>
                <a:ext cx="1981080" cy="76176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 flipV="1">
              <a:off x="3352680" y="4038120"/>
              <a:ext cx="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3352680" y="1142640"/>
              <a:ext cx="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3352680" y="2666880"/>
              <a:ext cx="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 flipV="1">
              <a:off x="4343040" y="4800600"/>
              <a:ext cx="30492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1828800" y="4876920"/>
              <a:ext cx="53352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962520" y="4038480"/>
              <a:ext cx="11430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 flipV="1">
              <a:off x="1676160" y="4038480"/>
              <a:ext cx="9903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1371600" y="2514240"/>
              <a:ext cx="129528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 flipV="1">
              <a:off x="4114440" y="2590920"/>
              <a:ext cx="121932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595800" y="228600"/>
            <a:ext cx="12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A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708360" y="549360"/>
            <a:ext cx="172728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d2a5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aximizar valor pa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os accionis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03280" y="2058840"/>
            <a:ext cx="2160720" cy="506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d2a5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Incrementar particip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e merc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2778120"/>
            <a:ext cx="172728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d2a5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ener alianz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fectiv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710160" y="2562120"/>
            <a:ext cx="2085840" cy="435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d2a5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ograr altos nive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e satisfacción del cli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84720" y="3859200"/>
            <a:ext cx="172728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d2a5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Reducir cos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e oper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708360" y="3857760"/>
            <a:ext cx="172728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d2a5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Romper sil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funcion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26920" y="3857760"/>
            <a:ext cx="2232360" cy="504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d2a5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esarrollar mercadotec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fecti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57800" y="5083200"/>
            <a:ext cx="1870200" cy="506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rear un ambiente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rabajo posi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708360" y="5083200"/>
            <a:ext cx="187164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mplear sistemas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vanguar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44720" y="5083200"/>
            <a:ext cx="187164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traer y rete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alento hum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>
            <a:stCxn id="145" idx="0"/>
            <a:endCxn id="142" idx="2"/>
          </p:cNvCxnSpPr>
          <p:nvPr/>
        </p:nvCxnSpPr>
        <p:spPr>
          <a:xfrm flipH="1" flipV="1">
            <a:off x="4571280" y="4362120"/>
            <a:ext cx="73800" cy="721440"/>
          </a:xfrm>
          <a:prstGeom prst="straightConnector1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5" idx="0"/>
            <a:endCxn id="141" idx="2"/>
          </p:cNvCxnSpPr>
          <p:nvPr/>
        </p:nvCxnSpPr>
        <p:spPr>
          <a:xfrm flipH="1" flipV="1" rot="5400000">
            <a:off x="5436720" y="3571560"/>
            <a:ext cx="720000" cy="2304000"/>
          </a:xfrm>
          <a:prstGeom prst="curvedConnector5">
            <a:avLst>
              <a:gd name="adj1" fmla="val 49874"/>
              <a:gd name="adj2" fmla="val 49992"/>
              <a:gd name="adj3" fmla="val 49874"/>
            </a:avLst>
          </a:prstGeom>
          <a:ln w="93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4" idx="2"/>
            <a:endCxn id="146" idx="2"/>
          </p:cNvCxnSpPr>
          <p:nvPr/>
        </p:nvCxnSpPr>
        <p:spPr>
          <a:xfrm flipV="1" rot="16200000">
            <a:off x="4535640" y="3031920"/>
            <a:ext cx="2520" cy="5112720"/>
          </a:xfrm>
          <a:prstGeom prst="curvedConnector5">
            <a:avLst>
              <a:gd name="adj1" fmla="val -14300000"/>
              <a:gd name="adj2" fmla="val 49996"/>
              <a:gd name="adj3" fmla="val -14300000"/>
            </a:avLst>
          </a:prstGeom>
          <a:ln w="93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45" idx="1"/>
            <a:endCxn id="140" idx="1"/>
          </p:cNvCxnSpPr>
          <p:nvPr/>
        </p:nvCxnSpPr>
        <p:spPr>
          <a:xfrm flipH="1" rot="10800000">
            <a:off x="3707280" y="2778840"/>
            <a:ext cx="2520" cy="2556720"/>
          </a:xfrm>
          <a:prstGeom prst="curvedConnector5">
            <a:avLst>
              <a:gd name="adj1" fmla="val -14400000"/>
              <a:gd name="adj2" fmla="val 49992"/>
              <a:gd name="adj3" fmla="val -14400000"/>
            </a:avLst>
          </a:prstGeom>
          <a:ln w="93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43" idx="1"/>
          </p:cNvCxnSpPr>
          <p:nvPr/>
        </p:nvCxnSpPr>
        <p:spPr>
          <a:xfrm rot="10800000">
            <a:off x="538920" y="3353760"/>
            <a:ext cx="288000" cy="756360"/>
          </a:xfrm>
          <a:prstGeom prst="curvedConnector2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endCxn id="138" idx="2"/>
          </p:cNvCxnSpPr>
          <p:nvPr/>
        </p:nvCxnSpPr>
        <p:spPr>
          <a:xfrm flipH="1" flipV="1" rot="5400000">
            <a:off x="1692720" y="2994120"/>
            <a:ext cx="1221480" cy="362520"/>
          </a:xfrm>
          <a:prstGeom prst="curvedConnector5">
            <a:avLst>
              <a:gd name="adj1" fmla="val 14033"/>
              <a:gd name="adj2" fmla="val 50000"/>
              <a:gd name="adj3" fmla="val 14033"/>
            </a:avLst>
          </a:prstGeom>
          <a:ln w="93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endCxn id="138" idx="3"/>
          </p:cNvCxnSpPr>
          <p:nvPr/>
        </p:nvCxnSpPr>
        <p:spPr>
          <a:xfrm flipV="1" rot="16200000">
            <a:off x="3366360" y="2509200"/>
            <a:ext cx="538920" cy="144720"/>
          </a:xfrm>
          <a:prstGeom prst="curvedConnector2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154" name=""/>
          <p:cNvCxnSpPr>
            <a:stCxn id="138" idx="0"/>
          </p:cNvCxnSpPr>
          <p:nvPr/>
        </p:nvCxnSpPr>
        <p:spPr>
          <a:xfrm flipH="1" flipV="1" rot="5400000">
            <a:off x="3852000" y="258840"/>
            <a:ext cx="432360" cy="3168000"/>
          </a:xfrm>
          <a:prstGeom prst="curvedConnector2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155" name=""/>
          <p:cNvCxnSpPr>
            <a:stCxn id="138" idx="0"/>
            <a:endCxn id="137" idx="1"/>
          </p:cNvCxnSpPr>
          <p:nvPr/>
        </p:nvCxnSpPr>
        <p:spPr>
          <a:xfrm flipH="1" flipV="1" rot="5400000">
            <a:off x="2467440" y="817920"/>
            <a:ext cx="1257840" cy="1224720"/>
          </a:xfrm>
          <a:prstGeom prst="curvedConnector2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41" idx="0"/>
            <a:endCxn id="157" idx="2"/>
          </p:cNvCxnSpPr>
          <p:nvPr/>
        </p:nvCxnSpPr>
        <p:spPr>
          <a:xfrm flipH="1" flipV="1" rot="5400000">
            <a:off x="6679080" y="3265920"/>
            <a:ext cx="862560" cy="324720"/>
          </a:xfrm>
          <a:prstGeom prst="curvedConnector5">
            <a:avLst>
              <a:gd name="adj1" fmla="val 49895"/>
              <a:gd name="adj2" fmla="val 49944"/>
              <a:gd name="adj3" fmla="val 49895"/>
            </a:avLst>
          </a:prstGeom>
          <a:ln w="9360">
            <a:solidFill>
              <a:srgbClr val="33cc33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5867280" y="1197000"/>
            <a:ext cx="172728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d2a5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Incremen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Ingre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300720" y="2492280"/>
            <a:ext cx="1943280" cy="50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d2a5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omover alto valor e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Relación con el prec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40" idx="0"/>
            <a:endCxn id="158" idx="1"/>
          </p:cNvCxnSpPr>
          <p:nvPr/>
        </p:nvCxnSpPr>
        <p:spPr>
          <a:xfrm flipH="1" flipV="1" rot="5400000">
            <a:off x="4753440" y="1447920"/>
            <a:ext cx="1113120" cy="1114920"/>
          </a:xfrm>
          <a:prstGeom prst="curvedConnector2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1"/>
            <a:endCxn id="140" idx="3"/>
          </p:cNvCxnSpPr>
          <p:nvPr/>
        </p:nvCxnSpPr>
        <p:spPr>
          <a:xfrm flipV="1" rot="10800000">
            <a:off x="5795280" y="2743560"/>
            <a:ext cx="505440" cy="35640"/>
          </a:xfrm>
          <a:prstGeom prst="curvedConnector5">
            <a:avLst>
              <a:gd name="adj1" fmla="val 49964"/>
              <a:gd name="adj2" fmla="val 50000"/>
              <a:gd name="adj3" fmla="val 49964"/>
            </a:avLst>
          </a:prstGeom>
          <a:ln w="93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39" idx="0"/>
            <a:endCxn id="138" idx="1"/>
          </p:cNvCxnSpPr>
          <p:nvPr/>
        </p:nvCxnSpPr>
        <p:spPr>
          <a:xfrm flipH="1" flipV="1" rot="5400000">
            <a:off x="1134720" y="2509560"/>
            <a:ext cx="465840" cy="72000"/>
          </a:xfrm>
          <a:prstGeom prst="curvedConnector2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 flipV="1">
            <a:off x="7740720" y="2997360"/>
            <a:ext cx="71280" cy="79200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 flipV="1">
            <a:off x="7380360" y="1700280"/>
            <a:ext cx="71280" cy="79200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1908000" y="4365360"/>
            <a:ext cx="0" cy="64764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4643280" y="2997360"/>
            <a:ext cx="0" cy="79200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5800" y="228600"/>
            <a:ext cx="12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A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69080" y="62064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inanci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958160" y="206064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933680" y="386064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oc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666200" y="5734080"/>
            <a:ext cx="14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prendiz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0" y="333360"/>
          <a:ext cx="9143640" cy="6469200"/>
        </p:xfrm>
        <a:graphic>
          <a:graphicData uri="http://schemas.openxmlformats.org/drawingml/2006/table">
            <a:tbl>
              <a:tblPr/>
              <a:tblGrid>
                <a:gridCol w="1472400"/>
                <a:gridCol w="1657800"/>
                <a:gridCol w="1502280"/>
                <a:gridCol w="1800720"/>
                <a:gridCol w="1469520"/>
                <a:gridCol w="12409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>
                      <a:noFill/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bjetivos estratégi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>
                      <a:noFill/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icado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>
                      <a:noFill/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>
                      <a:noFill/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pons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>
                      <a:noFill/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iciativ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133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NANZ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imizar el valor de las accion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mentar participación de mercad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mentar ingres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de participación de mercad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gen de operacion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tro del top 50 del S&amp;P 500 cada añ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% más cada añ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% en tres añ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or de Finanz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or de Market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or Gener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ementar E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183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IE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canzar altos niveles de satisfacción del clien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ociaciones efectivas con distribuido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eer alto valor de relación con el prec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isfacción del clien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tención de canales de distribució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pción de mercad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úmero uno en calificación de client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ir reclamos de los clientes un 25% cada añ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úmero uno en calificación de client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or de Market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rente de Desarrollo de Negoci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or de Market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efinir estrategias de cana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150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rativa Excelenci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arrollar mercadotecnia efecti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lear sistemas de vanguard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ir costo de operació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nocimiento de campañas publicitari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úmero de áreas soportadas por sistem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stos operativ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mejor en 5 añ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ido en 50% en 3 año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ido en 60% en un añ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or de Mercadotecn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or de 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or de Operacion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ementar un ER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iseñar operacion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133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ecimiento y Aprendiza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buClr>
                          <a:srgbClr val="33cc33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raer y retener personal calificad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33cc33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mper silos funciona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33cc33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recer un ambiente de trabajo atractiv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buClr>
                          <a:srgbClr val="33cc33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a de retenció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33cc33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. de equipos multifunciona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33cc33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Índice de satisfacción de emplead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buClr>
                          <a:srgbClr val="33cc33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33cc33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% de todos los equip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33cc33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 en dos añ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buClr>
                          <a:srgbClr val="33cc33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or de R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33cc33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or de R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33cc33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33cc33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or Gener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buClr>
                          <a:srgbClr val="33cc33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arrollar nuevas estrategias de R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"/>
          <p:cNvSpPr/>
          <p:nvPr/>
        </p:nvSpPr>
        <p:spPr>
          <a:xfrm>
            <a:off x="468360" y="836640"/>
            <a:ext cx="93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ANZ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68360" y="2104920"/>
            <a:ext cx="93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EN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8360" y="4076640"/>
            <a:ext cx="93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4000" y="5661000"/>
            <a:ext cx="1223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RENDIZAJ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 DESARROL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981080" y="376200"/>
            <a:ext cx="93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348000" y="376200"/>
            <a:ext cx="11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DICADO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932360" y="404640"/>
            <a:ext cx="93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T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373800" y="404640"/>
            <a:ext cx="129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SPONSAB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956720" y="404640"/>
            <a:ext cx="93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ICIATIV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0"/>
            <a:ext cx="28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ABLERO DE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"/>
          <p:cNvGraphicFramePr/>
          <p:nvPr/>
        </p:nvGraphicFramePr>
        <p:xfrm>
          <a:off x="468360" y="903240"/>
          <a:ext cx="2951280" cy="4969080"/>
        </p:xfrm>
        <a:graphic>
          <a:graphicData uri="http://schemas.openxmlformats.org/drawingml/2006/table">
            <a:tbl>
              <a:tblPr/>
              <a:tblGrid>
                <a:gridCol w="2951280"/>
              </a:tblGrid>
              <a:tr h="170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CI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101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OS INTERN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123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ENDIZAJE Y DESARROL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3635280" y="903240"/>
          <a:ext cx="5040360" cy="4946760"/>
        </p:xfrm>
        <a:graphic>
          <a:graphicData uri="http://schemas.openxmlformats.org/drawingml/2006/table">
            <a:tbl>
              <a:tblPr/>
              <a:tblGrid>
                <a:gridCol w="1260720"/>
                <a:gridCol w="1260360"/>
                <a:gridCol w="1258920"/>
                <a:gridCol w="12603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tiv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do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ciativ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cimiento de Merc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a contribu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cimiento de ven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cimiento de marg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% crecimiento de marc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5 pun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jecución de plan de crecimiento de ven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132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or agreg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delización del cl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isfacción del cl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cuencia y permanencia de comp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e de satisfacción 80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a mensual  continu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iseño de produc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a de administración de clie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117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idad e innov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rega oportu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es de cal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adísticas de entreg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% de desperdici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rega 12 horas máxi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evo sistema de cal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iseño de proces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114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arrollo de habilida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tud de servic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eciación del desempeñ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isfacción del cl9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ínimo 80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e de satisfacción 80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a desarrollo de habilida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uesta de satisfac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"/>
          <p:cNvSpPr/>
          <p:nvPr/>
        </p:nvSpPr>
        <p:spPr>
          <a:xfrm>
            <a:off x="1187280" y="1273320"/>
            <a:ext cx="1440000" cy="276480"/>
          </a:xfrm>
          <a:prstGeom prst="rect">
            <a:avLst/>
          </a:prstGeom>
          <a:noFill/>
          <a:ln w="9360">
            <a:solidFill>
              <a:srgbClr val="d2a5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RENTABIL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1280" y="1949400"/>
            <a:ext cx="1296720" cy="459000"/>
          </a:xfrm>
          <a:prstGeom prst="rect">
            <a:avLst/>
          </a:prstGeom>
          <a:noFill/>
          <a:ln w="9360">
            <a:solidFill>
              <a:srgbClr val="d2a5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recimiento de merc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050920" y="1949400"/>
            <a:ext cx="1297080" cy="459000"/>
          </a:xfrm>
          <a:prstGeom prst="rect">
            <a:avLst/>
          </a:prstGeom>
          <a:noFill/>
          <a:ln w="9360">
            <a:solidFill>
              <a:srgbClr val="d2a5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lto Mg. contribu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1476360" y="16239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2340000" y="16239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11280" y="2992320"/>
            <a:ext cx="1152360" cy="459000"/>
          </a:xfrm>
          <a:prstGeom prst="rect">
            <a:avLst/>
          </a:prstGeom>
          <a:noFill/>
          <a:ln w="9360">
            <a:solidFill>
              <a:srgbClr val="d2a5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Valor agreg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050920" y="2992320"/>
            <a:ext cx="1297080" cy="459000"/>
          </a:xfrm>
          <a:prstGeom prst="rect">
            <a:avLst/>
          </a:prstGeom>
          <a:noFill/>
          <a:ln w="9360">
            <a:solidFill>
              <a:srgbClr val="d2a5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idelización del cli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3640" y="32083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1476360" y="24163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2268360" y="24163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11280" y="4000680"/>
            <a:ext cx="1152360" cy="459000"/>
          </a:xfrm>
          <a:prstGeom prst="rect">
            <a:avLst/>
          </a:prstGeom>
          <a:noFill/>
          <a:ln w="9360">
            <a:solidFill>
              <a:srgbClr val="d2a5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alidad e innov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124000" y="4000680"/>
            <a:ext cx="1152720" cy="459000"/>
          </a:xfrm>
          <a:prstGeom prst="rect">
            <a:avLst/>
          </a:prstGeom>
          <a:noFill/>
          <a:ln w="9360">
            <a:solidFill>
              <a:srgbClr val="d2a5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ntrega oportu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763640" y="42163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908000" y="320832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11280" y="5229360"/>
            <a:ext cx="1152360" cy="45900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Desarrollo de habilid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124000" y="5229360"/>
            <a:ext cx="1152720" cy="45900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ctitud de servi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763640" y="55119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1908000" y="421596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26920" y="476280"/>
            <a:ext cx="223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A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716360" y="404640"/>
            <a:ext cx="288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ABLERO DE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9T01:57:48Z</dcterms:created>
  <dc:creator>Ivan Alvarez</dc:creator>
  <dc:description/>
  <dc:language>en-US</dc:language>
  <cp:lastModifiedBy>IALVAREZ</cp:lastModifiedBy>
  <dcterms:modified xsi:type="dcterms:W3CDTF">2007-11-16T14:06:37Z</dcterms:modified>
  <cp:revision>21</cp:revision>
  <dc:subject/>
  <dc:title>Diapositiva 1</dc:title>
</cp:coreProperties>
</file>