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BCC-6AE5-4533-B616-A18F7102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4B1-CF6C-4A38-9071-2274C0D8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BCC-2D2B-43D8-8380-5F678D4B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097-68CF-4C20-9598-C0E1E9B5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91B-301A-4584-8190-F23EA1E9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CE1-9667-4098-A407-4268E125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DA3-F371-4ADE-936C-8B2E86B1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6DD-1876-41C9-AA37-AB88F712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039-AE1B-4AA7-B09F-4D34C790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6B5-8442-4B20-8DDE-D57F70D4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77E-D063-41A4-89F8-41BF780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2AE-D68C-4C97-AE21-9B5E380C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B641-8C2F-4290-9AE8-FEE4654B4F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mala ejecución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ir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 Valdes</cp:lastModifiedBy>
  <dcterms:modified xsi:type="dcterms:W3CDTF">2008-11-14T00:23:57Z</dcterms:modified>
  <cp:revision>19</cp:revision>
  <dc:subject/>
  <dc:title>Diapositiva 1</dc:title>
</cp:coreProperties>
</file>