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E76-1A23-4FF4-AD4A-173802DD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C67-A616-4903-9F53-113D755E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E2B-FA45-4E20-BBD7-180B4B50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0BC-55B1-49FA-8DB9-4E7EAE73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6F5-AC02-4128-A459-D17F41A5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170-1D54-4424-8E49-95AD7F39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500-69E5-4114-94C1-5E843E6B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FEB-5A42-4FB5-B916-68CE574B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C78-B3FB-4936-8EF2-AF219EF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798-3EF3-497F-AA5E-F47FB7D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F45-164F-42DF-823C-D205FDA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DD9-AE1A-4292-AE94-E5C62A8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4EA8-18EC-4460-B0CC-0DDCA6F0AB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mala ejecución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ir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 Valdes</cp:lastModifiedBy>
  <dcterms:modified xsi:type="dcterms:W3CDTF">2008-11-14T00:23:57Z</dcterms:modified>
  <cp:revision>19</cp:revision>
  <dc:subject/>
  <dc:title>Diapositiva 1</dc:title>
</cp:coreProperties>
</file>