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3A9-D39E-4301-8B69-20E7C5FE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A5E-3516-43B1-9423-5353B834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CBC-8AD4-4D9C-BB94-60CBAE3A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1BB-71EF-4BE1-BF36-80A31815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779-040A-46C7-9CF5-6B59543E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2D5-F32E-4D1D-9D9C-E91814EA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1AA-248A-4D55-934F-268E860A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C36-295A-4560-AC59-A7CF78FA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23C-31B5-45A0-9F9D-3282E3E3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302-8A49-49CC-850C-438511B6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79C-7C19-43B9-9F44-4317B9F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2EB-89D9-42AA-9304-0D5765F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9DAC-1223-4C82-BB68-4E52289747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mala ejecución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ir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 Valdes</cp:lastModifiedBy>
  <dcterms:modified xsi:type="dcterms:W3CDTF">2008-11-14T00:23:57Z</dcterms:modified>
  <cp:revision>19</cp:revision>
  <dc:subject/>
  <dc:title>Diapositiva 1</dc:title>
</cp:coreProperties>
</file>